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98A-6E56-464C-8EC4-74566516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834-7AD2-49E7-BB7B-4B5958F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4EA3-9140-46C3-BCEE-D0B92F3B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F4993-271F-4943-901D-0CC59F74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A963-256C-4AD9-86C2-7C818AA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83C5C-DD2E-4396-ADCA-C2AD6BB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DEEF-E16C-4AC6-86DF-24BB56B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ABF11-0733-4D5A-A24D-AFC718E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CD566-4104-452B-A416-579EFC0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7307F-8F7E-4ADF-BE0C-5BAB096C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A7FAF-1F30-4CAF-8782-568426ED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0409-2D8D-40E3-BDBE-940B6E70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574-77C0-45DE-9CB8-C0C560A2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A9C8C-470F-4288-BB5B-DF0FAD31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F33DA-1A3E-4241-B439-6F5ED469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74B00-4D79-48BE-8F32-60A6B3B9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4CBB8-5370-4D91-A269-BD941AA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F655-53D9-43D1-AEE0-2B3E4FF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D7BA1-D437-49B6-9A46-00AFA96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2123E-205B-4F8A-B22F-BBA89EC2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DDB7C-7628-44D8-A66C-DE1F21F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82F13-BAD0-4260-BEAE-ACA5A955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49546-4F3F-4C6B-AE53-00BC9E8B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884-F624-42BF-B819-E1ABF06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FD086-3453-4097-985F-FA8103FB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7D4B-B00E-4FE2-8F1C-CDFC53ED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7EDE8-FCEF-431A-9CB1-3D85254A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5685C-3228-4620-8638-F162C08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11A6-F0AB-475D-8EFB-1587440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CACFF-3D51-4BC5-A8A4-FE88733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F1FC-28AF-404A-A41F-86280E8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9E649-E548-421B-96E5-8BBF31D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3FB91-8E68-4016-B9FD-CE7C918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C50A-AF32-463F-85B9-B420C15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408-4B41-4087-9248-EE37ED2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DAF23-C586-40C9-B397-0AD28C2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04084-9955-42AE-B701-BB6986D5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BD9C-90A3-4AEC-8D37-C4B4D1A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1A1D-B86C-4925-B069-69D1FFF3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91127-CD5D-4F2D-AACF-F9BF0001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6C611-F139-4CB2-871E-2BA1DF2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76F1-39AD-4E9C-A1BF-65123AC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A801C-A12A-41E2-AD11-2B0803C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CB492-66EB-49A4-AE31-B22AE808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42B4F-5C5C-4B56-AA3C-10E7E11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5C4-2025-4795-B6D4-2E9817D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A48C5-BE6C-4A75-BA9F-DA4BE754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D1E94-76C5-4CC2-A258-45AC746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F1ADE-4AE5-4BA2-A212-24054DD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E4296-DA19-4E19-98CA-B62E4C11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8DEA5-8B23-4289-BF94-9EBDB57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61413-D3D6-44A8-9B27-0ED78024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016B9-CAA9-4F96-9559-090EDD0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554DE-F7CD-47A0-9143-5AB750D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CD0B4-854A-424F-8B48-45ADD4B2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5FDE1-60F8-4982-8224-F53C403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51E6-ED28-459E-B8CC-1140A940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54EA8-FAA8-4865-B5BB-0D6A98C7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EBE60-C1B8-4A72-84EF-752A582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6B148-8DD2-4306-9B30-856FD8A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6B661-303E-4EC9-BFE8-24F3CBD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452AF-D37A-4CA1-A6E9-03CCF9CA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6790C-D9B0-4D87-A876-6ACFE430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AAE3D-8D44-432D-96D5-13D8DF8A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8D795-64F0-4E62-B2D5-0D28442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145E6-259E-44B3-A117-12AE938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74C68-CFD6-4348-B26E-5A99A8F8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27E7-613E-49CE-AA0B-4E6252A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3D1D4-794A-41B4-8F5F-B5987CB8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46FE6-EACE-43F1-BCFB-DBE03A29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3A880-D60F-4833-A92B-A18212B9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9A698-37D8-4DDD-B825-0504B64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B59F8-254B-45F3-96C0-682F368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9B8F1-E7E9-404B-8631-8C20FA0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19786-0EA3-43E6-A79A-AD03FAA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49537-85A1-4E2B-B8B9-D05B83E7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8EE7D-ADDB-4E6E-A145-B697F256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00C5-C80F-4A92-9549-F2E3DD6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3A19-3FFC-4D82-89A9-10653325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C7A8-5AA9-4EE7-B118-C1648F7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830-41D8-465E-882B-04F86304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C322-CEDD-4ABC-86F4-B12612A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258D-74F4-4034-98B6-BC1AFD86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8469-2B02-4401-AE92-8ECA9C7D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DE92-2F53-4DB7-BF65-A989148A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83E-087E-45F0-9669-372E899E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9FEB-C240-46DB-82CD-346216CA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6FE3-4504-40E6-9F1A-E5D03C8F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63EA-CAE2-4ABB-8604-4B84F983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9315-2ECA-4E8A-B588-1033F38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D691-2304-4E46-AE5C-F56BE8E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F50-C7CE-45B4-A705-FA78CAD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B7A9-1756-4188-B361-DFA987C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CE43-C88D-42FE-B5E4-1A0286F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9031-AB12-40E3-A83B-2D28CC9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8B3F-492A-43A4-B2F9-7BAD3CD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EEF3-8B50-4966-8690-9F560384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D05F-B7CC-472F-92B6-40CE15B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D02D-317A-4E23-A634-DA92BCF9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3709E-B026-4650-A98B-E9381DB7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E103-E5FB-4691-B502-D4BDD51A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09B01-CC4D-4FD5-9854-FF4C602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9AD-C3B9-4BF0-B657-90ECCC1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F02F-52DD-424D-A63F-99CF994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62F5-B754-4A4B-B47B-653308FA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066D-8F09-4B74-B53E-E881D8E7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44C6-EEC2-4C89-BDA0-9F906AB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7BD7-7385-4C0A-B9C8-516D129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8F3F7-1C25-4B94-B7A7-364A6CAA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7915-D32D-4E14-9687-80B17CB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0F28-850B-4539-9050-D186FEFA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825B-A20F-4430-9FC2-BE1820F5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2E097-234E-48ED-9B55-8FD0CAC2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DEE-779A-4B04-8883-29C31DC6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06DD-4F36-4B12-84D2-E4512E7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6092-47A7-44B9-9EA4-A44B1119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8900-BEF0-4251-BAFA-E42C2E7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83594-663F-463C-8E35-FD5D45CC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7FCA-1278-466C-AD7F-9DF3E363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BBE3-747C-42D5-802A-338B1C8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AE107-0E95-4923-BB79-B75A97D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F7F3-5896-4A88-9E02-9D7E1B7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6A72-B21E-4D1E-9D96-F85FE3B3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4352-32F2-489E-8760-CB10A718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D63-8657-41ED-BD97-FC4487C0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64277-1E5E-403F-A2D9-9251D7CA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FC3C-FB05-40A1-A534-D4040743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24C8-6035-4948-90C4-FC4A5768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A8C6-8401-444B-8747-B4489ECB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EC8B4-31BA-49B2-B61F-1190C75E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F3D7-AF23-4C50-A3A2-EEBBDBD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022F-0D82-4651-B0DC-34973E00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46A64-B212-49B2-98BB-7585A874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C116-7DBB-42B1-9E74-E17FCF4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7105-751E-486D-B076-E4D0459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922-FBA4-4C03-806F-8A271270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8359B-ABED-417A-8C4B-1D833A3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01EE8-88F9-46E6-A3C2-1D2A2BB7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698D4-D14E-49AB-BDB2-0D981DD7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689C-8E2A-4932-8238-CF683B76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849A-26C9-458B-BFEB-A2EA4B5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73338-1610-4D0A-A4FC-06FA4CCF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0B82-42DC-48E0-8AB4-532C757A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57AC-474D-40CE-BC27-6C8CC02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BD736-55BA-405A-AC7B-99864AC8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79D2C-C50F-42D9-B4FE-56F1FE8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8F1-775C-468E-8705-8613992D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4693-0D24-4B67-B045-E4F64D2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ADD4-4E78-4AA2-BD99-13AD26E8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0E1B5-2026-4C26-B17F-356E6EF8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4DD80-6AAA-4B56-9A75-36BDFE95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0347A-A803-4BDC-93C7-7ADD61F6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82A6-598B-4997-9D8B-4EAB35DF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22DA5-EAC5-4C66-AA79-246DB885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32B97-FF84-42EF-91C0-055D1736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F0AB4-5D6B-4C7B-95FB-F6408E40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6BBC1-50D1-4635-BAA3-ADC18201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100-4D72-4DD4-82BF-334760B9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61960" y="533160"/>
            <a:ext cx="802008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C0C80-4F24-4F14-8E02-EB96136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E7BBB-69E6-41F4-BB11-EE2FB16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F340-A177-4D92-88F2-C4C992AE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C5A26-85A6-431D-A27B-C7B7372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61960" y="3864600"/>
            <a:ext cx="8300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EF48-E9BC-458B-81D5-2079B434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15720" y="147636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196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15720" y="3864600"/>
            <a:ext cx="4050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41AE4-7811-4C46-867F-D11D6F11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6852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75440" y="147636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6196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6852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75440" y="3864600"/>
            <a:ext cx="267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605E-FCAF-49C1-AC34-7F33BF5D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7244C-2344-48C2-8140-1DFB754B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51895-EC8B-45C1-BF13-B54DF711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8D83-2BBB-418B-9C43-6CE62FE5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과학(일러)1-3"/>
          <p:cNvPicPr/>
          <p:nvPr/>
        </p:nvPicPr>
        <p:blipFill>
          <a:blip r:embed="rId2"/>
          <a:stretch/>
        </p:blipFill>
        <p:spPr>
          <a:xfrm>
            <a:off x="0" y="0"/>
            <a:ext cx="91533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c626"/>
                </a:solidFill>
                <a:latin typeface="-윤명조160"/>
              </a:rPr>
              <a:t>Click to edit the title text format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62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-윤명조140"/>
                <a:ea typeface="-윤명조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27A7-2AA9-4F46-8FF1-7B88D7D28DA9}" type="slidenum">
              <a:rPr b="1" lang="en-US" sz="1400" spc="-1" strike="noStrike">
                <a:solidFill>
                  <a:srgbClr val="000000"/>
                </a:solidFill>
                <a:latin typeface="-윤명조140"/>
                <a:ea typeface="-윤명조140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9A20-F1CF-4C52-A2EC-3041C1D2C6D0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1B4E-DDD4-4283-8503-1AF38C3BD3CD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6170-94A6-4CA7-B287-DC733BECAD38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66F-990B-4B6A-9D0C-CB76D9DC119C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55F-5883-482B-8BA4-B421FC7E311B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026E-5F2D-4246-9040-AC824881C4D8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C2E-E3BE-4E19-A5A9-2DC2CC23825C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622-CF7F-473A-A8D3-18CC15572E82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714-D83F-40D3-8CB4-EB05CAA9EB98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E8DA-62D3-4DA4-9FCC-FD16EBA2F50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D8E-E3EF-4261-A7E6-6E85242F984D}" type="datetime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C296-F65E-445E-821A-E2EA9F7C8B4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과학(일러)1"/>
          <p:cNvPicPr/>
          <p:nvPr/>
        </p:nvPicPr>
        <p:blipFill>
          <a:blip r:embed="rId2"/>
          <a:stretch/>
        </p:blipFill>
        <p:spPr>
          <a:xfrm>
            <a:off x="0" y="0"/>
            <a:ext cx="9153360" cy="6873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533160"/>
            <a:ext cx="8020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c626"/>
                </a:solidFill>
                <a:latin typeface="-윤명조160"/>
              </a:rPr>
              <a:t>Click to edit the title text format</a:t>
            </a:r>
            <a:endParaRPr b="0" lang="en-US" sz="36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61960" y="1476360"/>
            <a:ext cx="8300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명조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-윤명조140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-윤명조140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70308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413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707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-윤명조140"/>
                <a:ea typeface="-윤명조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F2AE-F5EA-4383-9366-8532E9147276}" type="slidenum">
              <a:rPr b="1" lang="en-US" sz="1400" spc="-1" strike="noStrike">
                <a:solidFill>
                  <a:srgbClr val="000000"/>
                </a:solidFill>
                <a:latin typeface="-윤명조140"/>
                <a:ea typeface="-윤명조140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B80-64AE-478A-8C67-C0D88EEBC3ED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1E9-28E4-4B54-9A28-F07A2998ADBB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091-F666-458A-BC5A-3E6A3D1599DB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766-6C1E-41F2-9E33-07D97EBEA818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E28-1C0F-43BC-86DA-3F201C7815AC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AB1-5E5B-44C1-91FC-1022FE661EBB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455-DD63-4904-B0B8-2E8E1DC81980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8C9-9418-4422-9975-030A0CDE511A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3BF-A99B-46F5-9544-5762AE31610D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DD5-A0B2-43A0-A9A1-08FCE84FAC41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335-2DCD-4308-9F9F-85B06E352B93}" type="datetime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EEF7-E28E-479D-94CB-6B81BF50B234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1854360"/>
            <a:ext cx="914400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彩云"/>
                <a:ea typeface="华文彩云"/>
              </a:rPr>
              <a:t>走进化学实验室 </a:t>
            </a:r>
            <a:endParaRPr b="0" lang="en-US" sz="7200" spc="-1" strike="noStrike">
              <a:solidFill>
                <a:srgbClr val="76c626"/>
              </a:solidFill>
              <a:latin typeface="-윤명조160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2554560" y="5805360"/>
            <a:ext cx="419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精品下载网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-WWW.j9p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矩形 1"/>
          <p:cNvSpPr/>
          <p:nvPr/>
        </p:nvSpPr>
        <p:spPr>
          <a:xfrm>
            <a:off x="3264840" y="126828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第一单元    走进化学世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14" descr="往试管里送入固体粉末1"/>
          <p:cNvPicPr/>
          <p:nvPr/>
        </p:nvPicPr>
        <p:blipFill>
          <a:blip r:embed="rId2"/>
          <a:stretch/>
        </p:blipFill>
        <p:spPr>
          <a:xfrm>
            <a:off x="1692360" y="476280"/>
            <a:ext cx="4465440" cy="2638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775" name="Picture 15" descr="往试管里送入固体粉末2"/>
          <p:cNvPicPr/>
          <p:nvPr/>
        </p:nvPicPr>
        <p:blipFill>
          <a:blip r:embed="rId3"/>
          <a:stretch/>
        </p:blipFill>
        <p:spPr>
          <a:xfrm>
            <a:off x="3708360" y="3141720"/>
            <a:ext cx="4464000" cy="2663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76" name="Text Box 16"/>
          <p:cNvSpPr/>
          <p:nvPr/>
        </p:nvSpPr>
        <p:spPr>
          <a:xfrm>
            <a:off x="271800" y="549360"/>
            <a:ext cx="11552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往试管里送入固体粉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7"/>
          <p:cNvSpPr/>
          <p:nvPr/>
        </p:nvSpPr>
        <p:spPr>
          <a:xfrm>
            <a:off x="1332000" y="5899320"/>
            <a:ext cx="68580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横二送三直起，块状药品莫竖投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685800" y="24620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操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用镊子夹取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小粒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放入试管中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并将试管放在试管架上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533520" y="1224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密度较大的块状药品或金属颗粒放入容器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怎样操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                  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541440" y="3909960"/>
            <a:ext cx="81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往试管里装入固体粉末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怎样操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3801960" y="54936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思考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6298200" y="1776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横口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64280" y="445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斜底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685800" y="5157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操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用药匙取少量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碳酸钠粉末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放入试管中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并将试管放在试管架上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4495680" y="28195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11280" y="2090880"/>
            <a:ext cx="29718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倾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细口瓶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标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瓶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2593800" y="3424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要倒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1908000" y="4062240"/>
            <a:ext cx="17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要向手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1908000" y="46911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要紧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95360" y="535788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盖好，放回原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304920" y="762120"/>
            <a:ext cx="79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液体药品通常盛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何将细口瓶内的液体倒入试管内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4645080" y="692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细口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0"/>
          <p:cNvSpPr/>
          <p:nvPr/>
        </p:nvSpPr>
        <p:spPr>
          <a:xfrm>
            <a:off x="5562720" y="3862440"/>
            <a:ext cx="297180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塞倒放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试管倾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口相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签向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11"/>
          <p:cNvSpPr/>
          <p:nvPr/>
        </p:nvSpPr>
        <p:spPr>
          <a:xfrm>
            <a:off x="5181480" y="3252960"/>
            <a:ext cx="228600" cy="2438280"/>
          </a:xfrm>
          <a:custGeom>
            <a:avLst/>
            <a:gdLst>
              <a:gd name="textAreaLeft" fmla="*/ 0 w 228600"/>
              <a:gd name="textAreaRight" fmla="*/ 8244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539640" y="5867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细口瓶内的液体倒入盛有锌粒的试管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没过锌粒即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57200" y="204840"/>
            <a:ext cx="4952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液体药品的取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5562720" y="3276720"/>
            <a:ext cx="3200400" cy="23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瓶塞倒放口紧挨，标签防腐向手心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试管倾斜注药液，盖塞向外放原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990720" y="291636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细口瓶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抓握胶头滴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使用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3657600" y="3711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要倒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4557600" y="453564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要稳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3152880" y="5373720"/>
            <a:ext cx="37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盖好，放回原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1066680" y="18939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滴加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457200" y="979560"/>
            <a:ext cx="56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液体药品的取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84360" y="1916280"/>
            <a:ext cx="78436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注意：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黑体"/>
              </a:rPr>
              <a:t>胶头滴管不能倒放、乱放、平放，应放在指定位置不要伸入容器内，一般要做到在试管口正上方悬空垂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990720" y="2743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有大量气泡产生，固体粉末溶解消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380880" y="505944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锌粒表面有气泡产生，锌粒逐渐变小至消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609480" y="1568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操作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滴管吸取盐酸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加入盛有碳酸钠粉末的试管中观察现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565200" y="3886200"/>
            <a:ext cx="81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操作练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滴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向盛有锌粒的试管中滴加少量的盐酸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现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2428560" y="609480"/>
            <a:ext cx="31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如何使用胶头滴管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457200" y="2071800"/>
            <a:ext cx="845820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判断正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胶头滴管滴加液体时，为防止滴到试管外面，可将胶头滴管伸入试管内滴加液体。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                                                 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胶头滴管用过后一定要用水清洗干净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液后的胶头滴管平放在实验台上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3"/>
          <p:cNvSpPr/>
          <p:nvPr/>
        </p:nvSpPr>
        <p:spPr>
          <a:xfrm>
            <a:off x="838080" y="3586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8001000" y="4043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703440" y="692280"/>
            <a:ext cx="77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如何使用胶头滴管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取液后的滴管怎样处理</a:t>
            </a: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6"/>
          <p:cNvSpPr/>
          <p:nvPr/>
        </p:nvSpPr>
        <p:spPr>
          <a:xfrm>
            <a:off x="3534480" y="566100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思考</a:t>
            </a: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如何取用一定量的液体药品呢</a:t>
            </a: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8068320" y="480528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76720" cy="4821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819" name="Picture 5" descr="液体的量取"/>
          <p:cNvPicPr/>
          <p:nvPr/>
        </p:nvPicPr>
        <p:blipFill>
          <a:blip r:embed="rId2"/>
          <a:stretch/>
        </p:blipFill>
        <p:spPr>
          <a:xfrm>
            <a:off x="324000" y="2536920"/>
            <a:ext cx="4464000" cy="274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20" name="Text Box 6"/>
          <p:cNvSpPr/>
          <p:nvPr/>
        </p:nvSpPr>
        <p:spPr>
          <a:xfrm>
            <a:off x="422280" y="765000"/>
            <a:ext cx="4968720" cy="776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取用一定量的液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3"/>
          <p:cNvSpPr/>
          <p:nvPr/>
        </p:nvSpPr>
        <p:spPr>
          <a:xfrm>
            <a:off x="539640" y="684360"/>
            <a:ext cx="4969080" cy="776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结：取用一定量的药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468360" y="141300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体积的液体时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量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使用时，应使量筒放平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倒入液体到接近要求的刻度，再用胶头滴管逐滴滴人量筒至刻度线，读数时使视线与量筒内液体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凹液面最低处保持水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431640" y="56674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简记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仰（羊）小俯（虎）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1538280" y="40179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数偏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际所取的液体体积偏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0"/>
          <p:cNvSpPr/>
          <p:nvPr/>
        </p:nvSpPr>
        <p:spPr>
          <a:xfrm>
            <a:off x="1569960" y="4811760"/>
            <a:ext cx="69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数偏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际所取的液体体积偏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1"/>
          <p:cNvSpPr/>
          <p:nvPr/>
        </p:nvSpPr>
        <p:spPr>
          <a:xfrm>
            <a:off x="556920" y="400536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仰视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2"/>
          <p:cNvSpPr/>
          <p:nvPr/>
        </p:nvSpPr>
        <p:spPr>
          <a:xfrm>
            <a:off x="572760" y="47671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俯视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533520" y="175248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、用量筒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仰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量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m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问该生所取水的实际体积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m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3"/>
          <p:cNvSpPr/>
          <p:nvPr/>
        </p:nvSpPr>
        <p:spPr>
          <a:xfrm>
            <a:off x="6324480" y="28954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533520" y="380880"/>
            <a:ext cx="1981080" cy="990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黑体"/>
              </a:rPr>
              <a:t>练习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6951960" y="2286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395280" y="836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、化学实验室规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96720" y="1989000"/>
            <a:ext cx="849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进实验室：脚步要轻，说话低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实 验 前：预习内容，了解目的，明确步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实 验 时：检查用品，听从指挥，爱护仪器，节约药品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细心观察，准确记录，注意安全，保持整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实 验 后：回收废物，洗净仪器，摆好用品，注意环保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根据原始记录，写好实验报告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出实验室：摆好凳子，检查水电是否关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838080" y="762120"/>
            <a:ext cx="74678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某同学用量筒量取一定体积的液体，先仰视读出液体体积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，该生倾倒出部分液体后，又俯视读其体积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。则倒出液体的体积为 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大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小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毫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无法判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3513240" y="27432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324000" y="833400"/>
            <a:ext cx="345600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物质的加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4"/>
          <p:cNvSpPr/>
          <p:nvPr/>
        </p:nvSpPr>
        <p:spPr>
          <a:xfrm>
            <a:off x="179280" y="1407960"/>
            <a:ext cx="89647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热源（加热工具）：最常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酒精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时需要酒精喷灯进行高温加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酒精灯火焰分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部分，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最高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最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因此，加热时应把需加热物质放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外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部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酒精灯内的酒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不超过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4392000" y="31798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外焰、内焰、焰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75360" y="3786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外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420080" y="375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焰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2771640" y="49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容积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/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pic_31798"/>
          <p:cNvPicPr/>
          <p:nvPr/>
        </p:nvPicPr>
        <p:blipFill>
          <a:blip r:embed="rId1"/>
          <a:stretch/>
        </p:blipFill>
        <p:spPr>
          <a:xfrm>
            <a:off x="395280" y="476280"/>
            <a:ext cx="6019920" cy="25146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3"/>
          <p:cNvSpPr/>
          <p:nvPr/>
        </p:nvSpPr>
        <p:spPr>
          <a:xfrm>
            <a:off x="395280" y="476280"/>
            <a:ext cx="3673440" cy="520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酒精灯的使用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468360" y="3112920"/>
            <a:ext cx="813600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酒精灯时，要注意以下几点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绝对禁止向燃着的酒精灯里添加酒精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以免失火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绝对禁止用酒精灯引燃另一盏酒精灯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用完酒精灯后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必须用灯帽盖灭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不可用嘴去吹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、不要碰倒酒精灯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万一洒出的酒精在桌上燃烧  起来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不要惊慌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应立刻用湿抹布扑盖</a:t>
            </a:r>
            <a:r>
              <a:rPr b="1" lang="en-US" sz="2800" spc="-1" strike="noStrike">
                <a:solidFill>
                  <a:srgbClr val="6633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5" descr="pic_31799"/>
          <p:cNvPicPr/>
          <p:nvPr/>
        </p:nvPicPr>
        <p:blipFill>
          <a:blip r:embed="rId2"/>
          <a:stretch/>
        </p:blipFill>
        <p:spPr>
          <a:xfrm>
            <a:off x="6370560" y="476280"/>
            <a:ext cx="2411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pic_31800"/>
          <p:cNvPicPr/>
          <p:nvPr/>
        </p:nvPicPr>
        <p:blipFill>
          <a:blip r:embed="rId1"/>
          <a:stretch/>
        </p:blipFill>
        <p:spPr>
          <a:xfrm>
            <a:off x="468360" y="1415880"/>
            <a:ext cx="6897600" cy="205596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2268360" y="422100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试管夹夹住该试管中上部（夹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距试管口约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／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放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外焰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539640" y="663480"/>
            <a:ext cx="532764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酒精灯的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i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加热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5" descr="制氧气装置"/>
          <p:cNvPicPr/>
          <p:nvPr/>
        </p:nvPicPr>
        <p:blipFill>
          <a:blip r:embed="rId2"/>
          <a:stretch/>
        </p:blipFill>
        <p:spPr>
          <a:xfrm>
            <a:off x="463680" y="4005360"/>
            <a:ext cx="19015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4000" y="836640"/>
            <a:ext cx="842472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试管里药品加热时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先使试管均匀受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预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操作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来回移动酒精灯或移动试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然后对准药品所在部分加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时，一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试管口应略向下倾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液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，应使试管倾斜，跟桌面大约成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且试管内液体不能超过试管容积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试管口不准对着有人的地方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4"/>
          <p:cNvSpPr/>
          <p:nvPr/>
        </p:nvSpPr>
        <p:spPr>
          <a:xfrm>
            <a:off x="611280" y="1773360"/>
            <a:ext cx="61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可以直接加热的仪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5" descr=""/>
          <p:cNvPicPr/>
          <p:nvPr/>
        </p:nvPicPr>
        <p:blipFill>
          <a:blip r:embed="rId1"/>
          <a:stretch/>
        </p:blipFill>
        <p:spPr>
          <a:xfrm>
            <a:off x="1403280" y="3240000"/>
            <a:ext cx="6324840" cy="213372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1042920" y="54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7"/>
          <p:cNvSpPr/>
          <p:nvPr/>
        </p:nvSpPr>
        <p:spPr>
          <a:xfrm>
            <a:off x="2916360" y="5445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蒸发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5148360" y="537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坩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716436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燃烧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611280" y="765000"/>
            <a:ext cx="3600360" cy="776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常用实验仪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684360" y="10526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可以加热，但必须垫上石棉网的仪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5" descr=""/>
          <p:cNvPicPr/>
          <p:nvPr/>
        </p:nvPicPr>
        <p:blipFill>
          <a:blip r:embed="rId1"/>
          <a:stretch/>
        </p:blipFill>
        <p:spPr>
          <a:xfrm>
            <a:off x="1724040" y="3095640"/>
            <a:ext cx="5257800" cy="2133720"/>
          </a:xfrm>
          <a:prstGeom prst="rect">
            <a:avLst/>
          </a:prstGeom>
          <a:ln w="0">
            <a:noFill/>
          </a:ln>
        </p:spPr>
      </p:pic>
      <p:sp>
        <p:nvSpPr>
          <p:cNvPr id="863" name="Rectangle 6"/>
          <p:cNvSpPr/>
          <p:nvPr/>
        </p:nvSpPr>
        <p:spPr>
          <a:xfrm>
            <a:off x="2033280" y="537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393804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底烧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582876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底烧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1184400" y="1303200"/>
            <a:ext cx="40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能加热的仪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476360" y="515772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集气瓶可作反应的容器，量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作反应容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6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5943600" cy="192888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7"/>
          <p:cNvSpPr/>
          <p:nvPr/>
        </p:nvSpPr>
        <p:spPr>
          <a:xfrm>
            <a:off x="12412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"/>
          <p:cNvSpPr/>
          <p:nvPr/>
        </p:nvSpPr>
        <p:spPr>
          <a:xfrm>
            <a:off x="267120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气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9"/>
          <p:cNvSpPr/>
          <p:nvPr/>
        </p:nvSpPr>
        <p:spPr>
          <a:xfrm>
            <a:off x="4067280" y="42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漏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6084720" y="42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pic_31801"/>
          <p:cNvPicPr/>
          <p:nvPr/>
        </p:nvPicPr>
        <p:blipFill>
          <a:blip r:embed="rId1"/>
          <a:stretch/>
        </p:blipFill>
        <p:spPr>
          <a:xfrm>
            <a:off x="1042920" y="1773360"/>
            <a:ext cx="6031080" cy="2057400"/>
          </a:xfrm>
          <a:prstGeom prst="rect">
            <a:avLst/>
          </a:prstGeom>
          <a:ln w="0">
            <a:noFill/>
          </a:ln>
        </p:spPr>
      </p:pic>
      <p:sp>
        <p:nvSpPr>
          <p:cNvPr id="875" name="Text Box 3"/>
          <p:cNvSpPr/>
          <p:nvPr/>
        </p:nvSpPr>
        <p:spPr>
          <a:xfrm>
            <a:off x="900000" y="4437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标准：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内壁均匀附着水，水既不聚成水滴，也不成股流下时，表示仪器已洗干净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611280" y="963720"/>
            <a:ext cx="3600360" cy="776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六、试管的洗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矩形 3" descr=""/>
          <p:cNvPicPr/>
          <p:nvPr/>
        </p:nvPicPr>
        <p:blipFill>
          <a:blip r:embed="rId1"/>
          <a:stretch/>
        </p:blipFill>
        <p:spPr>
          <a:xfrm>
            <a:off x="1403280" y="1855800"/>
            <a:ext cx="83376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1116000" y="2581200"/>
            <a:ext cx="774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酒精灯失火：立即用湿布或者沙子扑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割       伤：用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％的双氧水清洗，再贴上止血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烫       伤：在烫伤处涂上烫伤膏或万花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吸入有毒气体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：立即到室外呼吸新鲜空气，并请医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处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2881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39640" y="1749600"/>
            <a:ext cx="7340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不能用手接触药品；不要把鼻孔凑到容器口去闻药品的气味；不得尝药品的味道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539640" y="4797360"/>
            <a:ext cx="813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不能放回原瓶；不要随意丢弃；更不要拿出实验室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395280" y="131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遵守实验室规则， 使用化学药品做到“三不”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395280" y="4538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验室用剩的药品做到“三不”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95280" y="639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二、化学实验注意事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611280" y="692280"/>
            <a:ext cx="63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化学实验室药品的一些图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3" descr="pic_31791"/>
          <p:cNvPicPr/>
          <p:nvPr/>
        </p:nvPicPr>
        <p:blipFill>
          <a:blip r:embed="rId1"/>
          <a:stretch/>
        </p:blipFill>
        <p:spPr>
          <a:xfrm>
            <a:off x="773280" y="1916280"/>
            <a:ext cx="75438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27"/>
          <p:cNvSpPr/>
          <p:nvPr/>
        </p:nvSpPr>
        <p:spPr>
          <a:xfrm>
            <a:off x="2906640" y="1960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163"/>
          <p:cNvPicPr/>
          <p:nvPr/>
        </p:nvPicPr>
        <p:blipFill>
          <a:blip r:embed="rId1"/>
          <a:stretch/>
        </p:blipFill>
        <p:spPr>
          <a:xfrm>
            <a:off x="457200" y="3276720"/>
            <a:ext cx="1981080" cy="15523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167"/>
          <p:cNvPicPr/>
          <p:nvPr/>
        </p:nvPicPr>
        <p:blipFill>
          <a:blip r:embed="rId2"/>
          <a:stretch/>
        </p:blipFill>
        <p:spPr>
          <a:xfrm>
            <a:off x="6095880" y="3429000"/>
            <a:ext cx="2438640" cy="17780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166"/>
          <p:cNvPicPr/>
          <p:nvPr/>
        </p:nvPicPr>
        <p:blipFill>
          <a:blip r:embed="rId3"/>
          <a:stretch/>
        </p:blipFill>
        <p:spPr>
          <a:xfrm>
            <a:off x="7010280" y="152280"/>
            <a:ext cx="2133720" cy="1744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hx050"/>
          <p:cNvPicPr/>
          <p:nvPr/>
        </p:nvPicPr>
        <p:blipFill>
          <a:blip r:embed="rId4"/>
          <a:stretch/>
        </p:blipFill>
        <p:spPr>
          <a:xfrm>
            <a:off x="6248520" y="5402160"/>
            <a:ext cx="1523880" cy="14558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165"/>
          <p:cNvPicPr/>
          <p:nvPr/>
        </p:nvPicPr>
        <p:blipFill>
          <a:blip r:embed="rId5"/>
          <a:stretch/>
        </p:blipFill>
        <p:spPr>
          <a:xfrm>
            <a:off x="4724280" y="12193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164"/>
          <p:cNvPicPr/>
          <p:nvPr/>
        </p:nvPicPr>
        <p:blipFill>
          <a:blip r:embed="rId6"/>
          <a:stretch/>
        </p:blipFill>
        <p:spPr>
          <a:xfrm>
            <a:off x="2971800" y="3200400"/>
            <a:ext cx="2743200" cy="2000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8" descr="169"/>
          <p:cNvPicPr/>
          <p:nvPr/>
        </p:nvPicPr>
        <p:blipFill>
          <a:blip r:embed="rId7"/>
          <a:stretch/>
        </p:blipFill>
        <p:spPr>
          <a:xfrm>
            <a:off x="2590920" y="109224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171"/>
          <p:cNvPicPr/>
          <p:nvPr/>
        </p:nvPicPr>
        <p:blipFill>
          <a:blip r:embed="rId8"/>
          <a:stretch/>
        </p:blipFill>
        <p:spPr>
          <a:xfrm>
            <a:off x="380880" y="107316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168"/>
          <p:cNvPicPr/>
          <p:nvPr/>
        </p:nvPicPr>
        <p:blipFill>
          <a:blip r:embed="rId9"/>
          <a:stretch/>
        </p:blipFill>
        <p:spPr>
          <a:xfrm>
            <a:off x="152280" y="5257800"/>
            <a:ext cx="2438640" cy="1479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1" descr="170"/>
          <p:cNvPicPr/>
          <p:nvPr/>
        </p:nvPicPr>
        <p:blipFill>
          <a:blip r:embed="rId10"/>
          <a:stretch/>
        </p:blipFill>
        <p:spPr>
          <a:xfrm>
            <a:off x="3352680" y="53341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仪器62"/>
          <p:cNvPicPr/>
          <p:nvPr/>
        </p:nvPicPr>
        <p:blipFill>
          <a:blip r:embed="rId11"/>
          <a:stretch/>
        </p:blipFill>
        <p:spPr>
          <a:xfrm>
            <a:off x="7010280" y="2133720"/>
            <a:ext cx="1943280" cy="11998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3"/>
          <p:cNvSpPr/>
          <p:nvPr/>
        </p:nvSpPr>
        <p:spPr>
          <a:xfrm>
            <a:off x="304920" y="5126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Hi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，以后会常见面，请记住我好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2590920"/>
            <a:ext cx="1524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试管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2590920" y="2590920"/>
            <a:ext cx="2057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酒精灯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5334120" y="2514600"/>
            <a:ext cx="137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烧杯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762120" y="4724280"/>
            <a:ext cx="160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集气瓶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00600" y="4038480"/>
            <a:ext cx="137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量筒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6095880" y="3505320"/>
            <a:ext cx="60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试剂瓶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533520" y="6262560"/>
            <a:ext cx="1676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试管夹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3657600" y="6262560"/>
            <a:ext cx="1752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玻璃棒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7391520" y="5943600"/>
            <a:ext cx="144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石棉网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7467480" y="2590920"/>
            <a:ext cx="1371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水槽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7086600" y="227160"/>
            <a:ext cx="685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华文行楷"/>
                <a:ea typeface="楷体_GB2312"/>
              </a:rPr>
              <a:t>铁架台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xjhhxsy8"/>
          <p:cNvGrpSpPr/>
          <p:nvPr/>
        </p:nvGrpSpPr>
        <p:grpSpPr>
          <a:xfrm>
            <a:off x="609480" y="1425600"/>
            <a:ext cx="381240" cy="1599120"/>
            <a:chOff x="609480" y="1425600"/>
            <a:chExt cx="381240" cy="1599120"/>
          </a:xfrm>
        </p:grpSpPr>
        <p:sp>
          <p:nvSpPr>
            <p:cNvPr id="615" name="AutoShape 3"/>
            <p:cNvSpPr/>
            <p:nvPr/>
          </p:nvSpPr>
          <p:spPr>
            <a:xfrm flipV="1" rot="5400000">
              <a:off x="288000" y="2351160"/>
              <a:ext cx="1048680" cy="29736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4"/>
            <p:cNvSpPr/>
            <p:nvPr/>
          </p:nvSpPr>
          <p:spPr>
            <a:xfrm>
              <a:off x="609480" y="1425600"/>
              <a:ext cx="381240" cy="733320"/>
            </a:xfrm>
            <a:custGeom>
              <a:avLst/>
              <a:gdLst/>
              <a:ahLst/>
              <a:rect l="l" t="t" r="r" b="b"/>
              <a:pathLst>
                <a:path w="405" h="1007">
                  <a:moveTo>
                    <a:pt x="60" y="1007"/>
                  </a:moveTo>
                  <a:lnTo>
                    <a:pt x="60" y="90"/>
                  </a:lnTo>
                  <a:lnTo>
                    <a:pt x="0" y="0"/>
                  </a:lnTo>
                  <a:lnTo>
                    <a:pt x="405" y="0"/>
                  </a:lnTo>
                  <a:lnTo>
                    <a:pt x="375" y="105"/>
                  </a:lnTo>
                  <a:lnTo>
                    <a:pt x="375" y="100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Group 5"/>
          <p:cNvGrpSpPr/>
          <p:nvPr/>
        </p:nvGrpSpPr>
        <p:grpSpPr>
          <a:xfrm>
            <a:off x="1797120" y="1295280"/>
            <a:ext cx="380880" cy="1752480"/>
            <a:chOff x="1797120" y="1295280"/>
            <a:chExt cx="380880" cy="1752480"/>
          </a:xfrm>
        </p:grpSpPr>
        <p:sp>
          <p:nvSpPr>
            <p:cNvPr id="618" name="hx21Line 10"/>
            <p:cNvSpPr/>
            <p:nvPr/>
          </p:nvSpPr>
          <p:spPr>
            <a:xfrm>
              <a:off x="1909800" y="1368000"/>
              <a:ext cx="0" cy="5475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hx21Line 11"/>
            <p:cNvSpPr/>
            <p:nvPr/>
          </p:nvSpPr>
          <p:spPr>
            <a:xfrm flipV="1">
              <a:off x="1909800" y="1295280"/>
              <a:ext cx="111600" cy="72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hx21Line 12"/>
            <p:cNvSpPr/>
            <p:nvPr/>
          </p:nvSpPr>
          <p:spPr>
            <a:xfrm>
              <a:off x="2021400" y="1295280"/>
              <a:ext cx="0" cy="5475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hx21Line 13"/>
            <p:cNvSpPr/>
            <p:nvPr/>
          </p:nvSpPr>
          <p:spPr>
            <a:xfrm flipV="1">
              <a:off x="1909800" y="1842840"/>
              <a:ext cx="111600" cy="72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hx21Line 14"/>
            <p:cNvSpPr/>
            <p:nvPr/>
          </p:nvSpPr>
          <p:spPr>
            <a:xfrm>
              <a:off x="2021400" y="1295280"/>
              <a:ext cx="111600" cy="363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hx21Line 15"/>
            <p:cNvSpPr/>
            <p:nvPr/>
          </p:nvSpPr>
          <p:spPr>
            <a:xfrm>
              <a:off x="2133360" y="1331640"/>
              <a:ext cx="0" cy="16434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hx21Line 16"/>
            <p:cNvSpPr/>
            <p:nvPr/>
          </p:nvSpPr>
          <p:spPr>
            <a:xfrm flipV="1">
              <a:off x="2066400" y="2975040"/>
              <a:ext cx="66960" cy="72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hx21Freeform 17"/>
            <p:cNvSpPr/>
            <p:nvPr/>
          </p:nvSpPr>
          <p:spPr>
            <a:xfrm>
              <a:off x="1976760" y="1842840"/>
              <a:ext cx="89280" cy="1204920"/>
            </a:xfrm>
            <a:custGeom>
              <a:avLst/>
              <a:gdLst/>
              <a:ahLst/>
              <a:rect l="l" t="t" r="r" b="b"/>
              <a:pathLst>
                <a:path w="720" h="5148">
                  <a:moveTo>
                    <a:pt x="720" y="5148"/>
                  </a:moveTo>
                  <a:lnTo>
                    <a:pt x="720" y="312"/>
                  </a:lnTo>
                  <a:lnTo>
                    <a:pt x="360" y="0"/>
                  </a:lnTo>
                  <a:lnTo>
                    <a:pt x="0" y="156"/>
                  </a:lnTo>
                  <a:lnTo>
                    <a:pt x="0" y="5148"/>
                  </a:lnTo>
                  <a:lnTo>
                    <a:pt x="720" y="514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hx21Freeform 18"/>
            <p:cNvSpPr/>
            <p:nvPr/>
          </p:nvSpPr>
          <p:spPr>
            <a:xfrm>
              <a:off x="1842480" y="1368000"/>
              <a:ext cx="66960" cy="584280"/>
            </a:xfrm>
            <a:custGeom>
              <a:avLst/>
              <a:gdLst/>
              <a:ahLst/>
              <a:rect l="l" t="t" r="r" b="b"/>
              <a:pathLst>
                <a:path w="540" h="2496">
                  <a:moveTo>
                    <a:pt x="540" y="0"/>
                  </a:moveTo>
                  <a:lnTo>
                    <a:pt x="0" y="312"/>
                  </a:lnTo>
                  <a:lnTo>
                    <a:pt x="0" y="2496"/>
                  </a:lnTo>
                  <a:lnTo>
                    <a:pt x="540" y="234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hx21Oval 19"/>
            <p:cNvSpPr/>
            <p:nvPr/>
          </p:nvSpPr>
          <p:spPr>
            <a:xfrm>
              <a:off x="1976760" y="1441080"/>
              <a:ext cx="89280" cy="1094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hx21Oval 21"/>
            <p:cNvSpPr/>
            <p:nvPr/>
          </p:nvSpPr>
          <p:spPr>
            <a:xfrm>
              <a:off x="2023560" y="1449000"/>
              <a:ext cx="37440" cy="90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hx21Freeform 23"/>
            <p:cNvSpPr/>
            <p:nvPr/>
          </p:nvSpPr>
          <p:spPr>
            <a:xfrm>
              <a:off x="1976760" y="1550880"/>
              <a:ext cx="201240" cy="218880"/>
            </a:xfrm>
            <a:custGeom>
              <a:avLst/>
              <a:gdLst/>
              <a:ahLst/>
              <a:rect l="l" t="t" r="r" b="b"/>
              <a:pathLst>
                <a:path w="1620" h="936">
                  <a:moveTo>
                    <a:pt x="1440" y="0"/>
                  </a:moveTo>
                  <a:lnTo>
                    <a:pt x="0" y="624"/>
                  </a:lnTo>
                  <a:lnTo>
                    <a:pt x="0" y="780"/>
                  </a:lnTo>
                  <a:lnTo>
                    <a:pt x="540" y="936"/>
                  </a:lnTo>
                  <a:lnTo>
                    <a:pt x="540" y="624"/>
                  </a:lnTo>
                  <a:lnTo>
                    <a:pt x="360" y="624"/>
                  </a:lnTo>
                  <a:lnTo>
                    <a:pt x="540" y="780"/>
                  </a:lnTo>
                  <a:lnTo>
                    <a:pt x="180" y="780"/>
                  </a:lnTo>
                  <a:lnTo>
                    <a:pt x="360" y="624"/>
                  </a:lnTo>
                  <a:lnTo>
                    <a:pt x="1620" y="0"/>
                  </a:lnTo>
                  <a:lnTo>
                    <a:pt x="12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hx21Freeform 24"/>
            <p:cNvSpPr/>
            <p:nvPr/>
          </p:nvSpPr>
          <p:spPr>
            <a:xfrm>
              <a:off x="1797120" y="1605600"/>
              <a:ext cx="135000" cy="72720"/>
            </a:xfrm>
            <a:custGeom>
              <a:avLst/>
              <a:gdLst/>
              <a:ahLst/>
              <a:rect l="l" t="t" r="r" b="b"/>
              <a:pathLst>
                <a:path w="1620" h="936">
                  <a:moveTo>
                    <a:pt x="1440" y="0"/>
                  </a:moveTo>
                  <a:lnTo>
                    <a:pt x="0" y="624"/>
                  </a:lnTo>
                  <a:lnTo>
                    <a:pt x="0" y="780"/>
                  </a:lnTo>
                  <a:lnTo>
                    <a:pt x="540" y="936"/>
                  </a:lnTo>
                  <a:lnTo>
                    <a:pt x="540" y="624"/>
                  </a:lnTo>
                  <a:lnTo>
                    <a:pt x="360" y="624"/>
                  </a:lnTo>
                  <a:lnTo>
                    <a:pt x="540" y="780"/>
                  </a:lnTo>
                  <a:lnTo>
                    <a:pt x="180" y="780"/>
                  </a:lnTo>
                  <a:lnTo>
                    <a:pt x="360" y="624"/>
                  </a:lnTo>
                  <a:lnTo>
                    <a:pt x="1620" y="0"/>
                  </a:lnTo>
                  <a:lnTo>
                    <a:pt x="12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xjhhxtx11"/>
          <p:cNvSpPr/>
          <p:nvPr/>
        </p:nvSpPr>
        <p:spPr>
          <a:xfrm>
            <a:off x="3200400" y="1349280"/>
            <a:ext cx="76320" cy="1676520"/>
          </a:xfrm>
          <a:custGeom>
            <a:avLst/>
            <a:gdLst>
              <a:gd name="textAreaLeft" fmla="*/ 3600 w 76320"/>
              <a:gd name="textAreaRight" fmla="*/ 72720 w 76320"/>
              <a:gd name="textAreaTop" fmla="*/ 3600 h 1676520"/>
              <a:gd name="textAreaBottom" fmla="*/ 1672920 h 1676520"/>
            </a:gdLst>
            <a:ahLst/>
            <a:rect l="textAreaLeft" t="textAreaTop" r="textAreaRight" b="textAreaBottom"/>
            <a:pathLst>
              <a:path w="21600" h="472361">
                <a:moveTo>
                  <a:pt x="3600" y="0"/>
                </a:moveTo>
                <a:arcTo wR="3600" hR="3600" stAng="16200000" swAng="-5400000"/>
                <a:lnTo>
                  <a:pt x="0" y="468761"/>
                </a:lnTo>
                <a:arcTo wR="3600" hR="3600" stAng="10800000" swAng="-5400000"/>
                <a:lnTo>
                  <a:pt x="18000" y="4723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20"/>
          <p:cNvGrpSpPr/>
          <p:nvPr/>
        </p:nvGrpSpPr>
        <p:grpSpPr>
          <a:xfrm>
            <a:off x="4038480" y="1711080"/>
            <a:ext cx="1354320" cy="1183680"/>
            <a:chOff x="4038480" y="1711080"/>
            <a:chExt cx="1354320" cy="1183680"/>
          </a:xfrm>
        </p:grpSpPr>
        <p:grpSp>
          <p:nvGrpSpPr>
            <p:cNvPr id="633" name="Group 21"/>
            <p:cNvGrpSpPr/>
            <p:nvPr/>
          </p:nvGrpSpPr>
          <p:grpSpPr>
            <a:xfrm>
              <a:off x="4038480" y="1909440"/>
              <a:ext cx="1354320" cy="985320"/>
              <a:chOff x="4038480" y="1909440"/>
              <a:chExt cx="1354320" cy="985320"/>
            </a:xfrm>
          </p:grpSpPr>
          <p:grpSp>
            <p:nvGrpSpPr>
              <p:cNvPr id="634" name="Group 22"/>
              <p:cNvGrpSpPr/>
              <p:nvPr/>
            </p:nvGrpSpPr>
            <p:grpSpPr>
              <a:xfrm>
                <a:off x="4098600" y="2451240"/>
                <a:ext cx="1229400" cy="367200"/>
                <a:chOff x="4098600" y="2451240"/>
                <a:chExt cx="1229400" cy="367200"/>
              </a:xfrm>
            </p:grpSpPr>
            <p:sp>
              <p:nvSpPr>
                <p:cNvPr id="635" name="AutoShape 23"/>
                <p:cNvSpPr/>
                <p:nvPr/>
              </p:nvSpPr>
              <p:spPr>
                <a:xfrm>
                  <a:off x="4125600" y="2483640"/>
                  <a:ext cx="1191240" cy="33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760" y="21600"/>
                      </a:lnTo>
                      <a:lnTo>
                        <a:pt x="1584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24"/>
                <p:cNvSpPr/>
                <p:nvPr/>
              </p:nvSpPr>
              <p:spPr>
                <a:xfrm>
                  <a:off x="4098600" y="2451240"/>
                  <a:ext cx="122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Freeform 25"/>
              <p:cNvSpPr/>
              <p:nvPr/>
            </p:nvSpPr>
            <p:spPr>
              <a:xfrm>
                <a:off x="4038480" y="2079000"/>
                <a:ext cx="1354320" cy="763920"/>
              </a:xfrm>
              <a:custGeom>
                <a:avLst/>
                <a:gdLst/>
                <a:ahLst/>
                <a:rect l="l" t="t" r="r" b="b"/>
                <a:pathLst>
                  <a:path w="1994" h="1404">
                    <a:moveTo>
                      <a:pt x="543" y="1404"/>
                    </a:moveTo>
                    <a:lnTo>
                      <a:pt x="0" y="624"/>
                    </a:lnTo>
                    <a:lnTo>
                      <a:pt x="724" y="312"/>
                    </a:lnTo>
                    <a:lnTo>
                      <a:pt x="724" y="0"/>
                    </a:lnTo>
                    <a:lnTo>
                      <a:pt x="1267" y="0"/>
                    </a:lnTo>
                    <a:lnTo>
                      <a:pt x="1265" y="330"/>
                    </a:lnTo>
                    <a:lnTo>
                      <a:pt x="1994" y="624"/>
                    </a:lnTo>
                    <a:lnTo>
                      <a:pt x="1448" y="1404"/>
                    </a:lnTo>
                    <a:lnTo>
                      <a:pt x="543" y="140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" name="Group 26"/>
              <p:cNvGrpSpPr/>
              <p:nvPr/>
            </p:nvGrpSpPr>
            <p:grpSpPr>
              <a:xfrm>
                <a:off x="4467600" y="1909440"/>
                <a:ext cx="598680" cy="888480"/>
                <a:chOff x="4467600" y="1909440"/>
                <a:chExt cx="598680" cy="888480"/>
              </a:xfrm>
            </p:grpSpPr>
            <p:sp>
              <p:nvSpPr>
                <p:cNvPr id="639" name="AutoShape 27"/>
                <p:cNvSpPr/>
                <p:nvPr/>
              </p:nvSpPr>
              <p:spPr>
                <a:xfrm>
                  <a:off x="4576680" y="2057040"/>
                  <a:ext cx="266760" cy="160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hx30Oval 20"/>
                <p:cNvSpPr/>
                <p:nvPr/>
              </p:nvSpPr>
              <p:spPr>
                <a:xfrm>
                  <a:off x="4604040" y="1972440"/>
                  <a:ext cx="224640" cy="2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hx30Rectangle 21"/>
                <p:cNvSpPr/>
                <p:nvPr/>
              </p:nvSpPr>
              <p:spPr>
                <a:xfrm>
                  <a:off x="4658400" y="1909440"/>
                  <a:ext cx="111960" cy="60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hx30Freeform 72"/>
                <p:cNvSpPr/>
                <p:nvPr/>
              </p:nvSpPr>
              <p:spPr>
                <a:xfrm>
                  <a:off x="4494600" y="2205000"/>
                  <a:ext cx="571680" cy="592920"/>
                </a:xfrm>
                <a:custGeom>
                  <a:avLst/>
                  <a:gdLst/>
                  <a:ahLst/>
                  <a:rect l="l" t="t" r="r" b="b"/>
                  <a:pathLst>
                    <a:path w="1830" h="3302">
                      <a:moveTo>
                        <a:pt x="840" y="0"/>
                      </a:moveTo>
                      <a:cubicBezTo>
                        <a:pt x="615" y="572"/>
                        <a:pt x="390" y="1144"/>
                        <a:pt x="480" y="1404"/>
                      </a:cubicBezTo>
                      <a:cubicBezTo>
                        <a:pt x="570" y="1664"/>
                        <a:pt x="1170" y="1456"/>
                        <a:pt x="1380" y="1560"/>
                      </a:cubicBezTo>
                      <a:cubicBezTo>
                        <a:pt x="1590" y="1664"/>
                        <a:pt x="1830" y="1872"/>
                        <a:pt x="1740" y="2028"/>
                      </a:cubicBezTo>
                      <a:cubicBezTo>
                        <a:pt x="1650" y="2184"/>
                        <a:pt x="870" y="2366"/>
                        <a:pt x="840" y="2496"/>
                      </a:cubicBezTo>
                      <a:cubicBezTo>
                        <a:pt x="810" y="2626"/>
                        <a:pt x="1410" y="2730"/>
                        <a:pt x="1560" y="2808"/>
                      </a:cubicBezTo>
                      <a:cubicBezTo>
                        <a:pt x="1710" y="2886"/>
                        <a:pt x="1740" y="2886"/>
                        <a:pt x="1740" y="2964"/>
                      </a:cubicBezTo>
                      <a:cubicBezTo>
                        <a:pt x="1740" y="3042"/>
                        <a:pt x="1680" y="3302"/>
                        <a:pt x="1560" y="3276"/>
                      </a:cubicBezTo>
                      <a:cubicBezTo>
                        <a:pt x="1440" y="3250"/>
                        <a:pt x="1170" y="2912"/>
                        <a:pt x="1020" y="2808"/>
                      </a:cubicBezTo>
                      <a:cubicBezTo>
                        <a:pt x="870" y="2704"/>
                        <a:pt x="720" y="2730"/>
                        <a:pt x="660" y="2652"/>
                      </a:cubicBezTo>
                      <a:cubicBezTo>
                        <a:pt x="600" y="2574"/>
                        <a:pt x="540" y="2470"/>
                        <a:pt x="660" y="2340"/>
                      </a:cubicBezTo>
                      <a:cubicBezTo>
                        <a:pt x="780" y="2210"/>
                        <a:pt x="1470" y="1976"/>
                        <a:pt x="1380" y="1872"/>
                      </a:cubicBezTo>
                      <a:cubicBezTo>
                        <a:pt x="1290" y="1768"/>
                        <a:pt x="240" y="2028"/>
                        <a:pt x="120" y="1716"/>
                      </a:cubicBezTo>
                      <a:cubicBezTo>
                        <a:pt x="0" y="1404"/>
                        <a:pt x="330" y="702"/>
                        <a:pt x="660" y="0"/>
                      </a:cubicBez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Group 31"/>
                <p:cNvGrpSpPr/>
                <p:nvPr/>
              </p:nvGrpSpPr>
              <p:grpSpPr>
                <a:xfrm>
                  <a:off x="4467600" y="2004840"/>
                  <a:ext cx="483480" cy="85320"/>
                  <a:chOff x="4467600" y="2004840"/>
                  <a:chExt cx="483480" cy="85320"/>
                </a:xfrm>
              </p:grpSpPr>
              <p:sp>
                <p:nvSpPr>
                  <p:cNvPr id="644" name="Rectangle 32"/>
                  <p:cNvSpPr/>
                  <p:nvPr/>
                </p:nvSpPr>
                <p:spPr>
                  <a:xfrm>
                    <a:off x="4567320" y="2004840"/>
                    <a:ext cx="284040" cy="49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Rectangle 33"/>
                  <p:cNvSpPr/>
                  <p:nvPr/>
                </p:nvSpPr>
                <p:spPr>
                  <a:xfrm>
                    <a:off x="4467600" y="2043360"/>
                    <a:ext cx="483480" cy="4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6" name="AutoShape 34"/>
              <p:cNvSpPr/>
              <p:nvPr/>
            </p:nvSpPr>
            <p:spPr>
              <a:xfrm flipV="1">
                <a:off x="4290480" y="2842920"/>
                <a:ext cx="852480" cy="51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96" y="21600"/>
                    </a:lnTo>
                    <a:lnTo>
                      <a:pt x="1750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5"/>
              <p:cNvSpPr/>
              <p:nvPr/>
            </p:nvSpPr>
            <p:spPr>
              <a:xfrm>
                <a:off x="4399200" y="2832120"/>
                <a:ext cx="640800" cy="30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36"/>
            <p:cNvGrpSpPr/>
            <p:nvPr/>
          </p:nvGrpSpPr>
          <p:grpSpPr>
            <a:xfrm>
              <a:off x="4521960" y="1711080"/>
              <a:ext cx="387000" cy="281520"/>
              <a:chOff x="4521960" y="1711080"/>
              <a:chExt cx="387000" cy="281520"/>
            </a:xfrm>
          </p:grpSpPr>
          <p:sp>
            <p:nvSpPr>
              <p:cNvPr id="649" name="AutoShape 37"/>
              <p:cNvSpPr/>
              <p:nvPr/>
            </p:nvSpPr>
            <p:spPr>
              <a:xfrm rot="16200000">
                <a:off x="4585680" y="1679400"/>
                <a:ext cx="250920" cy="313920"/>
              </a:xfrm>
              <a:prstGeom prst="flowChartDelay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8"/>
              <p:cNvSpPr/>
              <p:nvPr/>
            </p:nvSpPr>
            <p:spPr>
              <a:xfrm>
                <a:off x="4521960" y="1959480"/>
                <a:ext cx="387000" cy="33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1" name="xjhhxsy13"/>
          <p:cNvGrpSpPr/>
          <p:nvPr/>
        </p:nvGrpSpPr>
        <p:grpSpPr>
          <a:xfrm>
            <a:off x="380880" y="3863880"/>
            <a:ext cx="984240" cy="1184400"/>
            <a:chOff x="380880" y="3863880"/>
            <a:chExt cx="984240" cy="1184400"/>
          </a:xfrm>
        </p:grpSpPr>
        <p:sp>
          <p:nvSpPr>
            <p:cNvPr id="652" name="AutoShape 40"/>
            <p:cNvSpPr/>
            <p:nvPr/>
          </p:nvSpPr>
          <p:spPr>
            <a:xfrm>
              <a:off x="507960" y="4446720"/>
              <a:ext cx="814680" cy="6015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41"/>
            <p:cNvSpPr/>
            <p:nvPr/>
          </p:nvSpPr>
          <p:spPr>
            <a:xfrm>
              <a:off x="380880" y="3863880"/>
              <a:ext cx="984240" cy="707400"/>
            </a:xfrm>
            <a:custGeom>
              <a:avLst/>
              <a:gdLst/>
              <a:ahLst/>
              <a:rect l="l" t="t" r="r" b="b"/>
              <a:pathLst>
                <a:path w="1740" h="1129">
                  <a:moveTo>
                    <a:pt x="225" y="1129"/>
                  </a:moveTo>
                  <a:lnTo>
                    <a:pt x="225" y="360"/>
                  </a:lnTo>
                  <a:lnTo>
                    <a:pt x="225" y="180"/>
                  </a:lnTo>
                  <a:lnTo>
                    <a:pt x="0" y="45"/>
                  </a:lnTo>
                  <a:lnTo>
                    <a:pt x="285" y="0"/>
                  </a:lnTo>
                  <a:lnTo>
                    <a:pt x="1740" y="0"/>
                  </a:lnTo>
                  <a:lnTo>
                    <a:pt x="1665" y="120"/>
                  </a:lnTo>
                  <a:lnTo>
                    <a:pt x="1665" y="112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xjhhxtx8"/>
          <p:cNvGrpSpPr/>
          <p:nvPr/>
        </p:nvGrpSpPr>
        <p:grpSpPr>
          <a:xfrm>
            <a:off x="5791320" y="1447920"/>
            <a:ext cx="533160" cy="1446840"/>
            <a:chOff x="5791320" y="1447920"/>
            <a:chExt cx="533160" cy="1446840"/>
          </a:xfrm>
        </p:grpSpPr>
        <p:grpSp>
          <p:nvGrpSpPr>
            <p:cNvPr id="655" name="Group 43"/>
            <p:cNvGrpSpPr/>
            <p:nvPr/>
          </p:nvGrpSpPr>
          <p:grpSpPr>
            <a:xfrm>
              <a:off x="5791320" y="1818720"/>
              <a:ext cx="533160" cy="1076040"/>
              <a:chOff x="5791320" y="1818720"/>
              <a:chExt cx="533160" cy="1076040"/>
            </a:xfrm>
          </p:grpSpPr>
          <p:sp>
            <p:nvSpPr>
              <p:cNvPr id="656" name="Rectangle 44"/>
              <p:cNvSpPr/>
              <p:nvPr/>
            </p:nvSpPr>
            <p:spPr>
              <a:xfrm>
                <a:off x="5901120" y="2793600"/>
                <a:ext cx="300600" cy="3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45"/>
              <p:cNvSpPr/>
              <p:nvPr/>
            </p:nvSpPr>
            <p:spPr>
              <a:xfrm flipV="1">
                <a:off x="5791320" y="2836440"/>
                <a:ext cx="533160" cy="5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xjhzhh5"/>
              <p:cNvGrpSpPr/>
              <p:nvPr/>
            </p:nvGrpSpPr>
            <p:grpSpPr>
              <a:xfrm>
                <a:off x="5960880" y="1818720"/>
                <a:ext cx="132120" cy="974880"/>
                <a:chOff x="5960880" y="1818720"/>
                <a:chExt cx="132120" cy="974880"/>
              </a:xfrm>
            </p:grpSpPr>
            <p:sp>
              <p:nvSpPr>
                <p:cNvPr id="659" name="Line 47"/>
                <p:cNvSpPr/>
                <p:nvPr/>
              </p:nvSpPr>
              <p:spPr>
                <a:xfrm flipH="1">
                  <a:off x="5960880" y="1818720"/>
                  <a:ext cx="13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Line 48"/>
                <p:cNvSpPr/>
                <p:nvPr/>
              </p:nvSpPr>
              <p:spPr>
                <a:xfrm flipH="1">
                  <a:off x="5961240" y="186732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Line 49"/>
                <p:cNvSpPr/>
                <p:nvPr/>
              </p:nvSpPr>
              <p:spPr>
                <a:xfrm flipH="1">
                  <a:off x="5961240" y="191592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50"/>
                <p:cNvSpPr/>
                <p:nvPr/>
              </p:nvSpPr>
              <p:spPr>
                <a:xfrm flipH="1">
                  <a:off x="5961240" y="196488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51"/>
                <p:cNvSpPr/>
                <p:nvPr/>
              </p:nvSpPr>
              <p:spPr>
                <a:xfrm flipH="1">
                  <a:off x="5961240" y="201348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52"/>
                <p:cNvSpPr/>
                <p:nvPr/>
              </p:nvSpPr>
              <p:spPr>
                <a:xfrm flipH="1">
                  <a:off x="5960880" y="206244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Line 53"/>
                <p:cNvSpPr/>
                <p:nvPr/>
              </p:nvSpPr>
              <p:spPr>
                <a:xfrm flipH="1">
                  <a:off x="5961240" y="211104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54"/>
                <p:cNvSpPr/>
                <p:nvPr/>
              </p:nvSpPr>
              <p:spPr>
                <a:xfrm flipH="1">
                  <a:off x="5961240" y="216000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55"/>
                <p:cNvSpPr/>
                <p:nvPr/>
              </p:nvSpPr>
              <p:spPr>
                <a:xfrm flipH="1">
                  <a:off x="5961240" y="220860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56"/>
                <p:cNvSpPr/>
                <p:nvPr/>
              </p:nvSpPr>
              <p:spPr>
                <a:xfrm flipH="1">
                  <a:off x="5961240" y="225720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57"/>
                <p:cNvSpPr/>
                <p:nvPr/>
              </p:nvSpPr>
              <p:spPr>
                <a:xfrm flipH="1">
                  <a:off x="5960880" y="2306160"/>
                  <a:ext cx="13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58"/>
                <p:cNvSpPr/>
                <p:nvPr/>
              </p:nvSpPr>
              <p:spPr>
                <a:xfrm flipH="1">
                  <a:off x="5961240" y="235476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59"/>
                <p:cNvSpPr/>
                <p:nvPr/>
              </p:nvSpPr>
              <p:spPr>
                <a:xfrm flipH="1">
                  <a:off x="5961240" y="240372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60"/>
                <p:cNvSpPr/>
                <p:nvPr/>
              </p:nvSpPr>
              <p:spPr>
                <a:xfrm flipH="1">
                  <a:off x="5961240" y="245232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61"/>
                <p:cNvSpPr/>
                <p:nvPr/>
              </p:nvSpPr>
              <p:spPr>
                <a:xfrm flipH="1">
                  <a:off x="5961240" y="250128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Line 62"/>
                <p:cNvSpPr/>
                <p:nvPr/>
              </p:nvSpPr>
              <p:spPr>
                <a:xfrm flipH="1">
                  <a:off x="5960880" y="254988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Line 63"/>
                <p:cNvSpPr/>
                <p:nvPr/>
              </p:nvSpPr>
              <p:spPr>
                <a:xfrm flipH="1">
                  <a:off x="5961240" y="259884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64"/>
                <p:cNvSpPr/>
                <p:nvPr/>
              </p:nvSpPr>
              <p:spPr>
                <a:xfrm flipH="1">
                  <a:off x="5961240" y="264744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65"/>
                <p:cNvSpPr/>
                <p:nvPr/>
              </p:nvSpPr>
              <p:spPr>
                <a:xfrm flipH="1">
                  <a:off x="5961240" y="269604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66"/>
                <p:cNvSpPr/>
                <p:nvPr/>
              </p:nvSpPr>
              <p:spPr>
                <a:xfrm flipH="1">
                  <a:off x="5961240" y="2745000"/>
                  <a:ext cx="6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67"/>
                <p:cNvSpPr/>
                <p:nvPr/>
              </p:nvSpPr>
              <p:spPr>
                <a:xfrm flipH="1">
                  <a:off x="5960880" y="2793600"/>
                  <a:ext cx="13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" name="Group 68"/>
            <p:cNvGrpSpPr/>
            <p:nvPr/>
          </p:nvGrpSpPr>
          <p:grpSpPr>
            <a:xfrm>
              <a:off x="5873040" y="1447920"/>
              <a:ext cx="307800" cy="1347480"/>
              <a:chOff x="5873040" y="1447920"/>
              <a:chExt cx="307800" cy="1347480"/>
            </a:xfrm>
          </p:grpSpPr>
          <p:grpSp>
            <p:nvGrpSpPr>
              <p:cNvPr id="681" name="Group 69"/>
              <p:cNvGrpSpPr/>
              <p:nvPr/>
            </p:nvGrpSpPr>
            <p:grpSpPr>
              <a:xfrm>
                <a:off x="5927400" y="1525680"/>
                <a:ext cx="237240" cy="1269720"/>
                <a:chOff x="5927400" y="1525680"/>
                <a:chExt cx="237240" cy="1269720"/>
              </a:xfrm>
            </p:grpSpPr>
            <p:sp>
              <p:nvSpPr>
                <p:cNvPr id="682" name="Line 70"/>
                <p:cNvSpPr/>
                <p:nvPr/>
              </p:nvSpPr>
              <p:spPr>
                <a:xfrm>
                  <a:off x="5927400" y="1525680"/>
                  <a:ext cx="0" cy="12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71"/>
                <p:cNvSpPr/>
                <p:nvPr/>
              </p:nvSpPr>
              <p:spPr>
                <a:xfrm>
                  <a:off x="6164640" y="1525680"/>
                  <a:ext cx="0" cy="126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Freeform 72"/>
              <p:cNvSpPr/>
              <p:nvPr/>
            </p:nvSpPr>
            <p:spPr>
              <a:xfrm>
                <a:off x="5873040" y="1447920"/>
                <a:ext cx="307800" cy="86760"/>
              </a:xfrm>
              <a:custGeom>
                <a:avLst/>
                <a:gdLst/>
                <a:ahLst/>
                <a:rect l="l" t="t" r="r" b="b"/>
                <a:pathLst>
                  <a:path w="832" h="148">
                    <a:moveTo>
                      <a:pt x="108" y="148"/>
                    </a:moveTo>
                    <a:lnTo>
                      <a:pt x="108" y="74"/>
                    </a:lnTo>
                    <a:lnTo>
                      <a:pt x="0" y="19"/>
                    </a:lnTo>
                    <a:lnTo>
                      <a:pt x="136" y="0"/>
                    </a:lnTo>
                    <a:lnTo>
                      <a:pt x="832" y="0"/>
                    </a:lnTo>
                    <a:lnTo>
                      <a:pt x="796" y="49"/>
                    </a:lnTo>
                    <a:lnTo>
                      <a:pt x="794" y="13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5" name="xjhhxtx23"/>
          <p:cNvGrpSpPr/>
          <p:nvPr/>
        </p:nvGrpSpPr>
        <p:grpSpPr>
          <a:xfrm>
            <a:off x="7010280" y="1143000"/>
            <a:ext cx="1045800" cy="1685880"/>
            <a:chOff x="7010280" y="1143000"/>
            <a:chExt cx="1045800" cy="1685880"/>
          </a:xfrm>
        </p:grpSpPr>
        <p:grpSp>
          <p:nvGrpSpPr>
            <p:cNvPr id="686" name="Group 74"/>
            <p:cNvGrpSpPr/>
            <p:nvPr/>
          </p:nvGrpSpPr>
          <p:grpSpPr>
            <a:xfrm>
              <a:off x="7124760" y="1143000"/>
              <a:ext cx="931320" cy="1685880"/>
              <a:chOff x="7124760" y="1143000"/>
              <a:chExt cx="931320" cy="1685880"/>
            </a:xfrm>
          </p:grpSpPr>
          <p:grpSp>
            <p:nvGrpSpPr>
              <p:cNvPr id="687" name="Group 75"/>
              <p:cNvGrpSpPr/>
              <p:nvPr/>
            </p:nvGrpSpPr>
            <p:grpSpPr>
              <a:xfrm>
                <a:off x="7239240" y="1143000"/>
                <a:ext cx="107640" cy="1545840"/>
                <a:chOff x="7239240" y="1143000"/>
                <a:chExt cx="107640" cy="1545840"/>
              </a:xfrm>
            </p:grpSpPr>
            <p:sp>
              <p:nvSpPr>
                <p:cNvPr id="688" name="Rectangle 76"/>
                <p:cNvSpPr/>
                <p:nvPr/>
              </p:nvSpPr>
              <p:spPr>
                <a:xfrm>
                  <a:off x="7263720" y="1143000"/>
                  <a:ext cx="52200" cy="151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77"/>
                <p:cNvSpPr/>
                <p:nvPr/>
              </p:nvSpPr>
              <p:spPr>
                <a:xfrm>
                  <a:off x="7239240" y="2601000"/>
                  <a:ext cx="107640" cy="87840"/>
                </a:xfrm>
                <a:prstGeom prst="rect">
                  <a:avLst/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Rectangle 78"/>
              <p:cNvSpPr/>
              <p:nvPr/>
            </p:nvSpPr>
            <p:spPr>
              <a:xfrm>
                <a:off x="7124760" y="2672280"/>
                <a:ext cx="931320" cy="97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79"/>
              <p:cNvSpPr/>
              <p:nvPr/>
            </p:nvSpPr>
            <p:spPr>
              <a:xfrm>
                <a:off x="7175160" y="2770560"/>
                <a:ext cx="78120" cy="5832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80"/>
              <p:cNvSpPr/>
              <p:nvPr/>
            </p:nvSpPr>
            <p:spPr>
              <a:xfrm>
                <a:off x="7933680" y="2770560"/>
                <a:ext cx="70920" cy="5256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81"/>
            <p:cNvGrpSpPr/>
            <p:nvPr/>
          </p:nvGrpSpPr>
          <p:grpSpPr>
            <a:xfrm>
              <a:off x="7010280" y="1340640"/>
              <a:ext cx="895320" cy="204120"/>
              <a:chOff x="7010280" y="1340640"/>
              <a:chExt cx="895320" cy="204120"/>
            </a:xfrm>
          </p:grpSpPr>
          <p:grpSp>
            <p:nvGrpSpPr>
              <p:cNvPr id="694" name="Group 82"/>
              <p:cNvGrpSpPr/>
              <p:nvPr/>
            </p:nvGrpSpPr>
            <p:grpSpPr>
              <a:xfrm>
                <a:off x="7010280" y="1401480"/>
                <a:ext cx="895320" cy="81000"/>
                <a:chOff x="7010280" y="1401480"/>
                <a:chExt cx="895320" cy="81000"/>
              </a:xfrm>
            </p:grpSpPr>
            <p:sp>
              <p:nvSpPr>
                <p:cNvPr id="695" name="Rectangle 83"/>
                <p:cNvSpPr/>
                <p:nvPr/>
              </p:nvSpPr>
              <p:spPr>
                <a:xfrm>
                  <a:off x="7010280" y="1428480"/>
                  <a:ext cx="790920" cy="33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AutoShape 84"/>
                <p:cNvSpPr/>
                <p:nvPr/>
              </p:nvSpPr>
              <p:spPr>
                <a:xfrm flipH="1">
                  <a:off x="7716960" y="1401480"/>
                  <a:ext cx="188640" cy="8100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85"/>
                <p:cNvSpPr/>
                <p:nvPr/>
              </p:nvSpPr>
              <p:spPr>
                <a:xfrm>
                  <a:off x="7663680" y="1401480"/>
                  <a:ext cx="66960" cy="81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" name="AutoShape 86"/>
              <p:cNvSpPr/>
              <p:nvPr/>
            </p:nvSpPr>
            <p:spPr>
              <a:xfrm>
                <a:off x="7188120" y="1340640"/>
                <a:ext cx="203760" cy="204120"/>
              </a:xfrm>
              <a:prstGeom prst="sun">
                <a:avLst>
                  <a:gd name="adj" fmla="val 1319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87"/>
            <p:cNvGrpSpPr/>
            <p:nvPr/>
          </p:nvGrpSpPr>
          <p:grpSpPr>
            <a:xfrm>
              <a:off x="7162920" y="2058480"/>
              <a:ext cx="869400" cy="203760"/>
              <a:chOff x="7162920" y="2058480"/>
              <a:chExt cx="869400" cy="203760"/>
            </a:xfrm>
          </p:grpSpPr>
          <p:sp>
            <p:nvSpPr>
              <p:cNvPr id="700" name="AutoShape 88"/>
              <p:cNvSpPr/>
              <p:nvPr/>
            </p:nvSpPr>
            <p:spPr>
              <a:xfrm>
                <a:off x="7188840" y="2058480"/>
                <a:ext cx="203760" cy="203760"/>
              </a:xfrm>
              <a:prstGeom prst="sun">
                <a:avLst>
                  <a:gd name="adj" fmla="val 1319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1" name="Group 89"/>
              <p:cNvGrpSpPr/>
              <p:nvPr/>
            </p:nvGrpSpPr>
            <p:grpSpPr>
              <a:xfrm>
                <a:off x="7162920" y="2131920"/>
                <a:ext cx="869400" cy="56160"/>
                <a:chOff x="7162920" y="2131920"/>
                <a:chExt cx="869400" cy="56160"/>
              </a:xfrm>
            </p:grpSpPr>
            <p:sp>
              <p:nvSpPr>
                <p:cNvPr id="702" name="Rectangle 90"/>
                <p:cNvSpPr/>
                <p:nvPr/>
              </p:nvSpPr>
              <p:spPr>
                <a:xfrm>
                  <a:off x="7162920" y="2154600"/>
                  <a:ext cx="435600" cy="33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91"/>
                <p:cNvSpPr/>
                <p:nvPr/>
              </p:nvSpPr>
              <p:spPr>
                <a:xfrm>
                  <a:off x="7596360" y="2154600"/>
                  <a:ext cx="435960" cy="33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92"/>
                <p:cNvSpPr/>
                <p:nvPr/>
              </p:nvSpPr>
              <p:spPr>
                <a:xfrm>
                  <a:off x="7634160" y="2131920"/>
                  <a:ext cx="360000" cy="13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5" name="lxq43"/>
          <p:cNvGrpSpPr/>
          <p:nvPr/>
        </p:nvGrpSpPr>
        <p:grpSpPr>
          <a:xfrm>
            <a:off x="2057400" y="3863880"/>
            <a:ext cx="838080" cy="1219320"/>
            <a:chOff x="2057400" y="3863880"/>
            <a:chExt cx="838080" cy="1219320"/>
          </a:xfrm>
        </p:grpSpPr>
        <p:sp>
          <p:nvSpPr>
            <p:cNvPr id="706" name="Freeform 94"/>
            <p:cNvSpPr/>
            <p:nvPr/>
          </p:nvSpPr>
          <p:spPr>
            <a:xfrm>
              <a:off x="2057400" y="3913920"/>
              <a:ext cx="838080" cy="1169280"/>
            </a:xfrm>
            <a:custGeom>
              <a:avLst/>
              <a:gdLst/>
              <a:ahLst/>
              <a:rect l="l" t="t" r="r" b="b"/>
              <a:pathLst>
                <a:path w="1410" h="2415">
                  <a:moveTo>
                    <a:pt x="0" y="2415"/>
                  </a:moveTo>
                  <a:lnTo>
                    <a:pt x="1410" y="2415"/>
                  </a:lnTo>
                  <a:lnTo>
                    <a:pt x="1410" y="750"/>
                  </a:lnTo>
                  <a:lnTo>
                    <a:pt x="1366" y="630"/>
                  </a:lnTo>
                  <a:lnTo>
                    <a:pt x="1305" y="570"/>
                  </a:lnTo>
                  <a:lnTo>
                    <a:pt x="1215" y="510"/>
                  </a:lnTo>
                  <a:lnTo>
                    <a:pt x="1110" y="450"/>
                  </a:lnTo>
                  <a:lnTo>
                    <a:pt x="1006" y="420"/>
                  </a:lnTo>
                  <a:lnTo>
                    <a:pt x="1006" y="0"/>
                  </a:lnTo>
                  <a:lnTo>
                    <a:pt x="406" y="0"/>
                  </a:lnTo>
                  <a:lnTo>
                    <a:pt x="406" y="420"/>
                  </a:lnTo>
                  <a:lnTo>
                    <a:pt x="300" y="450"/>
                  </a:lnTo>
                  <a:lnTo>
                    <a:pt x="210" y="510"/>
                  </a:lnTo>
                  <a:lnTo>
                    <a:pt x="119" y="570"/>
                  </a:lnTo>
                  <a:lnTo>
                    <a:pt x="45" y="660"/>
                  </a:lnTo>
                  <a:lnTo>
                    <a:pt x="0" y="750"/>
                  </a:lnTo>
                  <a:lnTo>
                    <a:pt x="0" y="241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95"/>
            <p:cNvSpPr/>
            <p:nvPr/>
          </p:nvSpPr>
          <p:spPr>
            <a:xfrm>
              <a:off x="2198160" y="3863880"/>
              <a:ext cx="553320" cy="5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lxq48"/>
          <p:cNvGrpSpPr/>
          <p:nvPr/>
        </p:nvGrpSpPr>
        <p:grpSpPr>
          <a:xfrm>
            <a:off x="5375160" y="3483000"/>
            <a:ext cx="416160" cy="1599480"/>
            <a:chOff x="5375160" y="3483000"/>
            <a:chExt cx="416160" cy="1599480"/>
          </a:xfrm>
        </p:grpSpPr>
        <p:grpSp>
          <p:nvGrpSpPr>
            <p:cNvPr id="709" name="Group 97"/>
            <p:cNvGrpSpPr/>
            <p:nvPr/>
          </p:nvGrpSpPr>
          <p:grpSpPr>
            <a:xfrm>
              <a:off x="5482440" y="3483000"/>
              <a:ext cx="209880" cy="1536120"/>
              <a:chOff x="5482440" y="3483000"/>
              <a:chExt cx="209880" cy="1536120"/>
            </a:xfrm>
          </p:grpSpPr>
          <p:sp>
            <p:nvSpPr>
              <p:cNvPr id="710" name="Freeform 98"/>
              <p:cNvSpPr/>
              <p:nvPr/>
            </p:nvSpPr>
            <p:spPr>
              <a:xfrm>
                <a:off x="5482440" y="3882240"/>
                <a:ext cx="209880" cy="1136880"/>
              </a:xfrm>
              <a:custGeom>
                <a:avLst/>
                <a:gdLst/>
                <a:ahLst/>
                <a:rect l="l" t="t" r="r" b="b"/>
                <a:pathLst>
                  <a:path w="735" h="3152">
                    <a:moveTo>
                      <a:pt x="181" y="7"/>
                    </a:moveTo>
                    <a:lnTo>
                      <a:pt x="15" y="330"/>
                    </a:lnTo>
                    <a:lnTo>
                      <a:pt x="0" y="465"/>
                    </a:lnTo>
                    <a:lnTo>
                      <a:pt x="15" y="585"/>
                    </a:lnTo>
                    <a:lnTo>
                      <a:pt x="75" y="765"/>
                    </a:lnTo>
                    <a:lnTo>
                      <a:pt x="135" y="1215"/>
                    </a:lnTo>
                    <a:lnTo>
                      <a:pt x="255" y="2310"/>
                    </a:lnTo>
                    <a:lnTo>
                      <a:pt x="309" y="3115"/>
                    </a:lnTo>
                    <a:lnTo>
                      <a:pt x="364" y="3152"/>
                    </a:lnTo>
                    <a:lnTo>
                      <a:pt x="437" y="3115"/>
                    </a:lnTo>
                    <a:lnTo>
                      <a:pt x="495" y="2280"/>
                    </a:lnTo>
                    <a:lnTo>
                      <a:pt x="585" y="1215"/>
                    </a:lnTo>
                    <a:lnTo>
                      <a:pt x="645" y="765"/>
                    </a:lnTo>
                    <a:lnTo>
                      <a:pt x="720" y="585"/>
                    </a:lnTo>
                    <a:lnTo>
                      <a:pt x="735" y="465"/>
                    </a:lnTo>
                    <a:lnTo>
                      <a:pt x="720" y="345"/>
                    </a:lnTo>
                    <a:lnTo>
                      <a:pt x="547" y="0"/>
                    </a:lnTo>
                    <a:lnTo>
                      <a:pt x="181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99"/>
              <p:cNvSpPr/>
              <p:nvPr/>
            </p:nvSpPr>
            <p:spPr>
              <a:xfrm>
                <a:off x="5500440" y="3483000"/>
                <a:ext cx="162720" cy="448920"/>
              </a:xfrm>
              <a:custGeom>
                <a:avLst/>
                <a:gdLst/>
                <a:ahLst/>
                <a:rect l="l" t="t" r="r" b="b"/>
                <a:pathLst>
                  <a:path w="570" h="1245">
                    <a:moveTo>
                      <a:pt x="30" y="255"/>
                    </a:moveTo>
                    <a:lnTo>
                      <a:pt x="60" y="165"/>
                    </a:lnTo>
                    <a:lnTo>
                      <a:pt x="96" y="105"/>
                    </a:lnTo>
                    <a:lnTo>
                      <a:pt x="142" y="51"/>
                    </a:lnTo>
                    <a:lnTo>
                      <a:pt x="194" y="30"/>
                    </a:lnTo>
                    <a:lnTo>
                      <a:pt x="254" y="0"/>
                    </a:lnTo>
                    <a:lnTo>
                      <a:pt x="300" y="0"/>
                    </a:lnTo>
                    <a:lnTo>
                      <a:pt x="396" y="21"/>
                    </a:lnTo>
                    <a:lnTo>
                      <a:pt x="464" y="105"/>
                    </a:lnTo>
                    <a:lnTo>
                      <a:pt x="510" y="180"/>
                    </a:lnTo>
                    <a:lnTo>
                      <a:pt x="540" y="270"/>
                    </a:lnTo>
                    <a:lnTo>
                      <a:pt x="554" y="336"/>
                    </a:lnTo>
                    <a:lnTo>
                      <a:pt x="562" y="420"/>
                    </a:lnTo>
                    <a:lnTo>
                      <a:pt x="570" y="495"/>
                    </a:lnTo>
                    <a:lnTo>
                      <a:pt x="570" y="555"/>
                    </a:lnTo>
                    <a:lnTo>
                      <a:pt x="562" y="644"/>
                    </a:lnTo>
                    <a:lnTo>
                      <a:pt x="516" y="705"/>
                    </a:lnTo>
                    <a:lnTo>
                      <a:pt x="494" y="780"/>
                    </a:lnTo>
                    <a:lnTo>
                      <a:pt x="494" y="840"/>
                    </a:lnTo>
                    <a:lnTo>
                      <a:pt x="502" y="915"/>
                    </a:lnTo>
                    <a:lnTo>
                      <a:pt x="532" y="975"/>
                    </a:lnTo>
                    <a:lnTo>
                      <a:pt x="562" y="1050"/>
                    </a:lnTo>
                    <a:lnTo>
                      <a:pt x="554" y="1116"/>
                    </a:lnTo>
                    <a:lnTo>
                      <a:pt x="510" y="1170"/>
                    </a:lnTo>
                    <a:lnTo>
                      <a:pt x="420" y="1229"/>
                    </a:lnTo>
                    <a:lnTo>
                      <a:pt x="314" y="1245"/>
                    </a:lnTo>
                    <a:lnTo>
                      <a:pt x="180" y="1236"/>
                    </a:lnTo>
                    <a:lnTo>
                      <a:pt x="82" y="1185"/>
                    </a:lnTo>
                    <a:lnTo>
                      <a:pt x="22" y="1146"/>
                    </a:lnTo>
                    <a:lnTo>
                      <a:pt x="6" y="1101"/>
                    </a:lnTo>
                    <a:lnTo>
                      <a:pt x="36" y="1005"/>
                    </a:lnTo>
                    <a:lnTo>
                      <a:pt x="74" y="945"/>
                    </a:lnTo>
                    <a:lnTo>
                      <a:pt x="74" y="885"/>
                    </a:lnTo>
                    <a:lnTo>
                      <a:pt x="74" y="810"/>
                    </a:lnTo>
                    <a:lnTo>
                      <a:pt x="74" y="765"/>
                    </a:lnTo>
                    <a:lnTo>
                      <a:pt x="30" y="675"/>
                    </a:lnTo>
                    <a:lnTo>
                      <a:pt x="14" y="615"/>
                    </a:lnTo>
                    <a:lnTo>
                      <a:pt x="0" y="546"/>
                    </a:lnTo>
                    <a:lnTo>
                      <a:pt x="0" y="486"/>
                    </a:lnTo>
                    <a:lnTo>
                      <a:pt x="0" y="411"/>
                    </a:lnTo>
                    <a:lnTo>
                      <a:pt x="6" y="315"/>
                    </a:lnTo>
                    <a:lnTo>
                      <a:pt x="30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100"/>
            <p:cNvGrpSpPr/>
            <p:nvPr/>
          </p:nvGrpSpPr>
          <p:grpSpPr>
            <a:xfrm>
              <a:off x="5375160" y="4101840"/>
              <a:ext cx="416160" cy="980640"/>
              <a:chOff x="5375160" y="4101840"/>
              <a:chExt cx="416160" cy="980640"/>
            </a:xfrm>
          </p:grpSpPr>
          <p:sp>
            <p:nvSpPr>
              <p:cNvPr id="713" name="Freeform 101"/>
              <p:cNvSpPr/>
              <p:nvPr/>
            </p:nvSpPr>
            <p:spPr>
              <a:xfrm>
                <a:off x="5375160" y="4133160"/>
                <a:ext cx="416160" cy="949320"/>
              </a:xfrm>
              <a:custGeom>
                <a:avLst/>
                <a:gdLst/>
                <a:ahLst/>
                <a:rect l="l" t="t" r="r" b="b"/>
                <a:pathLst>
                  <a:path w="776" h="1319">
                    <a:moveTo>
                      <a:pt x="16" y="1301"/>
                    </a:moveTo>
                    <a:lnTo>
                      <a:pt x="60" y="1319"/>
                    </a:lnTo>
                    <a:lnTo>
                      <a:pt x="706" y="1319"/>
                    </a:lnTo>
                    <a:lnTo>
                      <a:pt x="758" y="1301"/>
                    </a:lnTo>
                    <a:lnTo>
                      <a:pt x="776" y="1249"/>
                    </a:lnTo>
                    <a:lnTo>
                      <a:pt x="775" y="409"/>
                    </a:lnTo>
                    <a:lnTo>
                      <a:pt x="751" y="344"/>
                    </a:lnTo>
                    <a:lnTo>
                      <a:pt x="718" y="311"/>
                    </a:lnTo>
                    <a:lnTo>
                      <a:pt x="669" y="278"/>
                    </a:lnTo>
                    <a:lnTo>
                      <a:pt x="611" y="246"/>
                    </a:lnTo>
                    <a:lnTo>
                      <a:pt x="555" y="229"/>
                    </a:lnTo>
                    <a:lnTo>
                      <a:pt x="555" y="0"/>
                    </a:lnTo>
                    <a:lnTo>
                      <a:pt x="227" y="0"/>
                    </a:lnTo>
                    <a:lnTo>
                      <a:pt x="227" y="229"/>
                    </a:lnTo>
                    <a:lnTo>
                      <a:pt x="170" y="246"/>
                    </a:lnTo>
                    <a:lnTo>
                      <a:pt x="121" y="278"/>
                    </a:lnTo>
                    <a:lnTo>
                      <a:pt x="71" y="311"/>
                    </a:lnTo>
                    <a:lnTo>
                      <a:pt x="31" y="360"/>
                    </a:lnTo>
                    <a:lnTo>
                      <a:pt x="0" y="404"/>
                    </a:lnTo>
                    <a:lnTo>
                      <a:pt x="3" y="1266"/>
                    </a:lnTo>
                    <a:lnTo>
                      <a:pt x="16" y="1301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AutoShape 102"/>
              <p:cNvSpPr/>
              <p:nvPr/>
            </p:nvSpPr>
            <p:spPr>
              <a:xfrm>
                <a:off x="5446800" y="4101840"/>
                <a:ext cx="280440" cy="630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lxq17"/>
          <p:cNvGrpSpPr/>
          <p:nvPr/>
        </p:nvGrpSpPr>
        <p:grpSpPr>
          <a:xfrm>
            <a:off x="4038480" y="3559320"/>
            <a:ext cx="216000" cy="1522080"/>
            <a:chOff x="4038480" y="3559320"/>
            <a:chExt cx="216000" cy="1522080"/>
          </a:xfrm>
        </p:grpSpPr>
        <p:sp>
          <p:nvSpPr>
            <p:cNvPr id="716" name="Freeform 104"/>
            <p:cNvSpPr/>
            <p:nvPr/>
          </p:nvSpPr>
          <p:spPr>
            <a:xfrm>
              <a:off x="4080240" y="3959280"/>
              <a:ext cx="127440" cy="1122120"/>
            </a:xfrm>
            <a:custGeom>
              <a:avLst/>
              <a:gdLst/>
              <a:ahLst/>
              <a:rect l="l" t="t" r="r" b="b"/>
              <a:pathLst>
                <a:path w="577" h="5534">
                  <a:moveTo>
                    <a:pt x="0" y="13"/>
                  </a:moveTo>
                  <a:lnTo>
                    <a:pt x="7" y="3618"/>
                  </a:lnTo>
                  <a:lnTo>
                    <a:pt x="202" y="4503"/>
                  </a:lnTo>
                  <a:lnTo>
                    <a:pt x="202" y="5470"/>
                  </a:lnTo>
                  <a:lnTo>
                    <a:pt x="288" y="5534"/>
                  </a:lnTo>
                  <a:lnTo>
                    <a:pt x="403" y="5470"/>
                  </a:lnTo>
                  <a:lnTo>
                    <a:pt x="397" y="4473"/>
                  </a:lnTo>
                  <a:lnTo>
                    <a:pt x="577" y="3588"/>
                  </a:lnTo>
                  <a:lnTo>
                    <a:pt x="57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10Oval 9"/>
            <p:cNvSpPr/>
            <p:nvPr/>
          </p:nvSpPr>
          <p:spPr>
            <a:xfrm>
              <a:off x="4038480" y="3559320"/>
              <a:ext cx="216000" cy="36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10Rectangle 10"/>
            <p:cNvSpPr/>
            <p:nvPr/>
          </p:nvSpPr>
          <p:spPr>
            <a:xfrm>
              <a:off x="4078800" y="3854880"/>
              <a:ext cx="135000" cy="205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10Line 18"/>
            <p:cNvSpPr/>
            <p:nvPr/>
          </p:nvSpPr>
          <p:spPr>
            <a:xfrm>
              <a:off x="4186800" y="406044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10Line 19"/>
            <p:cNvSpPr/>
            <p:nvPr/>
          </p:nvSpPr>
          <p:spPr>
            <a:xfrm flipH="1">
              <a:off x="4157640" y="4692240"/>
              <a:ext cx="28440" cy="57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y10Line 20"/>
            <p:cNvSpPr/>
            <p:nvPr/>
          </p:nvSpPr>
          <p:spPr>
            <a:xfrm>
              <a:off x="4186800" y="3877920"/>
              <a:ext cx="0" cy="18252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y10Arc 21"/>
            <p:cNvSpPr/>
            <p:nvPr/>
          </p:nvSpPr>
          <p:spPr>
            <a:xfrm>
              <a:off x="4159440" y="3604680"/>
              <a:ext cx="67320" cy="263880"/>
            </a:xfrm>
            <a:custGeom>
              <a:avLst/>
              <a:gdLst/>
              <a:ahLst/>
              <a:rect l="l" t="t" r="r" b="b"/>
              <a:pathLst>
                <a:path fill="none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</a:path>
                <a:path stroke="0" w="21600" h="4058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9523"/>
                    <a:pt x="17261" y="36811"/>
                    <a:pt x="10296" y="405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Rectangle 111"/>
          <p:cNvSpPr/>
          <p:nvPr/>
        </p:nvSpPr>
        <p:spPr>
          <a:xfrm>
            <a:off x="304920" y="3014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试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12"/>
          <p:cNvSpPr/>
          <p:nvPr/>
        </p:nvSpPr>
        <p:spPr>
          <a:xfrm>
            <a:off x="1263600" y="300204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试管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13"/>
          <p:cNvSpPr/>
          <p:nvPr/>
        </p:nvSpPr>
        <p:spPr>
          <a:xfrm>
            <a:off x="2590920" y="3014640"/>
            <a:ext cx="21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玻璃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14"/>
          <p:cNvSpPr/>
          <p:nvPr/>
        </p:nvSpPr>
        <p:spPr>
          <a:xfrm>
            <a:off x="4038480" y="294804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酒精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5"/>
          <p:cNvSpPr/>
          <p:nvPr/>
        </p:nvSpPr>
        <p:spPr>
          <a:xfrm>
            <a:off x="3276720" y="505764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胶头滴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6"/>
          <p:cNvSpPr/>
          <p:nvPr/>
        </p:nvSpPr>
        <p:spPr>
          <a:xfrm>
            <a:off x="5146560" y="5059440"/>
            <a:ext cx="15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滴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117"/>
          <p:cNvSpPr/>
          <p:nvPr/>
        </p:nvSpPr>
        <p:spPr>
          <a:xfrm>
            <a:off x="6553080" y="281952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铁架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包括铁夹和铁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118"/>
          <p:cNvSpPr/>
          <p:nvPr/>
        </p:nvSpPr>
        <p:spPr>
          <a:xfrm>
            <a:off x="380880" y="5027760"/>
            <a:ext cx="15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烧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19"/>
          <p:cNvSpPr/>
          <p:nvPr/>
        </p:nvSpPr>
        <p:spPr>
          <a:xfrm>
            <a:off x="5562720" y="2925720"/>
            <a:ext cx="15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量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20"/>
          <p:cNvSpPr/>
          <p:nvPr/>
        </p:nvSpPr>
        <p:spPr>
          <a:xfrm>
            <a:off x="1752480" y="505944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集气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21"/>
          <p:cNvSpPr/>
          <p:nvPr/>
        </p:nvSpPr>
        <p:spPr>
          <a:xfrm>
            <a:off x="1855800" y="517680"/>
            <a:ext cx="596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你能说出我的名字吗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22"/>
          <p:cNvGrpSpPr/>
          <p:nvPr/>
        </p:nvGrpSpPr>
        <p:grpSpPr>
          <a:xfrm>
            <a:off x="6552720" y="4245120"/>
            <a:ext cx="1505160" cy="784080"/>
            <a:chOff x="6552720" y="4245120"/>
            <a:chExt cx="1505160" cy="784080"/>
          </a:xfrm>
        </p:grpSpPr>
        <p:sp>
          <p:nvSpPr>
            <p:cNvPr id="735" name="hx8Arc 9"/>
            <p:cNvSpPr/>
            <p:nvPr/>
          </p:nvSpPr>
          <p:spPr>
            <a:xfrm flipH="1">
              <a:off x="6617520" y="4272120"/>
              <a:ext cx="1371240" cy="2707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38"/>
                    <a:pt x="9257" y="381"/>
                    <a:pt x="20912" y="10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38"/>
                    <a:pt x="9257" y="381"/>
                    <a:pt x="20912" y="10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hx8Arc 10"/>
            <p:cNvSpPr/>
            <p:nvPr/>
          </p:nvSpPr>
          <p:spPr>
            <a:xfrm flipH="1">
              <a:off x="6552360" y="4245120"/>
              <a:ext cx="1505160" cy="3247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11"/>
                    <a:pt x="9298" y="343"/>
                    <a:pt x="20981" y="8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11"/>
                    <a:pt x="9298" y="343"/>
                    <a:pt x="20981" y="8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hx8Line 15"/>
            <p:cNvSpPr/>
            <p:nvPr/>
          </p:nvSpPr>
          <p:spPr>
            <a:xfrm>
              <a:off x="6553080" y="4407480"/>
              <a:ext cx="0" cy="4374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hx8Line 16"/>
            <p:cNvSpPr/>
            <p:nvPr/>
          </p:nvSpPr>
          <p:spPr>
            <a:xfrm>
              <a:off x="8051760" y="4407480"/>
              <a:ext cx="0" cy="4579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hx8Arc 17"/>
            <p:cNvSpPr/>
            <p:nvPr/>
          </p:nvSpPr>
          <p:spPr>
            <a:xfrm flipH="1">
              <a:off x="6617520" y="4760640"/>
              <a:ext cx="1368360" cy="2419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29"/>
                    <a:pt x="9270" y="368"/>
                    <a:pt x="20936" y="10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929"/>
                    <a:pt x="9270" y="368"/>
                    <a:pt x="20936" y="10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hx8Arc 18"/>
            <p:cNvSpPr/>
            <p:nvPr/>
          </p:nvSpPr>
          <p:spPr>
            <a:xfrm flipH="1">
              <a:off x="6553080" y="4840560"/>
              <a:ext cx="1503360" cy="188640"/>
            </a:xfrm>
            <a:custGeom>
              <a:avLst/>
              <a:gdLst/>
              <a:ahLst/>
              <a:rect l="l" t="t" r="r" b="b"/>
              <a:pathLst>
                <a:path fill="none" w="43200" h="24360">
                  <a:moveTo>
                    <a:pt x="43022" y="0"/>
                  </a:moveTo>
                  <a:cubicBezTo>
                    <a:pt x="43140" y="915"/>
                    <a:pt x="43200" y="1837"/>
                    <a:pt x="43200" y="2760"/>
                  </a:cubicBezTo>
                  <a:cubicBezTo>
                    <a:pt x="43200" y="14689"/>
                    <a:pt x="33529" y="24360"/>
                    <a:pt x="21600" y="24360"/>
                  </a:cubicBezTo>
                  <a:cubicBezTo>
                    <a:pt x="9670" y="24360"/>
                    <a:pt x="0" y="14689"/>
                    <a:pt x="0" y="2760"/>
                  </a:cubicBezTo>
                  <a:cubicBezTo>
                    <a:pt x="-1" y="2589"/>
                    <a:pt x="2" y="2418"/>
                    <a:pt x="6" y="2248"/>
                  </a:cubicBezTo>
                </a:path>
                <a:path stroke="0" w="43200" h="24360">
                  <a:moveTo>
                    <a:pt x="43022" y="0"/>
                  </a:moveTo>
                  <a:cubicBezTo>
                    <a:pt x="43140" y="915"/>
                    <a:pt x="43200" y="1837"/>
                    <a:pt x="43200" y="2760"/>
                  </a:cubicBezTo>
                  <a:cubicBezTo>
                    <a:pt x="43200" y="14689"/>
                    <a:pt x="33529" y="24360"/>
                    <a:pt x="21600" y="24360"/>
                  </a:cubicBezTo>
                  <a:cubicBezTo>
                    <a:pt x="9670" y="24360"/>
                    <a:pt x="0" y="14689"/>
                    <a:pt x="0" y="2760"/>
                  </a:cubicBezTo>
                  <a:cubicBezTo>
                    <a:pt x="-1" y="2589"/>
                    <a:pt x="2" y="2418"/>
                    <a:pt x="6" y="2248"/>
                  </a:cubicBezTo>
                  <a:lnTo>
                    <a:pt x="21600" y="2760"/>
                  </a:lnTo>
                  <a:lnTo>
                    <a:pt x="4302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hx8Line 19"/>
            <p:cNvSpPr/>
            <p:nvPr/>
          </p:nvSpPr>
          <p:spPr>
            <a:xfrm>
              <a:off x="7986600" y="4542840"/>
              <a:ext cx="0" cy="270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hx8Line 20"/>
            <p:cNvSpPr/>
            <p:nvPr/>
          </p:nvSpPr>
          <p:spPr>
            <a:xfrm>
              <a:off x="7921440" y="4542840"/>
              <a:ext cx="0" cy="2433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hx8Line 21"/>
            <p:cNvSpPr/>
            <p:nvPr/>
          </p:nvSpPr>
          <p:spPr>
            <a:xfrm>
              <a:off x="7856280" y="4569840"/>
              <a:ext cx="0" cy="1893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hx8Line 22"/>
            <p:cNvSpPr/>
            <p:nvPr/>
          </p:nvSpPr>
          <p:spPr>
            <a:xfrm>
              <a:off x="7791120" y="4569840"/>
              <a:ext cx="0" cy="16236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hx8Line 23"/>
            <p:cNvSpPr/>
            <p:nvPr/>
          </p:nvSpPr>
          <p:spPr>
            <a:xfrm>
              <a:off x="7725960" y="4596840"/>
              <a:ext cx="0" cy="1080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hx8Line 24"/>
            <p:cNvSpPr/>
            <p:nvPr/>
          </p:nvSpPr>
          <p:spPr>
            <a:xfrm>
              <a:off x="7660800" y="4596840"/>
              <a:ext cx="0" cy="10800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hx8Line 25"/>
            <p:cNvSpPr/>
            <p:nvPr/>
          </p:nvSpPr>
          <p:spPr>
            <a:xfrm>
              <a:off x="6618240" y="4515840"/>
              <a:ext cx="0" cy="351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hx8Line 26"/>
            <p:cNvSpPr/>
            <p:nvPr/>
          </p:nvSpPr>
          <p:spPr>
            <a:xfrm>
              <a:off x="6683400" y="4542840"/>
              <a:ext cx="0" cy="270720"/>
            </a:xfrm>
            <a:prstGeom prst="line">
              <a:avLst/>
            </a:prstGeom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Rectangle 137"/>
          <p:cNvSpPr/>
          <p:nvPr/>
        </p:nvSpPr>
        <p:spPr>
          <a:xfrm>
            <a:off x="6781680" y="5029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水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1366200" y="1330200"/>
            <a:ext cx="28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实验室药品取用规则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04920" y="2071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取用药品，应注意节约，如果没有说明用量，一般应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取用，液体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固体只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4267080" y="2603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最少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990720" y="310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1-2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4716360" y="3147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盖满试管的底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380880" y="374796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实验剩余的药品要放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既不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不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不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5707080" y="371484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指定的容器内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1981080" y="4248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放回原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6172200" y="4280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随意丢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2286000" y="481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拿出实验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1143000" y="6032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用水冲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380880" y="5500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实验时不小心将药液溅到眼中，首先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4"/>
          <p:cNvSpPr/>
          <p:nvPr/>
        </p:nvSpPr>
        <p:spPr>
          <a:xfrm>
            <a:off x="468360" y="189000"/>
            <a:ext cx="4103640" cy="703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、药品的取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1186920" y="763560"/>
            <a:ext cx="33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）固体药品的取用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533520" y="1735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固体药品通常保存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里，取用固体药品一般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有些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块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药品可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夹取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5638680" y="1735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广口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4724280" y="2313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药匙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或纸槽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5029200" y="2801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镊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1066680" y="36576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镊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1066680" y="45417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药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1066680" y="5562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纸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2362320" y="36576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于稍大的块状固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2362320" y="45878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于颗粒或粉末状的固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2286000" y="56088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用于颗粒或粉末状的固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10:55:46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9-12-05T03:22:39Z</dcterms:modified>
  <cp:revision>10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9</vt:lpwstr>
  </property>
</Properties>
</file>