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0C4-E10A-4F9A-B839-128D6C43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7EB-4265-4F5E-8AA3-6E64CBE6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C2A96-4317-47D6-B8C6-772C6B71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FC860-B3FC-46A4-9A82-08D43398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CCAFF-8642-48FE-A218-E542F631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1A7F6-68BC-4701-97B7-CAB8B788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D0FD8-C47A-4A7B-BD20-A612A0E6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C0C9F-1999-46B5-84D8-3009021B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51DF2-5444-4E3A-BFDA-8EBCFE82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FBC77-5A31-40A4-9632-76996E07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57335-FC8C-4A9D-B61C-3BB7D7D4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C3FCA-09F7-4C0E-81CA-94330DE7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DEE-8B40-4808-B369-81F863CC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15647-73CA-4CDA-B32D-8F24D685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2A1E5-3957-4663-893B-8A8A59A7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FB165-FB29-405F-9978-2C0AF61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D1113-0339-45DE-8381-17E3012B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6F189-6CC8-4221-B063-0C401FEC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88864-1907-4E53-92F0-853A69FF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A672C-DEE8-41C6-B194-48DDCE2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5371C-6542-4CCF-BCE3-FBEED241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A672F-AD52-4BE3-B061-7239A990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494F8-19D8-4E4E-B57B-5DF49A49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65C-D652-4FC8-AC8E-5BFC1663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C51FE-74D8-4B28-B23F-BF927D20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F655F-9257-4A0A-8546-5F1F6268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EC903-7925-4B2A-BBCF-6639943E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0F42B-FE38-4F96-9D71-EC22D8C6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64A88-B4A9-478D-B252-DE19C0C5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D2337-F4CE-460A-928F-8990D5D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43ACD-60DD-4B46-8374-9A2FCDF7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AE89D-CBDB-4A07-A16E-FCF6ACEC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C6135-47FE-4207-84FC-3476EB12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4F1E-9A33-4224-9D0B-5E05D844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0120-8561-432B-B288-A6158BCF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3FC54-1C1D-4E7F-B048-1EBBF62B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36E4D-8AEA-4D4F-9D60-20282092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A0615-1F73-4614-B845-9B405D79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F89CF-9DA9-46DF-AF9F-96389CFE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A9C2B-DA69-41CC-9FC1-F5F0DC8E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F4DD1-93D2-4D1D-BD32-DA301A0B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ECB39-5F6C-4629-8D3D-BB0139F8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9EE61-425F-4EEB-BB8F-8240D5BD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288BE-F686-4100-B744-F72A5374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5F786-23AC-4A93-B238-922A0A2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5D7A-DAAB-4449-B945-8939FE63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F91DC-F98E-4BDB-B5C3-7194B0BD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168D2-2C71-4464-829A-165D785D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FB30E-5767-478B-B4E7-9647A1DA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66F7F-A104-4336-BBDE-2E0818DA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50C7F-2806-4C99-9769-D0668CC7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F7D5E-3DC1-4379-A9A5-C652804E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78888-EF48-4980-BB2D-503B962D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D70FE-594B-4452-8C86-0F77D82C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BE3432-91F5-4463-9546-12FE6AD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D7BD0-4123-4068-84DF-3AF51CD9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76DB-C2E1-4A9D-A845-6EF34B98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1ECA9-DB23-4EAF-B5C2-CAE1534C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8846A-E43B-4D93-940D-F6A65547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63CE9-3DA6-4CFA-B9D4-84053FD7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816D3-E0C6-49C6-8663-9963768D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4EF3B-249F-44F5-92CC-3FC9FE5B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3768B-4C96-44A2-BFCC-4E390DC8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F98D6-BB92-4947-89F6-9B5E51CF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4467-7998-485B-8468-BC2628CD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988B-D50F-4D6E-A071-D8E94941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CF2C-816E-4CDD-B4A3-B6438DAF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0D04-7BDA-41B4-893E-43E6438A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43D-78CC-4482-9E94-1E422E8A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AE69-3C11-445D-8FEF-0F83C053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047B-B891-4FE4-AFFC-9940F03A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1502-A3DF-417E-9BF0-E5602C70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B219-5915-414B-81EA-D6C099DC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5683-FB43-4065-B475-4649A84E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4959-EBAB-40BB-8040-E7B07C89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AE75-8685-4609-8CF9-D828D7FC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D83F-C82B-41FF-90ED-F23638A6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C7FD3-2475-4C93-A6DA-4CDF2261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41DD-5332-4868-9162-B2C49898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FB3-10B5-4E54-85B7-6960732A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1991-563A-4F6A-A99A-52B84C89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077E9-FB20-4FB4-AC2B-41D68358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52CB-C61A-4F36-B8C9-54EB5EE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5001-818B-4485-B9A6-647CCD46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4D80-3248-44D7-948A-A543C3A3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464B-359C-4D6E-A058-AFD9311D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992F-BF68-4FA0-B039-BFBE6DD0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B2A0-22DC-4ABC-9BB0-529473A0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2B82D-B015-49D9-80B1-02450FDC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E8A6-578E-4E90-8B33-C38B51D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AAD-B523-412E-8084-BCFA45C9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7BDD-BA8A-42A4-8881-D50211AD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87D81-2771-473A-93A5-76B21354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0DA3-6A7B-45C8-8A53-A2E69B98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0B57D-8E78-4965-B245-C72021EC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0D1E-A8FB-46A1-B5C7-5EF57F0F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EE69-5558-4024-947A-34E63958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33BC-8C7D-44D2-B926-9841171E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FCE69-DB97-4B3B-876D-CF4E7AB1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908C6-3988-4079-A726-E24BA380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DF07-3771-48CD-8E60-7E461912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78D-EFC2-4D21-9300-9A73F970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96080-5CD9-4BAE-B64D-E17BA471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5FF2F-CB7C-4F05-A017-06B407D2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9607D-B922-4306-8412-40219C6D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1D515-B7ED-4E2E-A97E-34C88AEA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47C49-7AD0-4360-A71D-0A887B7D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02B0-AF45-43C7-A43D-CA04FBD4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81DEE-983D-4FAE-AF63-8BCA4218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2F792-01A6-4671-9731-838CB1AA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193E-BC5E-4990-9367-30D4A318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5EBDB-7CCB-45D0-889F-D86A8A72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0B1-C144-45EA-8EE4-0BD53ABC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43A63-F8DD-4B31-865E-0A1232BB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1B6F1-CEFC-45ED-9AFA-D325064B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6C713-2F5B-48C9-BF29-D224F7F0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4D090-D14E-4343-912C-39130AD3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8059E-3CE6-42FE-8659-2C92E271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647B-E5DB-40AA-AC05-C3DE737D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E16B2-FFEF-4114-94EA-F00EF4E8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48D82-371A-4B24-8874-893A18F3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6DFB-9478-4C1F-827C-F12962C1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4059D-C370-4157-99D7-014B3342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55E-7CF1-4967-AEC9-B2696D83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DD895-E38E-47B5-9588-F6F593A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DF2C4-A735-414C-963F-853732C7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8F4C6-A731-433D-A3E3-2F48B48A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5B717-A8EC-47C8-AD32-F22A6706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B0B85-9513-43B0-AF50-C7AA787C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3D5CE-ECF6-47E2-9782-F32F7CBC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A230B-10F4-403A-BCF3-6F42CED9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A7888-88AE-42BF-9526-9B714DA6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F34D8-2978-49B0-878C-568AFD9F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03A11-5BA2-45D1-9769-84A2A19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75C-56A6-4ACF-8D39-7844C42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F999-0BBA-4203-A033-2228A95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92EF1-6D8E-4D9E-9096-B43789FA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20156-E83C-42DC-B740-0A459E9C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04FD9-3D81-42A1-B564-12575477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A69B0-F8E3-4AB9-B687-A19CA238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E3E89-A7B3-4471-BAD5-4E240DD6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779F7-7A9D-463D-A24E-B0C12280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AC7D0-F3E2-479A-B07C-4C51B3C7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C16C9-ABF0-44AD-9CF4-68148F47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23DFE-C54F-44B7-AF36-613D5F57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0C25-4F55-4E1E-8983-5A32CB2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951DA-E701-4D32-862F-77665B68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2F8B9-5FA5-4C3E-B734-142C2A8D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255A3-5113-4B8F-945D-A8178B78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19753-5E0E-425A-BB12-7AA655DA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373ED-F104-43AC-9CD3-F17F18EE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64E20-C6FC-454A-BDD5-1C1C9854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229FE-8626-4F7D-AB09-1711C066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C0CF7-F911-435C-B7C3-482C85C6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6CED7-ED36-4F63-B36A-F85A0243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D64A0-0BC0-451D-B5ED-7777FC1A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760" y="36813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70080" y="37256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0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4936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760" y="47894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70080" y="48337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1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4936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760" y="57992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70080" y="58435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499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4936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960" y="419904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4280" y="42433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4972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356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960" y="530712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4280" y="535140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780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356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960" y="6357960"/>
              <a:ext cx="4248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4280" y="6402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8640"/>
              <a:ext cx="88920" cy="1872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356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1680" cy="190944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92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3400" y="1056960"/>
                <a:ext cx="163800" cy="28728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2240" y="479160"/>
                <a:ext cx="534960" cy="24264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960"/>
                <a:ext cx="383760" cy="3906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160" y="752040"/>
                <a:ext cx="301680" cy="1807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12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8240"/>
                <a:ext cx="54756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6680" y="1160640"/>
                <a:ext cx="44244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7880" y="124884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4520" y="1102680"/>
                <a:ext cx="258480" cy="64944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D331-AB4A-4174-B210-94C8E8C7A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554E-2317-482C-BF6F-DCA7FD7BFF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F373-8073-4CA2-8CBB-3FE3175E78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3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3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8FDA-57E0-4301-B2BA-FFDD79AFC2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3847-1B3D-49AF-8ADB-D8A8A35141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0121-1DFE-4237-849F-2992BF98E1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141160" y="1036080"/>
              <a:ext cx="10962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385680" y="2482920"/>
              <a:ext cx="78912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7986960" y="2661480"/>
              <a:ext cx="93600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440D-BAA2-4B01-ABF7-EE767830CE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C8EF-F87F-4775-988E-1BB60E4657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299-EB48-49BF-B9B8-8B9F58FD58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CE98-A463-4061-9BCD-9E943C1284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6149-780C-4052-A505-6CE03DEC99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E286-2F9C-435C-ACC2-A03C0F3A42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577F-4AC4-4F91-9914-B913F4F379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4"/>
          <p:cNvSpPr/>
          <p:nvPr/>
        </p:nvSpPr>
        <p:spPr>
          <a:xfrm>
            <a:off x="91440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7"/>
          <p:cNvSpPr/>
          <p:nvPr/>
        </p:nvSpPr>
        <p:spPr>
          <a:xfrm>
            <a:off x="2133720" y="1897200"/>
            <a:ext cx="548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WordArt 8" descr=""/>
          <p:cNvPicPr/>
          <p:nvPr/>
        </p:nvPicPr>
        <p:blipFill>
          <a:blip r:embed="rId1"/>
          <a:stretch/>
        </p:blipFill>
        <p:spPr>
          <a:xfrm>
            <a:off x="380880" y="1901880"/>
            <a:ext cx="8155080" cy="2811240"/>
          </a:xfrm>
          <a:prstGeom prst="rect">
            <a:avLst/>
          </a:prstGeom>
          <a:ln w="0">
            <a:noFill/>
          </a:ln>
        </p:spPr>
      </p:pic>
      <p:sp>
        <p:nvSpPr>
          <p:cNvPr id="957" name="矩形 7"/>
          <p:cNvSpPr/>
          <p:nvPr/>
        </p:nvSpPr>
        <p:spPr>
          <a:xfrm>
            <a:off x="2590200" y="5943600"/>
            <a:ext cx="4192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品下载网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j9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1"/>
          <p:cNvSpPr/>
          <p:nvPr/>
        </p:nvSpPr>
        <p:spPr>
          <a:xfrm>
            <a:off x="3244680" y="1077840"/>
            <a:ext cx="28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三单元　物质构成的奥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2"/>
          <p:cNvSpPr/>
          <p:nvPr/>
        </p:nvSpPr>
        <p:spPr>
          <a:xfrm>
            <a:off x="990720" y="3657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生物细胞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含量居前四位的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1295280" y="4572000"/>
          <a:ext cx="6095880" cy="18464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901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元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质量分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0" name="Text Box 23"/>
          <p:cNvSpPr/>
          <p:nvPr/>
        </p:nvSpPr>
        <p:spPr>
          <a:xfrm>
            <a:off x="609480" y="45720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、地壳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含量居前四位的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1219320" y="1371600"/>
          <a:ext cx="6095880" cy="18464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901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元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质量分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8.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、物质都是由元素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组成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的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0492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致癌物苏丹红一号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元素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酒精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H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元素组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1678320" y="19810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5"/>
          <p:cNvSpPr/>
          <p:nvPr/>
        </p:nvSpPr>
        <p:spPr>
          <a:xfrm>
            <a:off x="5013360" y="268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6021720" y="3276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 txBox="1"/>
          <p:nvPr/>
        </p:nvSpPr>
        <p:spPr>
          <a:xfrm>
            <a:off x="75960" y="990360"/>
            <a:ext cx="89154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物质是由微粒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子、原子、离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构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的物质由分子构成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Arial"/>
              </a:rPr>
              <a:t>2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Arial"/>
              </a:rPr>
              <a:t>2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的物质由原子构成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e  Hg  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的物质由离子构成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NaCl  CuSO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974880" y="26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2"/>
          <p:cNvSpPr/>
          <p:nvPr/>
        </p:nvSpPr>
        <p:spPr>
          <a:xfrm>
            <a:off x="7467480" y="2819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黑体"/>
              </a:rPr>
              <a:t>元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3"/>
          <p:cNvSpPr/>
          <p:nvPr/>
        </p:nvSpPr>
        <p:spPr>
          <a:xfrm>
            <a:off x="5029200" y="2895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黑体"/>
              </a:rPr>
              <a:t>物质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4"/>
          <p:cNvSpPr/>
          <p:nvPr/>
        </p:nvSpPr>
        <p:spPr>
          <a:xfrm>
            <a:off x="1371600" y="1295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黑体"/>
              </a:rPr>
              <a:t>分子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5"/>
          <p:cNvSpPr/>
          <p:nvPr/>
        </p:nvSpPr>
        <p:spPr>
          <a:xfrm>
            <a:off x="7315200" y="380988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  <a:ea typeface="宋体"/>
              </a:rPr>
              <a:t>宏观组成</a:t>
            </a:r>
            <a:r>
              <a:rPr b="0" lang="zh-CN" sz="2400" spc="-1" strike="noStrike">
                <a:solidFill>
                  <a:srgbClr val="003300"/>
                </a:solidFill>
                <a:latin typeface="宋体"/>
                <a:ea typeface="宋体"/>
              </a:rPr>
              <a:t>：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6"/>
          <p:cNvSpPr/>
          <p:nvPr/>
        </p:nvSpPr>
        <p:spPr>
          <a:xfrm>
            <a:off x="7315200" y="4419720"/>
            <a:ext cx="1628640" cy="1015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只讲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讲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7"/>
          <p:cNvSpPr/>
          <p:nvPr/>
        </p:nvSpPr>
        <p:spPr>
          <a:xfrm>
            <a:off x="533520" y="5486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微观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8"/>
          <p:cNvSpPr/>
          <p:nvPr/>
        </p:nvSpPr>
        <p:spPr>
          <a:xfrm>
            <a:off x="2133720" y="5410080"/>
            <a:ext cx="1682640" cy="1015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既讲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又讲个数</a:t>
            </a: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9"/>
          <p:cNvSpPr/>
          <p:nvPr/>
        </p:nvSpPr>
        <p:spPr>
          <a:xfrm>
            <a:off x="1447920" y="28954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黑体"/>
              </a:rPr>
              <a:t>原子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0"/>
          <p:cNvSpPr/>
          <p:nvPr/>
        </p:nvSpPr>
        <p:spPr>
          <a:xfrm>
            <a:off x="1371600" y="45720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黑体"/>
              </a:rPr>
              <a:t>离子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1"/>
          <p:cNvSpPr/>
          <p:nvPr/>
        </p:nvSpPr>
        <p:spPr>
          <a:xfrm>
            <a:off x="2743200" y="3200400"/>
            <a:ext cx="2133720" cy="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2"/>
          <p:cNvSpPr/>
          <p:nvPr/>
        </p:nvSpPr>
        <p:spPr>
          <a:xfrm flipH="1">
            <a:off x="6248520" y="3124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3"/>
          <p:cNvSpPr/>
          <p:nvPr/>
        </p:nvSpPr>
        <p:spPr>
          <a:xfrm flipV="1">
            <a:off x="2743200" y="3580920"/>
            <a:ext cx="2362320" cy="129564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4"/>
          <p:cNvSpPr/>
          <p:nvPr/>
        </p:nvSpPr>
        <p:spPr>
          <a:xfrm>
            <a:off x="2590920" y="1600200"/>
            <a:ext cx="2286000" cy="121932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5"/>
          <p:cNvSpPr/>
          <p:nvPr/>
        </p:nvSpPr>
        <p:spPr>
          <a:xfrm flipV="1">
            <a:off x="1905120" y="1904760"/>
            <a:ext cx="0" cy="99036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6"/>
          <p:cNvSpPr/>
          <p:nvPr/>
        </p:nvSpPr>
        <p:spPr>
          <a:xfrm>
            <a:off x="2133720" y="1905120"/>
            <a:ext cx="0" cy="99036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17"/>
          <p:cNvSpPr/>
          <p:nvPr/>
        </p:nvSpPr>
        <p:spPr>
          <a:xfrm flipV="1">
            <a:off x="1828800" y="3581280"/>
            <a:ext cx="0" cy="106704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18"/>
          <p:cNvSpPr/>
          <p:nvPr/>
        </p:nvSpPr>
        <p:spPr>
          <a:xfrm>
            <a:off x="2133720" y="3657600"/>
            <a:ext cx="0" cy="99072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9"/>
          <p:cNvSpPr/>
          <p:nvPr/>
        </p:nvSpPr>
        <p:spPr>
          <a:xfrm flipV="1">
            <a:off x="8001000" y="1828800"/>
            <a:ext cx="0" cy="99072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0"/>
          <p:cNvSpPr/>
          <p:nvPr/>
        </p:nvSpPr>
        <p:spPr>
          <a:xfrm>
            <a:off x="7010280" y="1066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  <a:ea typeface="黑体"/>
              </a:rPr>
              <a:t>元素符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1"/>
          <p:cNvSpPr/>
          <p:nvPr/>
        </p:nvSpPr>
        <p:spPr>
          <a:xfrm flipH="1">
            <a:off x="6019560" y="13716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2"/>
          <p:cNvSpPr/>
          <p:nvPr/>
        </p:nvSpPr>
        <p:spPr>
          <a:xfrm>
            <a:off x="4724280" y="990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00"/>
                </a:solidFill>
                <a:latin typeface="Times New Roman"/>
                <a:ea typeface="黑体"/>
              </a:rPr>
              <a:t>化学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3"/>
          <p:cNvSpPr/>
          <p:nvPr/>
        </p:nvSpPr>
        <p:spPr>
          <a:xfrm>
            <a:off x="5562720" y="1676520"/>
            <a:ext cx="0" cy="1295280"/>
          </a:xfrm>
          <a:prstGeom prst="line">
            <a:avLst/>
          </a:prstGeom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24"/>
          <p:cNvSpPr/>
          <p:nvPr/>
        </p:nvSpPr>
        <p:spPr>
          <a:xfrm>
            <a:off x="5638680" y="0"/>
            <a:ext cx="0" cy="6858000"/>
          </a:xfrm>
          <a:prstGeom prst="line">
            <a:avLst/>
          </a:prstGeom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5"/>
          <p:cNvSpPr/>
          <p:nvPr/>
        </p:nvSpPr>
        <p:spPr>
          <a:xfrm>
            <a:off x="327744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黑体"/>
              </a:rPr>
              <a:t>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6"/>
          <p:cNvSpPr/>
          <p:nvPr/>
        </p:nvSpPr>
        <p:spPr>
          <a:xfrm>
            <a:off x="6516720" y="263700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黑体"/>
              </a:rPr>
              <a:t>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75960" y="990360"/>
            <a:ext cx="89154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子、原子、离子既有种类，也有个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水分子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H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氧分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5O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铁原子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3F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硫原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钠离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0Na</a:t>
            </a:r>
            <a:r>
              <a:rPr b="1" lang="zh-CN" sz="36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铝离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5Al</a:t>
            </a:r>
            <a:r>
              <a:rPr b="1" lang="zh-CN" sz="3600" spc="-1" strike="noStrike" baseline="30000">
                <a:solidFill>
                  <a:srgbClr val="0000ff"/>
                </a:solidFill>
                <a:latin typeface="Arial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硫酸根离子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nSO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 baseline="30000">
                <a:solidFill>
                  <a:srgbClr val="0000ff"/>
                </a:solidFill>
                <a:latin typeface="Arial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3"/>
          <p:cNvSpPr/>
          <p:nvPr/>
        </p:nvSpPr>
        <p:spPr>
          <a:xfrm>
            <a:off x="974880" y="26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4"/>
          <p:cNvSpPr/>
          <p:nvPr/>
        </p:nvSpPr>
        <p:spPr>
          <a:xfrm>
            <a:off x="152280" y="5105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元素的性质起决于原子的核外电子排布，特别是最外层电子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228600" y="5943600"/>
            <a:ext cx="79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元素与健康：钙   铁   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关于物质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组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构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说法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533520" y="23587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由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构成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构成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个分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由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构成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说出下列物质的组成和构成情况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4"/>
          <p:cNvSpPr/>
          <p:nvPr/>
        </p:nvSpPr>
        <p:spPr>
          <a:xfrm>
            <a:off x="2971800" y="2286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宋体"/>
              </a:rPr>
              <a:t>分子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宋体"/>
              </a:rPr>
              <a:t>或原子或离子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5"/>
          <p:cNvSpPr/>
          <p:nvPr/>
        </p:nvSpPr>
        <p:spPr>
          <a:xfrm>
            <a:off x="3200400" y="2438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6"/>
          <p:cNvSpPr/>
          <p:nvPr/>
        </p:nvSpPr>
        <p:spPr>
          <a:xfrm>
            <a:off x="2971800" y="1447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7"/>
          <p:cNvSpPr/>
          <p:nvPr/>
        </p:nvSpPr>
        <p:spPr>
          <a:xfrm>
            <a:off x="31240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8"/>
          <p:cNvSpPr/>
          <p:nvPr/>
        </p:nvSpPr>
        <p:spPr>
          <a:xfrm>
            <a:off x="3886200" y="3581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几个什么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9"/>
          <p:cNvSpPr/>
          <p:nvPr/>
        </p:nvSpPr>
        <p:spPr>
          <a:xfrm>
            <a:off x="533520" y="1600200"/>
            <a:ext cx="60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物质是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组成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2"/>
          <p:cNvSpPr/>
          <p:nvPr/>
        </p:nvSpPr>
        <p:spPr>
          <a:xfrm>
            <a:off x="609480" y="533520"/>
            <a:ext cx="82296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叙述物质的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组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构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时应注意前后对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质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元素组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质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原子构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原子构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分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原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*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原子构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3"/>
          <p:cNvSpPr/>
          <p:nvPr/>
        </p:nvSpPr>
        <p:spPr>
          <a:xfrm>
            <a:off x="152280" y="914400"/>
            <a:ext cx="685800" cy="280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2"/>
          <p:cNvSpPr/>
          <p:nvPr/>
        </p:nvSpPr>
        <p:spPr>
          <a:xfrm>
            <a:off x="-223920" y="152280"/>
            <a:ext cx="93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质的组成和物质的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0" y="1905120"/>
            <a:ext cx="61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氧气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氧气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氧分子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氧分子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0" y="2514600"/>
            <a:ext cx="7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281952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氧元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2971800" y="2362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3048120" y="2895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氧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2819520" y="33526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个氧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4952880" y="685800"/>
            <a:ext cx="13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5715000" y="0"/>
            <a:ext cx="5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6095880" y="304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组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7238880" y="304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6095880" y="914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构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4"/>
          <p:cNvSpPr/>
          <p:nvPr/>
        </p:nvSpPr>
        <p:spPr>
          <a:xfrm>
            <a:off x="6934320" y="914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子、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5"/>
          <p:cNvSpPr/>
          <p:nvPr/>
        </p:nvSpPr>
        <p:spPr>
          <a:xfrm>
            <a:off x="5486400" y="1676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分子构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6"/>
          <p:cNvSpPr/>
          <p:nvPr/>
        </p:nvSpPr>
        <p:spPr>
          <a:xfrm>
            <a:off x="746748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7"/>
          <p:cNvSpPr/>
          <p:nvPr/>
        </p:nvSpPr>
        <p:spPr>
          <a:xfrm>
            <a:off x="5791320" y="23162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一个分子构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8"/>
          <p:cNvSpPr/>
          <p:nvPr/>
        </p:nvSpPr>
        <p:spPr>
          <a:xfrm>
            <a:off x="693432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几个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19"/>
          <p:cNvSpPr/>
          <p:nvPr/>
        </p:nvSpPr>
        <p:spPr>
          <a:xfrm>
            <a:off x="0" y="4343400"/>
            <a:ext cx="975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二氧化碳是由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____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氧化碳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氧化碳分子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二氧化碳分子是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0"/>
          <p:cNvSpPr/>
          <p:nvPr/>
        </p:nvSpPr>
        <p:spPr>
          <a:xfrm>
            <a:off x="0" y="5029200"/>
            <a:ext cx="121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1"/>
          <p:cNvSpPr/>
          <p:nvPr/>
        </p:nvSpPr>
        <p:spPr>
          <a:xfrm>
            <a:off x="3429000" y="41148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碳元素、氧元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2"/>
          <p:cNvSpPr/>
          <p:nvPr/>
        </p:nvSpPr>
        <p:spPr>
          <a:xfrm>
            <a:off x="3505320" y="4800600"/>
            <a:ext cx="32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氧化碳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3"/>
          <p:cNvSpPr/>
          <p:nvPr/>
        </p:nvSpPr>
        <p:spPr>
          <a:xfrm>
            <a:off x="4267080" y="5334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碳原子、氧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4"/>
          <p:cNvSpPr/>
          <p:nvPr/>
        </p:nvSpPr>
        <p:spPr>
          <a:xfrm>
            <a:off x="4038480" y="58672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碳原子、两个氧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 txBox="1"/>
          <p:nvPr/>
        </p:nvSpPr>
        <p:spPr>
          <a:xfrm>
            <a:off x="228600" y="1599840"/>
            <a:ext cx="8763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说出下列物质的组成和构成情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S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CO    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2"/>
          <p:cNvSpPr/>
          <p:nvPr/>
        </p:nvSpPr>
        <p:spPr>
          <a:xfrm>
            <a:off x="380880" y="0"/>
            <a:ext cx="87631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列说法是否正确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 水是由氢原子和氧原子构成的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水是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氢元素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氧元素组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 水分子是由氢元素和氧元素组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一个水分子是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氢原子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氧原子组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3"/>
          <p:cNvSpPr/>
          <p:nvPr/>
        </p:nvSpPr>
        <p:spPr>
          <a:xfrm>
            <a:off x="914400" y="12193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错，水是由水分子构成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4"/>
          <p:cNvSpPr/>
          <p:nvPr/>
        </p:nvSpPr>
        <p:spPr>
          <a:xfrm>
            <a:off x="1600200" y="27432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错，元素不讲个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5"/>
          <p:cNvSpPr/>
          <p:nvPr/>
        </p:nvSpPr>
        <p:spPr>
          <a:xfrm>
            <a:off x="1066680" y="4114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错，宏观、微观搭配不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6"/>
          <p:cNvSpPr/>
          <p:nvPr/>
        </p:nvSpPr>
        <p:spPr>
          <a:xfrm>
            <a:off x="1219320" y="58672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错，微观是讲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构成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而不是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组成物质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的基本成分</a:t>
            </a: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元素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533520" y="13712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前人们已经发现的物质种类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万种，但人们已经发现的元素只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余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 Box 2"/>
          <p:cNvSpPr/>
          <p:nvPr/>
        </p:nvSpPr>
        <p:spPr>
          <a:xfrm>
            <a:off x="457200" y="304920"/>
            <a:ext cx="762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例 题： 判 断 下 列 说 法 是 否 正 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3"/>
          <p:cNvSpPr/>
          <p:nvPr/>
        </p:nvSpPr>
        <p:spPr>
          <a:xfrm>
            <a:off x="-528480" y="1219320"/>
            <a:ext cx="96724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１、 汞 是 由 大 量 的 汞 原 子 构 成     （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２、 氧 化 汞 分 子 是 由  汞 原 子 和 氧 原 子 构 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〔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３、 氧 分 子 是 由  氧 原 子 构 成               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４、 一 个  氧 分 子 里 含 有 两 个 氧 原 子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５、 原 子 是 最 小 的 粒 子                 （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６、 在 化 学 变 化 中 分 子 可 分 成 原 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〔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4"/>
          <p:cNvSpPr/>
          <p:nvPr/>
        </p:nvSpPr>
        <p:spPr>
          <a:xfrm>
            <a:off x="7238880" y="12193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5"/>
          <p:cNvSpPr/>
          <p:nvPr/>
        </p:nvSpPr>
        <p:spPr>
          <a:xfrm>
            <a:off x="3962520" y="2438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6"/>
          <p:cNvSpPr/>
          <p:nvPr/>
        </p:nvSpPr>
        <p:spPr>
          <a:xfrm>
            <a:off x="7696080" y="3200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7772400" y="396252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8"/>
          <p:cNvSpPr/>
          <p:nvPr/>
        </p:nvSpPr>
        <p:spPr>
          <a:xfrm>
            <a:off x="7238880" y="464832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9"/>
          <p:cNvSpPr/>
          <p:nvPr/>
        </p:nvSpPr>
        <p:spPr>
          <a:xfrm>
            <a:off x="7924680" y="54100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3"/>
          <p:cNvSpPr/>
          <p:nvPr/>
        </p:nvSpPr>
        <p:spPr>
          <a:xfrm>
            <a:off x="76320" y="230760"/>
            <a:ext cx="9067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、元素分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金属元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-N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都有金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汞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H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除外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非金属元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是石、气、三点水等偏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稀有气体元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---H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K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Rn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气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4"/>
          <p:cNvSpPr/>
          <p:nvPr/>
        </p:nvSpPr>
        <p:spPr>
          <a:xfrm>
            <a:off x="3263040" y="98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5"/>
          <p:cNvSpPr/>
          <p:nvPr/>
        </p:nvSpPr>
        <p:spPr>
          <a:xfrm>
            <a:off x="4329720" y="98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6"/>
          <p:cNvSpPr/>
          <p:nvPr/>
        </p:nvSpPr>
        <p:spPr>
          <a:xfrm>
            <a:off x="6158520" y="9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7"/>
          <p:cNvSpPr/>
          <p:nvPr/>
        </p:nvSpPr>
        <p:spPr>
          <a:xfrm>
            <a:off x="3415320" y="2589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8"/>
          <p:cNvSpPr/>
          <p:nvPr/>
        </p:nvSpPr>
        <p:spPr>
          <a:xfrm>
            <a:off x="4178160" y="2589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9"/>
          <p:cNvSpPr/>
          <p:nvPr/>
        </p:nvSpPr>
        <p:spPr>
          <a:xfrm>
            <a:off x="5000400" y="261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10"/>
          <p:cNvSpPr/>
          <p:nvPr/>
        </p:nvSpPr>
        <p:spPr>
          <a:xfrm>
            <a:off x="5762520" y="261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11"/>
          <p:cNvSpPr/>
          <p:nvPr/>
        </p:nvSpPr>
        <p:spPr>
          <a:xfrm>
            <a:off x="6540480" y="2589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2"/>
          <p:cNvSpPr/>
          <p:nvPr/>
        </p:nvSpPr>
        <p:spPr>
          <a:xfrm>
            <a:off x="7378560" y="2589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13"/>
          <p:cNvSpPr/>
          <p:nvPr/>
        </p:nvSpPr>
        <p:spPr>
          <a:xfrm>
            <a:off x="8292960" y="2589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14"/>
          <p:cNvSpPr/>
          <p:nvPr/>
        </p:nvSpPr>
        <p:spPr>
          <a:xfrm>
            <a:off x="3628080" y="4287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5"/>
          <p:cNvSpPr/>
          <p:nvPr/>
        </p:nvSpPr>
        <p:spPr>
          <a:xfrm>
            <a:off x="4634640" y="434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16"/>
          <p:cNvSpPr/>
          <p:nvPr/>
        </p:nvSpPr>
        <p:spPr>
          <a:xfrm>
            <a:off x="5701320" y="434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7"/>
          <p:cNvSpPr/>
          <p:nvPr/>
        </p:nvSpPr>
        <p:spPr>
          <a:xfrm>
            <a:off x="6540480" y="434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18"/>
          <p:cNvSpPr/>
          <p:nvPr/>
        </p:nvSpPr>
        <p:spPr>
          <a:xfrm>
            <a:off x="75438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19"/>
          <p:cNvSpPr/>
          <p:nvPr/>
        </p:nvSpPr>
        <p:spPr>
          <a:xfrm>
            <a:off x="291240" y="579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20"/>
          <p:cNvSpPr/>
          <p:nvPr/>
        </p:nvSpPr>
        <p:spPr>
          <a:xfrm>
            <a:off x="5181480" y="99072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900000" y="1628640"/>
            <a:ext cx="7391520" cy="4154760"/>
            <a:chOff x="900000" y="1628640"/>
            <a:chExt cx="7391520" cy="4154760"/>
          </a:xfrm>
        </p:grpSpPr>
        <p:sp>
          <p:nvSpPr>
            <p:cNvPr id="1095" name="Text Box 3"/>
            <p:cNvSpPr/>
            <p:nvPr/>
          </p:nvSpPr>
          <p:spPr>
            <a:xfrm>
              <a:off x="1128600" y="1628640"/>
              <a:ext cx="279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金属元素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4"/>
            <p:cNvSpPr/>
            <p:nvPr/>
          </p:nvSpPr>
          <p:spPr>
            <a:xfrm>
              <a:off x="1128600" y="3381120"/>
              <a:ext cx="315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非金属元素</a:t>
              </a:r>
              <a:r>
                <a:rPr b="0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：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5"/>
            <p:cNvSpPr/>
            <p:nvPr/>
          </p:nvSpPr>
          <p:spPr>
            <a:xfrm>
              <a:off x="900000" y="2238120"/>
              <a:ext cx="152280" cy="34290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6"/>
            <p:cNvSpPr/>
            <p:nvPr/>
          </p:nvSpPr>
          <p:spPr>
            <a:xfrm>
              <a:off x="4024080" y="1628640"/>
              <a:ext cx="266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“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钅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”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及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Text Box 7"/>
            <p:cNvSpPr/>
            <p:nvPr/>
          </p:nvSpPr>
          <p:spPr>
            <a:xfrm>
              <a:off x="4100400" y="2543040"/>
              <a:ext cx="411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“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石”固态非金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8"/>
            <p:cNvSpPr/>
            <p:nvPr/>
          </p:nvSpPr>
          <p:spPr>
            <a:xfrm>
              <a:off x="4100400" y="3533760"/>
              <a:ext cx="3886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“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气”气态非金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Text Box 9"/>
            <p:cNvSpPr/>
            <p:nvPr/>
          </p:nvSpPr>
          <p:spPr>
            <a:xfrm>
              <a:off x="4252680" y="42955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“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氵”液态非金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AutoShape 10"/>
            <p:cNvSpPr/>
            <p:nvPr/>
          </p:nvSpPr>
          <p:spPr>
            <a:xfrm>
              <a:off x="4024080" y="3000240"/>
              <a:ext cx="152640" cy="16765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 Box 11"/>
            <p:cNvSpPr/>
            <p:nvPr/>
          </p:nvSpPr>
          <p:spPr>
            <a:xfrm>
              <a:off x="976320" y="5133960"/>
              <a:ext cx="41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稀有气体元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Text Box 12"/>
            <p:cNvSpPr/>
            <p:nvPr/>
          </p:nvSpPr>
          <p:spPr>
            <a:xfrm>
              <a:off x="4286160" y="5079960"/>
              <a:ext cx="3962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氦氖氩氪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Text Box 13"/>
          <p:cNvSpPr/>
          <p:nvPr/>
        </p:nvSpPr>
        <p:spPr>
          <a:xfrm>
            <a:off x="468360" y="620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元素的分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2" descr="pic_48669"/>
          <p:cNvPicPr/>
          <p:nvPr/>
        </p:nvPicPr>
        <p:blipFill>
          <a:blip r:embed="rId1">
            <a:lum bright="-6000"/>
          </a:blip>
          <a:srcRect l="0" t="35077" r="0" b="37564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3"/>
          <p:cNvSpPr/>
          <p:nvPr/>
        </p:nvSpPr>
        <p:spPr>
          <a:xfrm>
            <a:off x="228600" y="152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宋体"/>
              </a:rPr>
              <a:t>(1)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宋体"/>
              </a:rPr>
              <a:t>元素与原子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Text Box 2"/>
          <p:cNvSpPr/>
          <p:nvPr/>
        </p:nvSpPr>
        <p:spPr>
          <a:xfrm>
            <a:off x="1523880" y="2004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3"/>
          <p:cNvSpPr/>
          <p:nvPr/>
        </p:nvSpPr>
        <p:spPr>
          <a:xfrm>
            <a:off x="685800" y="21337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物质（纯净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4"/>
          <p:cNvSpPr/>
          <p:nvPr/>
        </p:nvSpPr>
        <p:spPr>
          <a:xfrm>
            <a:off x="5562720" y="2286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元素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种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 Box 5"/>
          <p:cNvSpPr/>
          <p:nvPr/>
        </p:nvSpPr>
        <p:spPr>
          <a:xfrm>
            <a:off x="3749760" y="1906560"/>
            <a:ext cx="17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宏观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隶书"/>
              </a:rPr>
              <a:t>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6"/>
          <p:cNvSpPr/>
          <p:nvPr/>
        </p:nvSpPr>
        <p:spPr>
          <a:xfrm flipV="1">
            <a:off x="2606760" y="2722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7"/>
          <p:cNvSpPr/>
          <p:nvPr/>
        </p:nvSpPr>
        <p:spPr>
          <a:xfrm>
            <a:off x="12193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8"/>
          <p:cNvSpPr/>
          <p:nvPr/>
        </p:nvSpPr>
        <p:spPr>
          <a:xfrm flipH="1">
            <a:off x="3047760" y="5181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9"/>
          <p:cNvSpPr/>
          <p:nvPr/>
        </p:nvSpPr>
        <p:spPr>
          <a:xfrm>
            <a:off x="5562720" y="4724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原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0"/>
          <p:cNvSpPr/>
          <p:nvPr/>
        </p:nvSpPr>
        <p:spPr>
          <a:xfrm flipV="1">
            <a:off x="5807160" y="2722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 Box 11"/>
          <p:cNvSpPr/>
          <p:nvPr/>
        </p:nvSpPr>
        <p:spPr>
          <a:xfrm>
            <a:off x="5871600" y="2559960"/>
            <a:ext cx="6069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相同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隶书"/>
              </a:rPr>
              <a:t>质子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12"/>
          <p:cNvSpPr/>
          <p:nvPr/>
        </p:nvSpPr>
        <p:spPr>
          <a:xfrm>
            <a:off x="1628640" y="2895480"/>
            <a:ext cx="1033560" cy="17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微观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隶书"/>
              </a:rPr>
              <a:t>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13"/>
          <p:cNvSpPr/>
          <p:nvPr/>
        </p:nvSpPr>
        <p:spPr>
          <a:xfrm>
            <a:off x="3883320" y="457344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微观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隶书"/>
              </a:rPr>
              <a:t>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4"/>
          <p:cNvSpPr/>
          <p:nvPr/>
        </p:nvSpPr>
        <p:spPr>
          <a:xfrm flipH="1" flipV="1">
            <a:off x="3063600" y="264636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5"/>
          <p:cNvSpPr/>
          <p:nvPr/>
        </p:nvSpPr>
        <p:spPr>
          <a:xfrm>
            <a:off x="3276720" y="3429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微观</a:t>
            </a:r>
            <a:r>
              <a:rPr b="1" lang="zh-CN" sz="2800" spc="-1" strike="noStrike">
                <a:solidFill>
                  <a:srgbClr val="0066cc"/>
                </a:solidFill>
                <a:latin typeface="Times New Roman"/>
                <a:ea typeface="隶书"/>
              </a:rPr>
              <a:t>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6"/>
          <p:cNvSpPr/>
          <p:nvPr/>
        </p:nvSpPr>
        <p:spPr>
          <a:xfrm>
            <a:off x="10508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7"/>
          <p:cNvSpPr/>
          <p:nvPr/>
        </p:nvSpPr>
        <p:spPr>
          <a:xfrm>
            <a:off x="3965760" y="380880"/>
            <a:ext cx="13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分子、原子、元素的宏观和微观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8"/>
          <p:cNvSpPr/>
          <p:nvPr/>
        </p:nvSpPr>
        <p:spPr>
          <a:xfrm flipH="1">
            <a:off x="3123720" y="2514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Text Box 2"/>
          <p:cNvSpPr/>
          <p:nvPr/>
        </p:nvSpPr>
        <p:spPr>
          <a:xfrm>
            <a:off x="228600" y="304920"/>
            <a:ext cx="83818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   下列说法是否正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水是由氢原子和氧原子构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水是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氢元素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氧元素组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水分子是由氢元素和氧元素组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个水分子是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氢原子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氧原子构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3"/>
          <p:cNvSpPr/>
          <p:nvPr/>
        </p:nvSpPr>
        <p:spPr>
          <a:xfrm>
            <a:off x="7848720" y="1219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4"/>
          <p:cNvSpPr/>
          <p:nvPr/>
        </p:nvSpPr>
        <p:spPr>
          <a:xfrm>
            <a:off x="1784160" y="27432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5"/>
          <p:cNvSpPr/>
          <p:nvPr/>
        </p:nvSpPr>
        <p:spPr>
          <a:xfrm>
            <a:off x="1404000" y="43434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3555000" y="579132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2"/>
          <p:cNvSpPr/>
          <p:nvPr/>
        </p:nvSpPr>
        <p:spPr>
          <a:xfrm>
            <a:off x="304920" y="762120"/>
            <a:ext cx="8458200" cy="33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双氧水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H</a:t>
            </a:r>
            <a:r>
              <a:rPr b="1" lang="zh-CN" sz="40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O</a:t>
            </a:r>
            <a:r>
              <a:rPr b="1" lang="zh-CN" sz="40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是隐形眼镜洗液的主要成分，在实验室里可用于制氧气，过氧化氢是由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组成的，在每个过氧化氢分子中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_____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由于过氧化氢和水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H</a:t>
            </a:r>
            <a:r>
              <a:rPr b="1" lang="zh-CN" sz="4000" spc="-1" strike="noStrike" baseline="-25000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组成上虽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种类相同，但是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构成不同，所以二者性质上有很大的区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3"/>
          <p:cNvSpPr/>
          <p:nvPr/>
        </p:nvSpPr>
        <p:spPr>
          <a:xfrm>
            <a:off x="4419720" y="1981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"/>
              </a:rPr>
              <a:t>氢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4"/>
          <p:cNvSpPr/>
          <p:nvPr/>
        </p:nvSpPr>
        <p:spPr>
          <a:xfrm>
            <a:off x="6781680" y="1981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"/>
              </a:rPr>
              <a:t>氧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838080" y="3124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"/>
              </a:rPr>
              <a:t>氢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3505320" y="32004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"/>
              </a:rPr>
              <a:t>氧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5410080" y="3733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"/>
              </a:rPr>
              <a:t>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2743200" y="4419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"/>
              </a:rPr>
              <a:t>分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2"/>
          <p:cNvSpPr/>
          <p:nvPr/>
        </p:nvSpPr>
        <p:spPr>
          <a:xfrm>
            <a:off x="533520" y="380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请从生活中常见的物质里如药品、食品、饮料中寻找到有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元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含量的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3352680" y="2220840"/>
          <a:ext cx="5715000" cy="448452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484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纯牛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配料：鲜牛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保质期：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月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净含量：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0 mL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／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营养成份：（每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 mL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钙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≥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2 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脂肪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≥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3 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蛋白质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≥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9 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Text Box 9"/>
          <p:cNvSpPr/>
          <p:nvPr/>
        </p:nvSpPr>
        <p:spPr>
          <a:xfrm>
            <a:off x="457200" y="2743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右图是某饮料的说明书，从中找到有关元素的含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2"/>
          <p:cNvSpPr/>
          <p:nvPr/>
        </p:nvSpPr>
        <p:spPr>
          <a:xfrm>
            <a:off x="2338560" y="518076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历史上，道尔顿曾用图形加字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方式作为元素符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Picture 3" descr="pic_34080"/>
          <p:cNvPicPr/>
          <p:nvPr/>
        </p:nvPicPr>
        <p:blipFill>
          <a:blip r:embed="rId1"/>
          <a:stretch/>
        </p:blipFill>
        <p:spPr>
          <a:xfrm>
            <a:off x="1905120" y="2133720"/>
            <a:ext cx="4343400" cy="2974680"/>
          </a:xfrm>
          <a:prstGeom prst="rect">
            <a:avLst/>
          </a:prstGeom>
          <a:ln w="0">
            <a:noFill/>
          </a:ln>
        </p:spPr>
      </p:pic>
      <p:sp>
        <p:nvSpPr>
          <p:cNvPr id="1142" name="Text Box 4"/>
          <p:cNvSpPr/>
          <p:nvPr/>
        </p:nvSpPr>
        <p:spPr>
          <a:xfrm>
            <a:off x="609480" y="2286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二 、元素符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5"/>
          <p:cNvSpPr/>
          <p:nvPr/>
        </p:nvSpPr>
        <p:spPr>
          <a:xfrm>
            <a:off x="1905120" y="11430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元素符号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ext Box 2"/>
          <p:cNvSpPr/>
          <p:nvPr/>
        </p:nvSpPr>
        <p:spPr>
          <a:xfrm>
            <a:off x="685800" y="2286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、 元素符号的书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3"/>
          <p:cNvSpPr/>
          <p:nvPr/>
        </p:nvSpPr>
        <p:spPr>
          <a:xfrm>
            <a:off x="1752480" y="53341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C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Cl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H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Mg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等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4"/>
          <p:cNvSpPr/>
          <p:nvPr/>
        </p:nvSpPr>
        <p:spPr>
          <a:xfrm>
            <a:off x="457200" y="167652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由一个字母表示的元素符号要大写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H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、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O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由两个字母表示的元素符号第一个字母要大写，第二个字母要小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N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铁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F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锌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Z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Cu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5"/>
          <p:cNvSpPr/>
          <p:nvPr/>
        </p:nvSpPr>
        <p:spPr>
          <a:xfrm>
            <a:off x="152280" y="106668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用元素拉丁文名称的第一个字母（大写）或附加一个小写字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824040" y="63547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7"/>
          <p:cNvSpPr/>
          <p:nvPr/>
        </p:nvSpPr>
        <p:spPr>
          <a:xfrm>
            <a:off x="2494080" y="6095880"/>
            <a:ext cx="20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就大，二就一大一小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 txBox="1"/>
          <p:nvPr/>
        </p:nvSpPr>
        <p:spPr>
          <a:xfrm>
            <a:off x="-360" y="228600"/>
            <a:ext cx="8991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蛋壳、贝壳、石灰石（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—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主要成分都是碳酸钙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C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碳酸钙是由碳、氧、钙这三种元素组成；氧气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二氧化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组成和性质也不同，但它们都含氧元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们中都含氧原子，这些氧原子核内都是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质子，化学上把质子数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所有氧原子统称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元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同样把质子数为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所有氢原子统为称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氢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696960" y="2006280"/>
            <a:ext cx="77500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14400" y="3049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2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元素符号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3"/>
          <p:cNvSpPr/>
          <p:nvPr/>
        </p:nvSpPr>
        <p:spPr>
          <a:xfrm>
            <a:off x="0" y="990720"/>
            <a:ext cx="9220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）表示一种元素（ 宏观意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）表示一个某原子（微观意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4"/>
          <p:cNvSpPr/>
          <p:nvPr/>
        </p:nvSpPr>
        <p:spPr>
          <a:xfrm>
            <a:off x="990720" y="2590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H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氢元素   一个氢原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5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F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铁元素   一个铁原子          　　　　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）由原子构成的物质还可表示物质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6"/>
          <p:cNvSpPr/>
          <p:nvPr/>
        </p:nvSpPr>
        <p:spPr>
          <a:xfrm>
            <a:off x="380880" y="47242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　　在元素符号前面加上系数后，就只能表示几个原子，不再表示某元素。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3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只表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三个氢原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微观意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Picture 2" descr="pic_34081"/>
          <p:cNvPicPr/>
          <p:nvPr/>
        </p:nvPicPr>
        <p:blipFill>
          <a:blip r:embed="rId1"/>
          <a:stretch/>
        </p:blipFill>
        <p:spPr>
          <a:xfrm>
            <a:off x="533520" y="1219320"/>
            <a:ext cx="8381880" cy="3047760"/>
          </a:xfrm>
          <a:prstGeom prst="rect">
            <a:avLst/>
          </a:prstGeom>
          <a:ln w="0">
            <a:noFill/>
          </a:ln>
        </p:spPr>
      </p:pic>
      <p:sp>
        <p:nvSpPr>
          <p:cNvPr id="1158" name="Text Box 3"/>
          <p:cNvSpPr/>
          <p:nvPr/>
        </p:nvSpPr>
        <p:spPr>
          <a:xfrm>
            <a:off x="1752480" y="487692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既表示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氧元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又表示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氧元素的一个原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4"/>
          <p:cNvSpPr/>
          <p:nvPr/>
        </p:nvSpPr>
        <p:spPr>
          <a:xfrm>
            <a:off x="1318680" y="26028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元素符号的意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2"/>
          <p:cNvSpPr/>
          <p:nvPr/>
        </p:nvSpPr>
        <p:spPr>
          <a:xfrm>
            <a:off x="395280" y="260280"/>
            <a:ext cx="77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元素符号表示的意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900000" y="155736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表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种元素  （表示氢元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900000" y="28526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表示这种元素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原子  （表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氢原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5"/>
          <p:cNvSpPr/>
          <p:nvPr/>
        </p:nvSpPr>
        <p:spPr>
          <a:xfrm>
            <a:off x="1765440" y="5504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6"/>
          <p:cNvSpPr/>
          <p:nvPr/>
        </p:nvSpPr>
        <p:spPr>
          <a:xfrm>
            <a:off x="5294880" y="260280"/>
            <a:ext cx="21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7"/>
          <p:cNvSpPr/>
          <p:nvPr/>
        </p:nvSpPr>
        <p:spPr>
          <a:xfrm>
            <a:off x="611280" y="60213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8"/>
          <p:cNvSpPr/>
          <p:nvPr/>
        </p:nvSpPr>
        <p:spPr>
          <a:xfrm>
            <a:off x="0" y="2205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AutoShape 9"/>
          <p:cNvSpPr/>
          <p:nvPr/>
        </p:nvSpPr>
        <p:spPr>
          <a:xfrm>
            <a:off x="611280" y="1844640"/>
            <a:ext cx="288720" cy="1440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0"/>
          <p:cNvSpPr/>
          <p:nvPr/>
        </p:nvSpPr>
        <p:spPr>
          <a:xfrm>
            <a:off x="0" y="4437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AutoShape 11"/>
          <p:cNvSpPr/>
          <p:nvPr/>
        </p:nvSpPr>
        <p:spPr>
          <a:xfrm>
            <a:off x="611280" y="3860640"/>
            <a:ext cx="288720" cy="1944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2"/>
          <p:cNvSpPr/>
          <p:nvPr/>
        </p:nvSpPr>
        <p:spPr>
          <a:xfrm>
            <a:off x="900000" y="364500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表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种元素  （表示铁元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3"/>
          <p:cNvSpPr/>
          <p:nvPr/>
        </p:nvSpPr>
        <p:spPr>
          <a:xfrm>
            <a:off x="900000" y="45086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表示这种元素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原子  （表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铁原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4"/>
          <p:cNvSpPr/>
          <p:nvPr/>
        </p:nvSpPr>
        <p:spPr>
          <a:xfrm>
            <a:off x="900000" y="5445000"/>
            <a:ext cx="8244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当物质是由原子直接构成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金属、稀有气体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些固态非金属），还表示这种物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（表示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2"/>
          <p:cNvSpPr/>
          <p:nvPr/>
        </p:nvSpPr>
        <p:spPr>
          <a:xfrm>
            <a:off x="755640" y="7650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说说下列符号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3"/>
          <p:cNvSpPr/>
          <p:nvPr/>
        </p:nvSpPr>
        <p:spPr>
          <a:xfrm>
            <a:off x="762120" y="4724280"/>
            <a:ext cx="7162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用符号和数字表达含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氧原子：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铜原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氮元素 ：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磷原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4"/>
          <p:cNvSpPr/>
          <p:nvPr/>
        </p:nvSpPr>
        <p:spPr>
          <a:xfrm>
            <a:off x="297180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5"/>
          <p:cNvSpPr/>
          <p:nvPr/>
        </p:nvSpPr>
        <p:spPr>
          <a:xfrm>
            <a:off x="3657600" y="5410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5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6"/>
          <p:cNvSpPr/>
          <p:nvPr/>
        </p:nvSpPr>
        <p:spPr>
          <a:xfrm>
            <a:off x="7162920" y="5410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2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7"/>
          <p:cNvSpPr/>
          <p:nvPr/>
        </p:nvSpPr>
        <p:spPr>
          <a:xfrm>
            <a:off x="3352680" y="6172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8"/>
          <p:cNvSpPr/>
          <p:nvPr/>
        </p:nvSpPr>
        <p:spPr>
          <a:xfrm>
            <a:off x="7620120" y="6172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  <a:ea typeface="宋体"/>
              </a:rPr>
              <a:t>3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9"/>
          <p:cNvSpPr/>
          <p:nvPr/>
        </p:nvSpPr>
        <p:spPr>
          <a:xfrm>
            <a:off x="1332000" y="1268280"/>
            <a:ext cx="655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O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Mg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0"/>
          <p:cNvSpPr/>
          <p:nvPr/>
        </p:nvSpPr>
        <p:spPr>
          <a:xfrm>
            <a:off x="324000" y="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1"/>
          <p:cNvSpPr/>
          <p:nvPr/>
        </p:nvSpPr>
        <p:spPr>
          <a:xfrm>
            <a:off x="2046240" y="125244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氧元素或一个氧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2"/>
          <p:cNvSpPr/>
          <p:nvPr/>
        </p:nvSpPr>
        <p:spPr>
          <a:xfrm>
            <a:off x="2111400" y="19954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个氢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3"/>
          <p:cNvSpPr/>
          <p:nvPr/>
        </p:nvSpPr>
        <p:spPr>
          <a:xfrm>
            <a:off x="2128680" y="2712960"/>
            <a:ext cx="64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钠元素或一个钠原子或钠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4"/>
          <p:cNvSpPr/>
          <p:nvPr/>
        </p:nvSpPr>
        <p:spPr>
          <a:xfrm>
            <a:off x="2193840" y="34434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个镁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5"/>
          <p:cNvSpPr/>
          <p:nvPr/>
        </p:nvSpPr>
        <p:spPr>
          <a:xfrm>
            <a:off x="2227320" y="4202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个硫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Group 16"/>
          <p:cNvGrpSpPr/>
          <p:nvPr/>
        </p:nvGrpSpPr>
        <p:grpSpPr>
          <a:xfrm>
            <a:off x="2124000" y="2276640"/>
            <a:ext cx="5040360" cy="2304360"/>
            <a:chOff x="2124000" y="2276640"/>
            <a:chExt cx="5040360" cy="2304360"/>
          </a:xfrm>
        </p:grpSpPr>
        <p:sp>
          <p:nvSpPr>
            <p:cNvPr id="1188" name="Line 17"/>
            <p:cNvSpPr/>
            <p:nvPr/>
          </p:nvSpPr>
          <p:spPr>
            <a:xfrm>
              <a:off x="2124000" y="2276640"/>
              <a:ext cx="934920" cy="50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"/>
            <p:cNvSpPr/>
            <p:nvPr/>
          </p:nvSpPr>
          <p:spPr>
            <a:xfrm flipV="1">
              <a:off x="2195280" y="2923920"/>
              <a:ext cx="86364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19"/>
            <p:cNvSpPr/>
            <p:nvPr/>
          </p:nvSpPr>
          <p:spPr>
            <a:xfrm flipV="1">
              <a:off x="2195280" y="3213000"/>
              <a:ext cx="792360" cy="136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20"/>
            <p:cNvSpPr/>
            <p:nvPr/>
          </p:nvSpPr>
          <p:spPr>
            <a:xfrm>
              <a:off x="3203640" y="2349360"/>
              <a:ext cx="3960720" cy="642600"/>
            </a:xfrm>
            <a:prstGeom prst="rect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当元素符号前面加上数字或字母后，就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只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表示该元素的原子个数了，不能再表示该元素（因为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元素是不讲个数的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Text Box 2"/>
          <p:cNvSpPr/>
          <p:nvPr/>
        </p:nvSpPr>
        <p:spPr>
          <a:xfrm>
            <a:off x="228600" y="836640"/>
            <a:ext cx="89154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素符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H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能表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汞元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汞原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含汞的化合物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汞单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个氢元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个氢原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氢元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个氢分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3"/>
          <p:cNvSpPr/>
          <p:nvPr/>
        </p:nvSpPr>
        <p:spPr>
          <a:xfrm>
            <a:off x="6373440" y="907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4"/>
          <p:cNvSpPr/>
          <p:nvPr/>
        </p:nvSpPr>
        <p:spPr>
          <a:xfrm>
            <a:off x="3420720" y="3645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Text Box 2"/>
          <p:cNvSpPr/>
          <p:nvPr/>
        </p:nvSpPr>
        <p:spPr>
          <a:xfrm>
            <a:off x="0" y="1268280"/>
            <a:ext cx="8915400" cy="34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下列符号中，既能表示一种元素，又能表示该元素的一个原子，还能表示一种单质的是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A.He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B.N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C.Cl        D.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地壳中含量最多的元素和固态非金属元素组成的物质是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A.Fe(NO</a:t>
            </a: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B.Si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C.Al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D.CaCO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3"/>
          <p:cNvSpPr/>
          <p:nvPr/>
        </p:nvSpPr>
        <p:spPr>
          <a:xfrm>
            <a:off x="7812000" y="170028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4"/>
          <p:cNvSpPr/>
          <p:nvPr/>
        </p:nvSpPr>
        <p:spPr>
          <a:xfrm>
            <a:off x="1619280" y="3573360"/>
            <a:ext cx="7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2"/>
          <p:cNvSpPr/>
          <p:nvPr/>
        </p:nvSpPr>
        <p:spPr>
          <a:xfrm>
            <a:off x="1204920" y="745920"/>
            <a:ext cx="7493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记住并会正确书写下列元素符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氢    氦     碳     氮    氧    氟   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H     He     C     N     O     F    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钠    镁     铝     硅    磷    硫   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Na   Mg    Al    Si     P     S    C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氩    钾      钙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锰    铁    铜    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Ar    K      Ca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Mn   Fe   Cu   Z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银    钡     铂    金     汞     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Ag   Ba    Pt    Au    Hg   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3"/>
          <p:cNvSpPr/>
          <p:nvPr/>
        </p:nvSpPr>
        <p:spPr>
          <a:xfrm>
            <a:off x="2666880" y="152280"/>
            <a:ext cx="268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Picture 2" descr="menjieliefu1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1201" name="Text Box 3"/>
          <p:cNvSpPr/>
          <p:nvPr/>
        </p:nvSpPr>
        <p:spPr>
          <a:xfrm>
            <a:off x="609480" y="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三、 元素周期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4"/>
          <p:cNvSpPr/>
          <p:nvPr/>
        </p:nvSpPr>
        <p:spPr>
          <a:xfrm>
            <a:off x="0" y="944280"/>
            <a:ext cx="8610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1869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，俄国化学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门捷列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发现了他的第一张元素周期表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中除收入了当时已知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6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种元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还给尚未发现的元素留下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位，并大胆地预言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种未知的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元素和它们在元素周期表的位置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同时根据它们的性质取了名字，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类铝、类硼、类硅等，后来都得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了验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Picture 2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7362720" cy="502920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3"/>
          <p:cNvSpPr/>
          <p:nvPr/>
        </p:nvSpPr>
        <p:spPr>
          <a:xfrm>
            <a:off x="1447920" y="2133720"/>
            <a:ext cx="228600" cy="3581280"/>
          </a:xfrm>
          <a:prstGeom prst="rect">
            <a:avLst/>
          </a:prstGeom>
          <a:noFill/>
          <a:ln w="572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4"/>
          <p:cNvGrpSpPr/>
          <p:nvPr/>
        </p:nvGrpSpPr>
        <p:grpSpPr>
          <a:xfrm>
            <a:off x="1676520" y="1828800"/>
            <a:ext cx="6648480" cy="1828800"/>
            <a:chOff x="1676520" y="1828800"/>
            <a:chExt cx="6648480" cy="1828800"/>
          </a:xfrm>
        </p:grpSpPr>
        <p:sp>
          <p:nvSpPr>
            <p:cNvPr id="1206" name="Rectangle 5"/>
            <p:cNvSpPr/>
            <p:nvPr/>
          </p:nvSpPr>
          <p:spPr>
            <a:xfrm>
              <a:off x="2438640" y="3352680"/>
              <a:ext cx="3657600" cy="304920"/>
            </a:xfrm>
            <a:prstGeom prst="rect">
              <a:avLst/>
            </a:prstGeom>
            <a:noFill/>
            <a:ln w="5724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6"/>
            <p:cNvSpPr/>
            <p:nvPr/>
          </p:nvSpPr>
          <p:spPr>
            <a:xfrm>
              <a:off x="1676520" y="1828800"/>
              <a:ext cx="304920" cy="304920"/>
            </a:xfrm>
            <a:prstGeom prst="rect">
              <a:avLst/>
            </a:prstGeom>
            <a:noFill/>
            <a:ln w="5724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7"/>
            <p:cNvSpPr/>
            <p:nvPr/>
          </p:nvSpPr>
          <p:spPr>
            <a:xfrm>
              <a:off x="2038320" y="2362320"/>
              <a:ext cx="324000" cy="304560"/>
            </a:xfrm>
            <a:prstGeom prst="rect">
              <a:avLst/>
            </a:prstGeom>
            <a:noFill/>
            <a:ln w="5724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8"/>
            <p:cNvSpPr/>
            <p:nvPr/>
          </p:nvSpPr>
          <p:spPr>
            <a:xfrm>
              <a:off x="8001000" y="1828800"/>
              <a:ext cx="324000" cy="380880"/>
            </a:xfrm>
            <a:prstGeom prst="rect">
              <a:avLst/>
            </a:prstGeom>
            <a:noFill/>
            <a:ln w="5724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9"/>
            <p:cNvSpPr/>
            <p:nvPr/>
          </p:nvSpPr>
          <p:spPr>
            <a:xfrm>
              <a:off x="6096240" y="2362320"/>
              <a:ext cx="1904760" cy="304560"/>
            </a:xfrm>
            <a:prstGeom prst="rect">
              <a:avLst/>
            </a:prstGeom>
            <a:noFill/>
            <a:ln w="57240">
              <a:solidFill>
                <a:srgbClr val="9f9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Rectangle 10"/>
          <p:cNvSpPr/>
          <p:nvPr/>
        </p:nvSpPr>
        <p:spPr>
          <a:xfrm>
            <a:off x="225000" y="3352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周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11"/>
          <p:cNvSpPr/>
          <p:nvPr/>
        </p:nvSpPr>
        <p:spPr>
          <a:xfrm>
            <a:off x="6591240" y="1523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f9fbf"/>
                </a:solidFill>
                <a:latin typeface="华文新魏"/>
                <a:ea typeface="华文新魏"/>
              </a:rPr>
              <a:t>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12"/>
          <p:cNvSpPr/>
          <p:nvPr/>
        </p:nvSpPr>
        <p:spPr>
          <a:xfrm>
            <a:off x="152280" y="152280"/>
            <a:ext cx="9829800" cy="14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观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素周期表共有多少个横行？多少个纵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叫周期，什么叫族？各有多少个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叫原子序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Text Box 2"/>
          <p:cNvSpPr/>
          <p:nvPr/>
        </p:nvSpPr>
        <p:spPr>
          <a:xfrm>
            <a:off x="380880" y="4876920"/>
            <a:ext cx="8382240" cy="119124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核电荷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质子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都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属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一类原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都称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碳元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3" name=""/>
          <p:cNvGraphicFramePr/>
          <p:nvPr/>
        </p:nvGraphicFramePr>
        <p:xfrm>
          <a:off x="1143000" y="1487520"/>
          <a:ext cx="6705720" cy="316224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1295280"/>
                <a:gridCol w="1447920"/>
                <a:gridCol w="144792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核电荷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质子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中子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核外电子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相对原子质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4" name="Text Box 35"/>
          <p:cNvSpPr/>
          <p:nvPr/>
        </p:nvSpPr>
        <p:spPr>
          <a:xfrm>
            <a:off x="22860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下表是科学家测定</a:t>
            </a:r>
            <a:r>
              <a:rPr b="1" lang="zh-CN" sz="2800" spc="-1" strike="noStrike">
                <a:solidFill>
                  <a:srgbClr val="0066ff"/>
                </a:solidFill>
                <a:latin typeface="黑体"/>
                <a:ea typeface="黑体"/>
              </a:rPr>
              <a:t>自然界的碳原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得到的数据，这些碳原子有什么共同特点呢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Text Box 2"/>
          <p:cNvSpPr/>
          <p:nvPr/>
        </p:nvSpPr>
        <p:spPr>
          <a:xfrm>
            <a:off x="457200" y="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　　仔细观察元素周期表，你能发现什么规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3"/>
          <p:cNvSpPr/>
          <p:nvPr/>
        </p:nvSpPr>
        <p:spPr>
          <a:xfrm>
            <a:off x="0" y="1371600"/>
            <a:ext cx="89154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1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、结构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横行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个周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纵列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16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个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每个横行叫一个周期，每个纵列叫一个族（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共组成一个族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元素原子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原子序数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==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核电荷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属元素和非金属元素分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4"/>
          <p:cNvSpPr/>
          <p:nvPr/>
        </p:nvSpPr>
        <p:spPr>
          <a:xfrm>
            <a:off x="1434240" y="6019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宋体"/>
              </a:rPr>
              <a:t>左下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5"/>
          <p:cNvSpPr/>
          <p:nvPr/>
        </p:nvSpPr>
        <p:spPr>
          <a:xfrm>
            <a:off x="4024800" y="6019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宋体"/>
              </a:rPr>
              <a:t>右上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 Box 2"/>
          <p:cNvSpPr/>
          <p:nvPr/>
        </p:nvSpPr>
        <p:spPr>
          <a:xfrm>
            <a:off x="304920" y="457200"/>
            <a:ext cx="8153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、元素周期表的意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学习和研究化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重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3"/>
          <p:cNvSpPr/>
          <p:nvPr/>
        </p:nvSpPr>
        <p:spPr>
          <a:xfrm>
            <a:off x="304920" y="2362320"/>
            <a:ext cx="883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寻找新元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提供了理论依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由于元素周期表中位置越接近的元素化学性质越相似，启发人们在元素周期表的一定区域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寻找新物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如半导体材料、催化剂、农药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探究：在元素周期表中查找元素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04560" y="1371240"/>
            <a:ext cx="84582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查寻某元素在周期表中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位置、元素符号、相对原子质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它是金属还是非金属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氧      碳       镁      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4"/>
          <p:cNvSpPr/>
          <p:nvPr/>
        </p:nvSpPr>
        <p:spPr>
          <a:xfrm>
            <a:off x="3962520" y="4800600"/>
            <a:ext cx="1752480" cy="1202760"/>
          </a:xfrm>
          <a:prstGeom prst="rect">
            <a:avLst/>
          </a:prstGeom>
          <a:solidFill>
            <a:srgbClr val="ffcc00"/>
          </a:solidFill>
          <a:ln w="1908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    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5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Text Box 2"/>
          <p:cNvSpPr/>
          <p:nvPr/>
        </p:nvSpPr>
        <p:spPr>
          <a:xfrm>
            <a:off x="152280" y="457200"/>
            <a:ext cx="8686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考察元素周期表，讨论下列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每周期开头的是什么类型的元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每周期靠近尾部的是什么类型的元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 每一周期都以什么类型的元素结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3"/>
          <p:cNvSpPr/>
          <p:nvPr/>
        </p:nvSpPr>
        <p:spPr>
          <a:xfrm>
            <a:off x="5486400" y="2057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金属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4"/>
          <p:cNvSpPr/>
          <p:nvPr/>
        </p:nvSpPr>
        <p:spPr>
          <a:xfrm>
            <a:off x="5791320" y="3886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非金属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5"/>
          <p:cNvSpPr/>
          <p:nvPr/>
        </p:nvSpPr>
        <p:spPr>
          <a:xfrm>
            <a:off x="5181480" y="54864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稀有气体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Text Box 2"/>
          <p:cNvSpPr/>
          <p:nvPr/>
        </p:nvSpPr>
        <p:spPr>
          <a:xfrm>
            <a:off x="228600" y="457200"/>
            <a:ext cx="853452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国已启动“嫦蛾工程”探月计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拟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00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年前发射绕月飞行的探测卫星“嫦蛾一号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人类探月的主要目的是勘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获取地球上蕴藏量很小而月球上却极为丰富的核聚变燃料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He—3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解决地球能源危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已知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—13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是指原子核内含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.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中子的碳原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则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He—3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指的是氦原子核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含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没有中子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含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含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含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个中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没有质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"/>
          <p:cNvSpPr/>
          <p:nvPr/>
        </p:nvSpPr>
        <p:spPr>
          <a:xfrm>
            <a:off x="6400800" y="3352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华文楷体"/>
              </a:rPr>
              <a:t>思考题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地壳中含量最多的元素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地壳中含量最多的金属元素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地壳中含量最多有非金属素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空气中含量最多的元素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生物细胞中含量最多的元素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4"/>
          <p:cNvSpPr/>
          <p:nvPr/>
        </p:nvSpPr>
        <p:spPr>
          <a:xfrm>
            <a:off x="7544880" y="9907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5"/>
          <p:cNvSpPr/>
          <p:nvPr/>
        </p:nvSpPr>
        <p:spPr>
          <a:xfrm>
            <a:off x="8215200" y="1692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6"/>
          <p:cNvSpPr/>
          <p:nvPr/>
        </p:nvSpPr>
        <p:spPr>
          <a:xfrm>
            <a:off x="8327880" y="31161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7"/>
          <p:cNvSpPr/>
          <p:nvPr/>
        </p:nvSpPr>
        <p:spPr>
          <a:xfrm>
            <a:off x="7225200" y="341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8"/>
          <p:cNvSpPr/>
          <p:nvPr/>
        </p:nvSpPr>
        <p:spPr>
          <a:xfrm>
            <a:off x="8215560" y="42559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9"/>
          <p:cNvSpPr/>
          <p:nvPr/>
        </p:nvSpPr>
        <p:spPr>
          <a:xfrm>
            <a:off x="8231400" y="2619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228600" y="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附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课堂练习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素是具有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一类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总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氧化镁和氧气中都存在着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种元素与另一种元素的本区别是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原子量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中子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质子数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电子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氧化硫、氧化汞、氧气中都含有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氧气 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氧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氧分子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氧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氧化硫是由硫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氧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成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3"/>
          <p:cNvSpPr/>
          <p:nvPr/>
        </p:nvSpPr>
        <p:spPr>
          <a:xfrm>
            <a:off x="8215920" y="166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4"/>
          <p:cNvSpPr/>
          <p:nvPr/>
        </p:nvSpPr>
        <p:spPr>
          <a:xfrm>
            <a:off x="8079480" y="38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5"/>
          <p:cNvSpPr/>
          <p:nvPr/>
        </p:nvSpPr>
        <p:spPr>
          <a:xfrm>
            <a:off x="3262320" y="708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相同质子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6"/>
          <p:cNvSpPr/>
          <p:nvPr/>
        </p:nvSpPr>
        <p:spPr>
          <a:xfrm>
            <a:off x="5884200" y="685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原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7"/>
          <p:cNvSpPr/>
          <p:nvPr/>
        </p:nvSpPr>
        <p:spPr>
          <a:xfrm>
            <a:off x="6051240" y="1241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8"/>
          <p:cNvSpPr/>
          <p:nvPr/>
        </p:nvSpPr>
        <p:spPr>
          <a:xfrm>
            <a:off x="4191840" y="6194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9"/>
          <p:cNvSpPr/>
          <p:nvPr/>
        </p:nvSpPr>
        <p:spPr>
          <a:xfrm>
            <a:off x="6020640" y="6194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2"/>
          <p:cNvSpPr/>
          <p:nvPr/>
        </p:nvSpPr>
        <p:spPr>
          <a:xfrm>
            <a:off x="457200" y="0"/>
            <a:ext cx="8153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选择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氯酸钾中含有 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三个氧元素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三个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氧元素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三个氧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列元素符号书写错误的是 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MN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锰）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u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钠）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l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列元素名称书写正确的是 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炭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绿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汞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列物质属于化合物的是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水蒸气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氮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液态氧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水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"/>
          <p:cNvSpPr/>
          <p:nvPr/>
        </p:nvSpPr>
        <p:spPr>
          <a:xfrm>
            <a:off x="4100400" y="549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4"/>
          <p:cNvSpPr/>
          <p:nvPr/>
        </p:nvSpPr>
        <p:spPr>
          <a:xfrm>
            <a:off x="6615720" y="19699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A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5"/>
          <p:cNvSpPr/>
          <p:nvPr/>
        </p:nvSpPr>
        <p:spPr>
          <a:xfrm>
            <a:off x="6615720" y="34941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C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6"/>
          <p:cNvSpPr/>
          <p:nvPr/>
        </p:nvSpPr>
        <p:spPr>
          <a:xfrm>
            <a:off x="6400800" y="4572000"/>
            <a:ext cx="3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20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2"/>
          <p:cNvSpPr/>
          <p:nvPr/>
        </p:nvSpPr>
        <p:spPr>
          <a:xfrm>
            <a:off x="609480" y="380880"/>
            <a:ext cx="815364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符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（     ）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硫元素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硫的原子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一个硫元素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原子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填空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写出你所知道的，分别以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字头的元素符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________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________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M________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五氧化二磷、氯酸钾、氧气、碳、空气、汞等六种物质中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纯净物；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混合物。在这些纯净物中，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同一种元素组成的，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由二种元素组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506760" y="380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4"/>
          <p:cNvSpPr/>
          <p:nvPr/>
        </p:nvSpPr>
        <p:spPr>
          <a:xfrm>
            <a:off x="5879160" y="502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空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5"/>
          <p:cNvSpPr/>
          <p:nvPr/>
        </p:nvSpPr>
        <p:spPr>
          <a:xfrm>
            <a:off x="3276720" y="5599080"/>
            <a:ext cx="134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O</a:t>
            </a:r>
            <a:r>
              <a:rPr b="1" lang="zh-CN" sz="1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C   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6"/>
          <p:cNvSpPr/>
          <p:nvPr/>
        </p:nvSpPr>
        <p:spPr>
          <a:xfrm>
            <a:off x="920880" y="593244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P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152280" y="6094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元素周期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611280" y="1484280"/>
            <a:ext cx="822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课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7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，填写下列空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素周期表排列的依据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叫做一个周期，元素周期表里共有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周期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叫做一个族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族的元素是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素的编号叫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原子序数由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决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611280" y="4076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从一个元素符号图片你可以获得的信息是：（以铁为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素名称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元素的种类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元素符号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相对原子质量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原子序数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原子核电荷数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质子数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原子的电子数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5940360" y="189000"/>
            <a:ext cx="1511280" cy="1202760"/>
          </a:xfrm>
          <a:prstGeom prst="rect">
            <a:avLst/>
          </a:prstGeom>
          <a:solidFill>
            <a:srgbClr val="ffcc00"/>
          </a:solidFill>
          <a:ln w="1908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6    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55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4114800" y="175248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原子的结构和性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 Box 7"/>
          <p:cNvSpPr/>
          <p:nvPr/>
        </p:nvSpPr>
        <p:spPr>
          <a:xfrm>
            <a:off x="1219320" y="2286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每一个横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8"/>
          <p:cNvSpPr/>
          <p:nvPr/>
        </p:nvSpPr>
        <p:spPr>
          <a:xfrm>
            <a:off x="6095880" y="2286000"/>
            <a:ext cx="7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9"/>
          <p:cNvSpPr/>
          <p:nvPr/>
        </p:nvSpPr>
        <p:spPr>
          <a:xfrm>
            <a:off x="1219320" y="2666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每一个纵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10"/>
          <p:cNvSpPr/>
          <p:nvPr/>
        </p:nvSpPr>
        <p:spPr>
          <a:xfrm>
            <a:off x="5257800" y="2666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称有气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11"/>
          <p:cNvSpPr/>
          <p:nvPr/>
        </p:nvSpPr>
        <p:spPr>
          <a:xfrm>
            <a:off x="2590920" y="3124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原子序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12"/>
          <p:cNvSpPr/>
          <p:nvPr/>
        </p:nvSpPr>
        <p:spPr>
          <a:xfrm>
            <a:off x="5181480" y="3048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核电荷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13"/>
          <p:cNvSpPr/>
          <p:nvPr/>
        </p:nvSpPr>
        <p:spPr>
          <a:xfrm>
            <a:off x="2209680" y="44956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铁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14"/>
          <p:cNvSpPr/>
          <p:nvPr/>
        </p:nvSpPr>
        <p:spPr>
          <a:xfrm>
            <a:off x="4876920" y="44956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金属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5"/>
          <p:cNvSpPr/>
          <p:nvPr/>
        </p:nvSpPr>
        <p:spPr>
          <a:xfrm>
            <a:off x="7162920" y="44956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6"/>
          <p:cNvSpPr/>
          <p:nvPr/>
        </p:nvSpPr>
        <p:spPr>
          <a:xfrm>
            <a:off x="1600200" y="49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55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17"/>
          <p:cNvSpPr/>
          <p:nvPr/>
        </p:nvSpPr>
        <p:spPr>
          <a:xfrm>
            <a:off x="3505320" y="49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8"/>
          <p:cNvSpPr/>
          <p:nvPr/>
        </p:nvSpPr>
        <p:spPr>
          <a:xfrm>
            <a:off x="5715000" y="50292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9"/>
          <p:cNvSpPr/>
          <p:nvPr/>
        </p:nvSpPr>
        <p:spPr>
          <a:xfrm>
            <a:off x="7086600" y="4952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20"/>
          <p:cNvSpPr/>
          <p:nvPr/>
        </p:nvSpPr>
        <p:spPr>
          <a:xfrm>
            <a:off x="1066680" y="54100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宋体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2"/>
          <p:cNvSpPr/>
          <p:nvPr/>
        </p:nvSpPr>
        <p:spPr>
          <a:xfrm>
            <a:off x="457200" y="4572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一、 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3"/>
          <p:cNvSpPr/>
          <p:nvPr/>
        </p:nvSpPr>
        <p:spPr>
          <a:xfrm>
            <a:off x="152280" y="144792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元素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质子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即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宋体"/>
              </a:rPr>
              <a:t>核电荷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相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一类原子的总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4"/>
          <p:cNvSpPr/>
          <p:nvPr/>
        </p:nvSpPr>
        <p:spPr>
          <a:xfrm>
            <a:off x="0" y="51814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元素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宋体"/>
              </a:rPr>
              <a:t>只具有宏观意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（只有种类，没有个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228600" y="32004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不同元素的区别就是质子数（即核电荷数）不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即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质子数决定元素种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5" name="WordArt 3"/>
          <p:cNvSpPr txBox="1"/>
          <p:nvPr/>
        </p:nvSpPr>
        <p:spPr>
          <a:xfrm>
            <a:off x="3429000" y="5105520"/>
            <a:ext cx="5257800" cy="15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谢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矩形 5"/>
          <p:cNvSpPr/>
          <p:nvPr/>
        </p:nvSpPr>
        <p:spPr>
          <a:xfrm>
            <a:off x="2438280" y="24969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2"/>
          <p:cNvSpPr/>
          <p:nvPr/>
        </p:nvSpPr>
        <p:spPr>
          <a:xfrm>
            <a:off x="1447920" y="1600200"/>
            <a:ext cx="70102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氮元素与磷元素最本质的区别在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(  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质子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中子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电子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相对原子质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762120" y="6094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4"/>
          <p:cNvSpPr/>
          <p:nvPr/>
        </p:nvSpPr>
        <p:spPr>
          <a:xfrm>
            <a:off x="3809880" y="2133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宋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152280" y="2209320"/>
            <a:ext cx="8839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列化学反应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氧水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→    水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﹢氧气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硫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﹢氧气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→   二氧化硫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应物跟生成物相比较，分子是否发生了变化？原子是否发生了变化？元素是否发生了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3"/>
          <p:cNvSpPr/>
          <p:nvPr/>
        </p:nvSpPr>
        <p:spPr>
          <a:xfrm>
            <a:off x="2971800" y="27432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二氧化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4"/>
          <p:cNvSpPr/>
          <p:nvPr/>
        </p:nvSpPr>
        <p:spPr>
          <a:xfrm>
            <a:off x="4038480" y="3352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点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1203480" y="566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6"/>
          <p:cNvSpPr/>
          <p:nvPr/>
        </p:nvSpPr>
        <p:spPr>
          <a:xfrm>
            <a:off x="152280" y="1755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完成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59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页讨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7"/>
          <p:cNvSpPr/>
          <p:nvPr/>
        </p:nvSpPr>
        <p:spPr>
          <a:xfrm>
            <a:off x="152280" y="304920"/>
            <a:ext cx="870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在物质发生化学变化时，原子的种类不变，元素也不会改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2"/>
          <p:cNvSpPr/>
          <p:nvPr/>
        </p:nvSpPr>
        <p:spPr>
          <a:xfrm>
            <a:off x="304920" y="762120"/>
            <a:ext cx="861048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宋体"/>
              </a:rPr>
              <a:t>植物的光合作用可以用下式表示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宋体"/>
              </a:rPr>
              <a:t>水 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宋体"/>
              </a:rPr>
              <a:t>+   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宋体"/>
              </a:rPr>
              <a:t>二氧化碳              淀粉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宋体"/>
              </a:rPr>
              <a:t>+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宋体"/>
              </a:rPr>
              <a:t>氧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宋体"/>
              </a:rPr>
              <a:t>(H</a:t>
            </a:r>
            <a:r>
              <a:rPr b="1" lang="zh-CN" sz="32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宋体"/>
              </a:rPr>
              <a:t>O)        (CO</a:t>
            </a:r>
            <a:r>
              <a:rPr b="1" lang="zh-CN" sz="32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宋体"/>
              </a:rPr>
              <a:t>)                                   (O</a:t>
            </a:r>
            <a:r>
              <a:rPr b="1" lang="zh-CN" sz="3200" spc="-1" strike="noStrike" baseline="-25000">
                <a:solidFill>
                  <a:srgbClr val="0066cc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宋体"/>
              </a:rPr>
              <a:t>由此推断：淀粉中一定含有的元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  <a:ea typeface="宋体"/>
              </a:rPr>
              <a:t>是————，可能还有的元素是——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"/>
          <p:cNvSpPr/>
          <p:nvPr/>
        </p:nvSpPr>
        <p:spPr>
          <a:xfrm>
            <a:off x="39625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4648320" y="1447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宋体"/>
              </a:rPr>
              <a:t>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191120" y="2057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宋体"/>
              </a:rPr>
              <a:t>叶绿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6"/>
          <p:cNvSpPr/>
          <p:nvPr/>
        </p:nvSpPr>
        <p:spPr>
          <a:xfrm>
            <a:off x="1143000" y="4038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"/>
              </a:rPr>
              <a:t>C.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7"/>
          <p:cNvSpPr/>
          <p:nvPr/>
        </p:nvSpPr>
        <p:spPr>
          <a:xfrm>
            <a:off x="7696080" y="4038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Picture 2" descr="pic_34078"/>
          <p:cNvPicPr/>
          <p:nvPr/>
        </p:nvPicPr>
        <p:blipFill>
          <a:blip r:embed="rId1"/>
          <a:stretch/>
        </p:blipFill>
        <p:spPr>
          <a:xfrm>
            <a:off x="1981080" y="1295280"/>
            <a:ext cx="5105520" cy="4557960"/>
          </a:xfrm>
          <a:prstGeom prst="rect">
            <a:avLst/>
          </a:prstGeom>
          <a:ln w="0">
            <a:noFill/>
          </a:ln>
        </p:spPr>
      </p:pic>
      <p:sp>
        <p:nvSpPr>
          <p:cNvPr id="986" name="Text Box 3"/>
          <p:cNvSpPr/>
          <p:nvPr/>
        </p:nvSpPr>
        <p:spPr>
          <a:xfrm>
            <a:off x="1295280" y="3808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地壳中各种元素的质量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4"/>
          <p:cNvSpPr/>
          <p:nvPr/>
        </p:nvSpPr>
        <p:spPr>
          <a:xfrm>
            <a:off x="1523880" y="59436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氧＞ 硅＞ 铝＞ 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谐音“养闺女贴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02:28:55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9-12-09T02:47:10Z</dcterms:modified>
  <cp:revision>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9</vt:lpwstr>
  </property>
  <property fmtid="{D5CDD505-2E9C-101B-9397-08002B2CF9AE}" pid="3" name="Version">
    <vt:r8>1</vt:r8>
  </property>
</Properties>
</file>