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10CA-5205-44FA-992B-144EE7F33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DBCA-0E56-4E92-8D0A-574B6CE3A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F04-4664-4C2B-B48E-11DB25AA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C269-20CA-4893-AB0A-76E7F96E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FE4-0DAE-42C0-BE05-19D03980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824-FA97-4945-8882-B029AB0B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C17C-01D6-4B4C-AACB-435CC0F3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53F-F1CB-4EBE-B8EF-18FA6745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33F-724D-40AC-A2D1-C45DBF3D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AA6-89CE-4D1C-948A-D62F636A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301-B8EE-4B42-BA4C-6309CCD8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C892-DD3B-419D-BC29-9C59BE02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A60-0747-47DD-AA59-07BA7215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E5E6-8025-4ABF-BF6A-2DD0747A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A3C4-1808-4478-A9FF-F7DF54453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image" Target="../media/image2.jpeg"/><Relationship Id="rId13" Type="http://schemas.openxmlformats.org/officeDocument/2006/relationships/image" Target="../media/image3.pn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image" Target="../media/image7.jpeg"/><Relationship Id="rId18" Type="http://schemas.openxmlformats.org/officeDocument/2006/relationships/image" Target="../media/image8.jpeg"/><Relationship Id="rId19" Type="http://schemas.openxmlformats.org/officeDocument/2006/relationships/image" Target="../media/image9.jpeg"/><Relationship Id="rId20" Type="http://schemas.openxmlformats.org/officeDocument/2006/relationships/image" Target="../media/image10.png"/><Relationship Id="rId21" Type="http://schemas.openxmlformats.org/officeDocument/2006/relationships/image" Target="../media/image11.jpeg"/><Relationship Id="rId22" Type="http://schemas.openxmlformats.org/officeDocument/2006/relationships/image" Target="../media/image12.jpeg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5840" y="11592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方正姚体"/>
              </a:rPr>
              <a:t>人教版小语第七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763640" y="1628640"/>
            <a:ext cx="56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蟋蟀的住宅</a:t>
            </a:r>
            <a:endParaRPr b="1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0041115222820276"/>
          <p:cNvPicPr/>
          <p:nvPr/>
        </p:nvPicPr>
        <p:blipFill>
          <a:blip r:embed="rId12"/>
          <a:stretch/>
        </p:blipFill>
        <p:spPr>
          <a:xfrm>
            <a:off x="6443640" y="2708280"/>
            <a:ext cx="1525680" cy="172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13"/>
          <a:stretch/>
        </p:blipFill>
        <p:spPr>
          <a:xfrm>
            <a:off x="2700360" y="4076640"/>
            <a:ext cx="2448000" cy="194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《蟋蟀的住宅》插图"/>
          <p:cNvPicPr/>
          <p:nvPr/>
        </p:nvPicPr>
        <p:blipFill>
          <a:blip r:embed="rId14"/>
          <a:stretch/>
        </p:blipFill>
        <p:spPr>
          <a:xfrm>
            <a:off x="5940360" y="4581360"/>
            <a:ext cx="2519280" cy="1987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《蟋蟀的住宅》图片1"/>
          <p:cNvPicPr/>
          <p:nvPr/>
        </p:nvPicPr>
        <p:blipFill>
          <a:blip r:embed="rId15"/>
          <a:stretch/>
        </p:blipFill>
        <p:spPr>
          <a:xfrm>
            <a:off x="0" y="0"/>
            <a:ext cx="2682720" cy="2378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《蟋蟀的住宅》图片2"/>
          <p:cNvPicPr/>
          <p:nvPr/>
        </p:nvPicPr>
        <p:blipFill>
          <a:blip r:embed="rId16"/>
          <a:stretch/>
        </p:blipFill>
        <p:spPr>
          <a:xfrm>
            <a:off x="179280" y="2421000"/>
            <a:ext cx="2249640" cy="172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02"/>
          <p:cNvPicPr/>
          <p:nvPr/>
        </p:nvPicPr>
        <p:blipFill>
          <a:blip r:embed="rId17"/>
          <a:stretch/>
        </p:blipFill>
        <p:spPr>
          <a:xfrm>
            <a:off x="4716360" y="189000"/>
            <a:ext cx="4086360" cy="233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蟋蟀图"/>
          <p:cNvPicPr/>
          <p:nvPr/>
        </p:nvPicPr>
        <p:blipFill>
          <a:blip r:embed="rId18"/>
          <a:stretch/>
        </p:blipFill>
        <p:spPr>
          <a:xfrm>
            <a:off x="611280" y="4797360"/>
            <a:ext cx="2195280" cy="164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dahai-1s"/>
          <p:cNvPicPr/>
          <p:nvPr/>
        </p:nvPicPr>
        <p:blipFill>
          <a:blip r:embed="rId19"/>
          <a:stretch/>
        </p:blipFill>
        <p:spPr>
          <a:xfrm>
            <a:off x="2916360" y="2205000"/>
            <a:ext cx="2376360" cy="1631880"/>
          </a:xfrm>
          <a:prstGeom prst="rect">
            <a:avLst/>
          </a:prstGeom>
          <a:ln w="0">
            <a:noFill/>
          </a:ln>
        </p:spPr>
      </p:pic>
      <p:pic>
        <p:nvPicPr>
          <p:cNvPr id="59" name="蟋蟀.wav" descr=""/>
          <p:cNvPicPr/>
          <p:nvPr/>
        </p:nvPicPr>
        <p:blipFill>
          <a:blip r:embed="rId20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"/>
          <p:cNvPicPr/>
          <p:nvPr/>
        </p:nvPicPr>
        <p:blipFill>
          <a:blip r:embed="rId21"/>
          <a:stretch/>
        </p:blipFill>
        <p:spPr>
          <a:xfrm>
            <a:off x="2771640" y="333360"/>
            <a:ext cx="1798920" cy="1411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"/>
          <p:cNvPicPr/>
          <p:nvPr/>
        </p:nvPicPr>
        <p:blipFill>
          <a:blip r:embed="rId22"/>
          <a:stretch/>
        </p:blipFill>
        <p:spPr>
          <a:xfrm>
            <a:off x="2843280" y="1844640"/>
            <a:ext cx="2519280" cy="21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216000" y="1776600"/>
            <a:ext cx="88930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华文宋体"/>
              </a:rPr>
              <a:t>        </a:t>
            </a:r>
            <a:r>
              <a:rPr b="1" lang="zh-CN" sz="3000" spc="-1" strike="noStrike">
                <a:solidFill>
                  <a:srgbClr val="ff33cc"/>
                </a:solidFill>
                <a:latin typeface="Arial"/>
                <a:ea typeface="华文宋体"/>
              </a:rPr>
              <a:t>蟋蟀，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华文宋体"/>
              </a:rPr>
              <a:t>又名蛐蛐，昆虫，体黑褐色，触角很长，后腿粗大，善于跳跃。尾部有尾须一对。雄的好斗，两翅摩擦能发声。吃植物的根、茎和种子，对农业有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华文宋体"/>
              </a:rPr>
              <a:t>　　课文中提到蟋蟀会唱歌，也会弹琴。实际上蟋蟀是不会鸣叫的，那</a:t>
            </a:r>
            <a:r>
              <a:rPr b="1" lang="zh-CN" sz="3000" spc="-1" strike="noStrike">
                <a:solidFill>
                  <a:srgbClr val="0000cc"/>
                </a:solidFill>
                <a:latin typeface="华文宋体"/>
                <a:ea typeface="华文宋体"/>
              </a:rPr>
              <a:t>“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华文宋体"/>
              </a:rPr>
              <a:t>瞿！瞿！瞿！</a:t>
            </a:r>
            <a:r>
              <a:rPr b="1" lang="zh-CN" sz="3000" spc="-1" strike="noStrike">
                <a:solidFill>
                  <a:srgbClr val="0000cc"/>
                </a:solidFill>
                <a:latin typeface="华文宋体"/>
                <a:ea typeface="华文宋体"/>
              </a:rPr>
              <a:t>”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华文宋体"/>
              </a:rPr>
              <a:t>的声音是依靠翅膀摩擦而发出来的。蟋蟀的两片翅膀是右翅覆盖在左翅上面。细细观察它那背上的翅膀，下面有一个特别突出的翅球。如果把这翅球放在显微镜下观察，可以发现上面有锯齿状的突起，这个突起叫做</a:t>
            </a:r>
            <a:r>
              <a:rPr b="1" lang="zh-CN" sz="3000" spc="-1" strike="noStrike">
                <a:solidFill>
                  <a:srgbClr val="0000cc"/>
                </a:solidFill>
                <a:latin typeface="华文宋体"/>
                <a:ea typeface="华文宋体"/>
              </a:rPr>
              <a:t>“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华文宋体"/>
              </a:rPr>
              <a:t>弓</a:t>
            </a:r>
            <a:r>
              <a:rPr b="1" lang="zh-CN" sz="3000" spc="-1" strike="noStrike">
                <a:solidFill>
                  <a:srgbClr val="0000cc"/>
                </a:solidFill>
                <a:latin typeface="华文宋体"/>
                <a:ea typeface="华文宋体"/>
              </a:rPr>
              <a:t>”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华文宋体"/>
              </a:rPr>
              <a:t>。蟋蟀在发声时，就是举起背上的左右翅，用右翅上的</a:t>
            </a:r>
            <a:r>
              <a:rPr b="1" lang="zh-CN" sz="3000" spc="-1" strike="noStrike">
                <a:solidFill>
                  <a:srgbClr val="0000cc"/>
                </a:solidFill>
                <a:latin typeface="华文宋体"/>
                <a:ea typeface="华文宋体"/>
              </a:rPr>
              <a:t>“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华文宋体"/>
              </a:rPr>
              <a:t>弓</a:t>
            </a:r>
            <a:r>
              <a:rPr b="1" lang="zh-CN" sz="3000" spc="-1" strike="noStrike">
                <a:solidFill>
                  <a:srgbClr val="0000cc"/>
                </a:solidFill>
                <a:latin typeface="华文宋体"/>
                <a:ea typeface="华文宋体"/>
              </a:rPr>
              <a:t>”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华文宋体"/>
              </a:rPr>
              <a:t>摩擦着左翅上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华文宋体"/>
              </a:rPr>
              <a:t>细脉，便发出悦耳的鸣声，这就是蟋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华文宋体"/>
                <a:ea typeface="华文宋体"/>
              </a:rPr>
              <a:t>“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华文宋体"/>
              </a:rPr>
              <a:t>唱歌</a:t>
            </a:r>
            <a:r>
              <a:rPr b="1" lang="zh-CN" sz="3000" spc="-1" strike="noStrike">
                <a:solidFill>
                  <a:srgbClr val="0000cc"/>
                </a:solidFill>
                <a:latin typeface="华文宋体"/>
                <a:ea typeface="华文宋体"/>
              </a:rPr>
              <a:t>”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华文宋体"/>
              </a:rPr>
              <a:t>、</a:t>
            </a:r>
            <a:r>
              <a:rPr b="1" lang="zh-CN" sz="3000" spc="-1" strike="noStrike">
                <a:solidFill>
                  <a:srgbClr val="0000cc"/>
                </a:solidFill>
                <a:latin typeface="华文宋体"/>
                <a:ea typeface="华文宋体"/>
              </a:rPr>
              <a:t>“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华文宋体"/>
              </a:rPr>
              <a:t>弹琴</a:t>
            </a:r>
            <a:r>
              <a:rPr b="1" lang="zh-CN" sz="3000" spc="-1" strike="noStrike">
                <a:solidFill>
                  <a:srgbClr val="0000cc"/>
                </a:solidFill>
                <a:latin typeface="华文宋体"/>
                <a:ea typeface="华文宋体"/>
              </a:rPr>
              <a:t>”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华文宋体"/>
              </a:rPr>
              <a:t>的秘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蟋蟀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6877080" y="5229360"/>
            <a:ext cx="1798560" cy="1411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15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15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5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down_r06_c06"/>
          <p:cNvPicPr/>
          <p:nvPr/>
        </p:nvPicPr>
        <p:blipFill>
          <a:blip r:embed="rId1"/>
          <a:srcRect l="0" t="0" r="0" b="361"/>
          <a:stretch/>
        </p:blipFill>
        <p:spPr>
          <a:xfrm>
            <a:off x="106200" y="189000"/>
            <a:ext cx="1879920" cy="2160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54200" y="981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c27bd"/>
                </a:solidFill>
                <a:latin typeface="Arial"/>
                <a:ea typeface="华文隶书"/>
              </a:rPr>
              <a:t>小组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250920" y="525924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自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2124000" y="525924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批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3851280" y="522936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交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5580000" y="522936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汇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6"/>
          <p:cNvSpPr/>
          <p:nvPr/>
        </p:nvSpPr>
        <p:spPr>
          <a:xfrm>
            <a:off x="1547640" y="5661000"/>
            <a:ext cx="576360" cy="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7"/>
          <p:cNvSpPr/>
          <p:nvPr/>
        </p:nvSpPr>
        <p:spPr>
          <a:xfrm>
            <a:off x="3348000" y="5661000"/>
            <a:ext cx="576360" cy="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8"/>
          <p:cNvSpPr/>
          <p:nvPr/>
        </p:nvSpPr>
        <p:spPr>
          <a:xfrm>
            <a:off x="5075280" y="5661000"/>
            <a:ext cx="576360" cy="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2050920" y="1125360"/>
            <a:ext cx="70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、蟋蟀的住宅有哪些特点，作者是怎样介绍这些特点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1332000" y="2997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、蟋蟀是怎样修建住宅的，作者又是怎样介绍这一过程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2" descr=""/>
          <p:cNvPicPr/>
          <p:nvPr/>
        </p:nvPicPr>
        <p:blipFill>
          <a:blip r:embed="rId2"/>
          <a:stretch/>
        </p:blipFill>
        <p:spPr>
          <a:xfrm>
            <a:off x="6877080" y="5229360"/>
            <a:ext cx="1798560" cy="1411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9"/>
          <p:cNvSpPr/>
          <p:nvPr/>
        </p:nvSpPr>
        <p:spPr>
          <a:xfrm>
            <a:off x="2340000" y="213372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新魏"/>
              </a:rPr>
              <a:t>蟋蟀的自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684360" y="3789360"/>
            <a:ext cx="82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请你以蟋蟀的身份，向大家介绍一下自己住宅特点及修建过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71280" y="2354040"/>
            <a:ext cx="896472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法布尔和他的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昆虫的故事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法布尔（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823——1915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）是法国近代杰出的昆虫学家，也是蜚声世界的科普读物作家。他写的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昆虫的故事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又译作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昆虫记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，以其独特的风格和引人入胜的内容赢得了世界各国读者的喜爱。他生于法国南部山区一个贫苦农民家庭。自幼喜欢动植物，尤其是昆虫。他没上过正规大学，主要靠自学成才，后来当中学教师。法布尔刻苦研究昆虫，晚年对昆虫的研究更是到了着迷的程度。他用大半生的时间和精力陆续写成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大卷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昆虫的故事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。这部书向人们介绍了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余种昆虫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和小动物，是引人入胜的科普散文结集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Object 5" descr=""/>
          <p:cNvPicPr/>
          <p:nvPr/>
        </p:nvPicPr>
        <p:blipFill>
          <a:blip r:embed="rId1"/>
          <a:stretch/>
        </p:blipFill>
        <p:spPr>
          <a:xfrm>
            <a:off x="7201080" y="5410080"/>
            <a:ext cx="1692000" cy="1447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model_tu_sound"/>
          <p:cNvPicPr/>
          <p:nvPr/>
        </p:nvPicPr>
        <p:blipFill>
          <a:blip r:embed="rId2"/>
          <a:stretch/>
        </p:blipFill>
        <p:spPr>
          <a:xfrm>
            <a:off x="0" y="0"/>
            <a:ext cx="18716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15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15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5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60360" y="148428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、请你以蟋蟀的身份，向家长或同学介绍自己住宅特点及修建过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60360" y="497520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仔细观察一种小动物，写一篇短文。写出这种小动物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24000" y="342900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课外阅读法布尔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昆虫的故事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，向同学们介绍书中的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title_room"/>
          <p:cNvPicPr/>
          <p:nvPr/>
        </p:nvPicPr>
        <p:blipFill>
          <a:blip r:embed="rId1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02:54:00Z</dcterms:created>
  <dc:creator>第一PPT模板网-WWW.1PPT.COM</dc:creator>
  <dc:description>第一PPT模板网-WWW.1PPT.COM
</dc:description>
  <dc:language>en-US</dc:language>
  <cp:lastModifiedBy>Administrator</cp:lastModifiedBy>
  <dcterms:modified xsi:type="dcterms:W3CDTF">2019-11-20T02:12:03Z</dcterms:modified>
  <cp:revision>8</cp:revision>
  <dc:subject/>
  <dc:title>第一PPT模板网-WWW.1PPT.COM</dc:title>
</cp:coreProperties>
</file>