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2"/>
          <p:cNvSpPr/>
          <p:nvPr/>
        </p:nvSpPr>
        <p:spPr>
          <a:xfrm>
            <a:off x="1028880" y="1555920"/>
            <a:ext cx="7099200" cy="211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第一单元   走进化学世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微软雅黑"/>
                <a:ea typeface="微软雅黑"/>
              </a:rPr>
              <a:t>物质的变化和性质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矩形 2"/>
          <p:cNvSpPr/>
          <p:nvPr/>
        </p:nvSpPr>
        <p:spPr>
          <a:xfrm>
            <a:off x="2482200" y="5915160"/>
            <a:ext cx="4192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精品下载网</a:t>
            </a:r>
            <a:r>
              <a:rPr b="1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-WWW.j9p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0" y="4327560"/>
            <a:ext cx="2143080" cy="5205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学变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77840" y="1477800"/>
            <a:ext cx="2001960" cy="5205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物理变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480400" y="64764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2036880" y="909720"/>
            <a:ext cx="315720" cy="1711080"/>
          </a:xfrm>
          <a:custGeom>
            <a:avLst/>
            <a:gdLst>
              <a:gd name="textAreaLeft" fmla="*/ 201600 w 315720"/>
              <a:gd name="textAreaRight" fmla="*/ 316080 w 315720"/>
              <a:gd name="textAreaTop" fmla="*/ 44280 h 1711080"/>
              <a:gd name="textAreaBottom" fmla="*/ 1666800 h 171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2081160" y="3535200"/>
            <a:ext cx="331920" cy="2347920"/>
          </a:xfrm>
          <a:custGeom>
            <a:avLst/>
            <a:gdLst>
              <a:gd name="textAreaLeft" fmla="*/ 212040 w 331920"/>
              <a:gd name="textAreaRight" fmla="*/ 332280 w 331920"/>
              <a:gd name="textAreaTop" fmla="*/ 61200 h 2347920"/>
              <a:gd name="textAreaBottom" fmla="*/ 2286720 h 23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2475360" y="147492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象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2473920" y="22845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举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2497680" y="331164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2589480" y="4051440"/>
            <a:ext cx="17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(2).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本质特征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270160" y="5610240"/>
            <a:ext cx="16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举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2431080" y="474660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象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4437720" y="662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生成其他物质的变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509440" y="1457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状态、形状、大小的改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943240" y="2284560"/>
            <a:ext cx="4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矿石粉碎、三态变化、气球爆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泡发光、酒精挥发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368240" y="33084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成其他物质的变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722480" y="4067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有其他物质生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5867280" y="472932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颜色改变、放出气体、生成沉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同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伴有能量变化：吸热、放热、发光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6008040" y="558180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物腐烂、金属生锈、燃烧、火药爆炸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4172760" y="614376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食物腐烂、金属生锈、燃烧一定属于化学变化。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60"/>
                            </p:stCondLst>
                            <p:childTnLst>
                              <p:par>
                                <p:cTn id="2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pic_32585"/>
          <p:cNvPicPr/>
          <p:nvPr/>
        </p:nvPicPr>
        <p:blipFill>
          <a:blip r:embed="rId1"/>
          <a:stretch/>
        </p:blipFill>
        <p:spPr>
          <a:xfrm>
            <a:off x="627120" y="1311120"/>
            <a:ext cx="7762680" cy="3949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95160" y="5327640"/>
            <a:ext cx="1675080" cy="5205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产生沉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78240" y="5392800"/>
            <a:ext cx="1800360" cy="5205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产生气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383160" y="5403960"/>
            <a:ext cx="1981440" cy="5205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 光 发 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2644200" y="450720"/>
            <a:ext cx="1178640" cy="520560"/>
          </a:xfrm>
          <a:prstGeom prst="rect">
            <a:avLst/>
          </a:prstGeom>
          <a:gradFill rotWithShape="0">
            <a:gsLst>
              <a:gs pos="0">
                <a:srgbClr val="66f087">
                  <a:alpha val="54117"/>
                </a:srgbClr>
              </a:gs>
              <a:gs pos="50000">
                <a:srgbClr val="ffffff"/>
              </a:gs>
              <a:gs pos="100000">
                <a:srgbClr val="66f087">
                  <a:alpha val="5411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化学变化中伴随发生的一些现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8"/>
          <p:cNvGrpSpPr/>
          <p:nvPr/>
        </p:nvGrpSpPr>
        <p:grpSpPr>
          <a:xfrm>
            <a:off x="441360" y="603360"/>
            <a:ext cx="511200" cy="269640"/>
            <a:chOff x="441360" y="603360"/>
            <a:chExt cx="511200" cy="269640"/>
          </a:xfrm>
        </p:grpSpPr>
        <p:sp>
          <p:nvSpPr>
            <p:cNvPr id="173" name="AutoShape 3"/>
            <p:cNvSpPr/>
            <p:nvPr/>
          </p:nvSpPr>
          <p:spPr>
            <a:xfrm>
              <a:off x="441360" y="603360"/>
              <a:ext cx="298800" cy="2696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5385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653760" y="603360"/>
              <a:ext cx="298800" cy="2696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2"/>
          <p:cNvSpPr/>
          <p:nvPr/>
        </p:nvSpPr>
        <p:spPr>
          <a:xfrm>
            <a:off x="588960" y="5958000"/>
            <a:ext cx="77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此类现象可以帮助我们判断是否发生了化学变化，但不是充分条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充分条件：是否有其他物质生成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81040" y="703440"/>
            <a:ext cx="6480000" cy="5205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800080"/>
                </a:solidFill>
                <a:latin typeface="Verdana"/>
              </a:rPr>
              <a:t>物理变化和化学变化的区别、联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45960" y="1469880"/>
          <a:ext cx="8356680" cy="4699080"/>
        </p:xfrm>
        <a:graphic>
          <a:graphicData uri="http://schemas.openxmlformats.org/drawingml/2006/table">
            <a:tbl>
              <a:tblPr/>
              <a:tblGrid>
                <a:gridCol w="1469880"/>
                <a:gridCol w="3164040"/>
                <a:gridCol w="3722760"/>
              </a:tblGrid>
              <a:tr h="6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f391"/>
                        </a:gs>
                        <a:gs pos="50000">
                          <a:srgbClr val="ffffff"/>
                        </a:gs>
                        <a:gs pos="100000">
                          <a:srgbClr val="a6f3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物理变化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f391"/>
                        </a:gs>
                        <a:gs pos="50000">
                          <a:srgbClr val="ffffff"/>
                        </a:gs>
                        <a:gs pos="100000">
                          <a:srgbClr val="a6f3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化学变化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f391"/>
                        </a:gs>
                        <a:gs pos="50000">
                          <a:srgbClr val="ffffff"/>
                        </a:gs>
                        <a:gs pos="100000">
                          <a:srgbClr val="a6f391"/>
                        </a:gs>
                      </a:gsLst>
                      <a:lin ang="5400000"/>
                    </a:gradFill>
                  </a:tcPr>
                </a:tc>
              </a:tr>
              <a:tr h="59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概    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没有生成其他物质的变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生成其他物质的变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0"/>
                    </a:gradFill>
                  </a:tcPr>
                </a:tc>
              </a:tr>
              <a:tr h="92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根本区别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（本质区别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___</a:t>
                      </a: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其他物质生成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___</a:t>
                      </a: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其他物质生成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0"/>
                    </a:gradFill>
                  </a:tcPr>
                </a:tc>
              </a:tr>
              <a:tr h="88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外观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状态、形状、大小的改变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变色、生成沉淀、放出气体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发光、放热、吸热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0"/>
                    </a:gradFill>
                  </a:tcPr>
                </a:tc>
              </a:tr>
              <a:tr h="75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微观区别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___</a:t>
                      </a: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新分子、新原子生成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___</a:t>
                      </a: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新分子生成，原子重新组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相互联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24"/>
          <p:cNvSpPr/>
          <p:nvPr/>
        </p:nvSpPr>
        <p:spPr>
          <a:xfrm>
            <a:off x="2524680" y="292896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3300"/>
                </a:solidFill>
                <a:latin typeface="Verdana"/>
              </a:rPr>
              <a:t>无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054880" y="464976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3300"/>
                </a:solidFill>
                <a:latin typeface="Verdana"/>
              </a:rPr>
              <a:t>无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5887080" y="290988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3300"/>
                </a:solidFill>
                <a:latin typeface="Verdana"/>
              </a:rPr>
              <a:t>有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5163120" y="465300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3300"/>
                </a:solidFill>
                <a:latin typeface="Verdana"/>
              </a:rPr>
              <a:t>有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2044800" y="522288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二者常常同时发生，在化学变化中一定有物理变化，而物理变化中不一定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有化学变化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37"/>
          <p:cNvGrpSpPr/>
          <p:nvPr/>
        </p:nvGrpSpPr>
        <p:grpSpPr>
          <a:xfrm>
            <a:off x="757080" y="822240"/>
            <a:ext cx="511200" cy="270000"/>
            <a:chOff x="757080" y="822240"/>
            <a:chExt cx="511200" cy="270000"/>
          </a:xfrm>
        </p:grpSpPr>
        <p:sp>
          <p:nvSpPr>
            <p:cNvPr id="184" name="AutoShape 3"/>
            <p:cNvSpPr/>
            <p:nvPr/>
          </p:nvSpPr>
          <p:spPr>
            <a:xfrm>
              <a:off x="757080" y="822240"/>
              <a:ext cx="298800" cy="27000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5385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4"/>
            <p:cNvSpPr/>
            <p:nvPr/>
          </p:nvSpPr>
          <p:spPr>
            <a:xfrm>
              <a:off x="969480" y="822240"/>
              <a:ext cx="298800" cy="27000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5"/>
          <p:cNvSpPr/>
          <p:nvPr/>
        </p:nvSpPr>
        <p:spPr>
          <a:xfrm>
            <a:off x="793800" y="635040"/>
            <a:ext cx="4875120" cy="581400"/>
          </a:xfrm>
          <a:prstGeom prst="rect">
            <a:avLst/>
          </a:prstGeom>
          <a:gradFill rotWithShape="0">
            <a:gsLst>
              <a:gs pos="0">
                <a:srgbClr val="a6f391">
                  <a:alpha val="59215"/>
                </a:srgbClr>
              </a:gs>
              <a:gs pos="50000">
                <a:srgbClr val="ffffff"/>
              </a:gs>
              <a:gs pos="100000">
                <a:srgbClr val="a6f391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判断下列变化的类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3"/>
          <p:cNvPicPr/>
          <p:nvPr/>
        </p:nvPicPr>
        <p:blipFill>
          <a:blip r:embed="rId1"/>
          <a:stretch/>
        </p:blipFill>
        <p:spPr>
          <a:xfrm>
            <a:off x="5014800" y="1413000"/>
            <a:ext cx="2952720" cy="183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20041216165618dbad3"/>
          <p:cNvPicPr/>
          <p:nvPr/>
        </p:nvPicPr>
        <p:blipFill>
          <a:blip r:embed="rId2"/>
          <a:stretch/>
        </p:blipFill>
        <p:spPr>
          <a:xfrm>
            <a:off x="977760" y="1420920"/>
            <a:ext cx="3581640" cy="1828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20049101120451"/>
          <p:cNvPicPr/>
          <p:nvPr/>
        </p:nvPicPr>
        <p:blipFill>
          <a:blip r:embed="rId3"/>
          <a:stretch/>
        </p:blipFill>
        <p:spPr>
          <a:xfrm>
            <a:off x="1009800" y="4029120"/>
            <a:ext cx="3504960" cy="1752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xin_131001090710110118453"/>
          <p:cNvPicPr/>
          <p:nvPr/>
        </p:nvPicPr>
        <p:blipFill>
          <a:blip r:embed="rId4"/>
          <a:stretch/>
        </p:blipFill>
        <p:spPr>
          <a:xfrm>
            <a:off x="5392800" y="4005360"/>
            <a:ext cx="2089080" cy="17762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1"/>
          <p:cNvSpPr/>
          <p:nvPr/>
        </p:nvSpPr>
        <p:spPr>
          <a:xfrm>
            <a:off x="1803240" y="33512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</a:rPr>
              <a:t>雪的形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622840" y="588312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</a:rPr>
              <a:t>蜡烛的燃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1803240" y="58831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</a:rPr>
              <a:t>云的形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756400" y="33624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</a:rPr>
              <a:t>燃放烟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5"/>
          <p:cNvGrpSpPr/>
          <p:nvPr/>
        </p:nvGrpSpPr>
        <p:grpSpPr>
          <a:xfrm>
            <a:off x="961920" y="790560"/>
            <a:ext cx="511200" cy="270000"/>
            <a:chOff x="961920" y="790560"/>
            <a:chExt cx="511200" cy="270000"/>
          </a:xfrm>
        </p:grpSpPr>
        <p:sp>
          <p:nvSpPr>
            <p:cNvPr id="196" name="AutoShape 3"/>
            <p:cNvSpPr/>
            <p:nvPr/>
          </p:nvSpPr>
          <p:spPr>
            <a:xfrm>
              <a:off x="961920" y="790560"/>
              <a:ext cx="298800" cy="27000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5385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1174320" y="790560"/>
              <a:ext cx="298800" cy="27000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 rot="10800000">
            <a:off x="1511280" y="1483560"/>
            <a:ext cx="6120000" cy="2376360"/>
          </a:xfrm>
          <a:prstGeom prst="cloudCallout">
            <a:avLst>
              <a:gd name="adj1" fmla="val 41175"/>
              <a:gd name="adj2" fmla="val -100300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6200000"/>
          </a:gra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556000" y="2060640"/>
            <a:ext cx="4572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为什么说蜡烛燃烧时既有物理变化又有化学变化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博士"/>
          <p:cNvPicPr/>
          <p:nvPr/>
        </p:nvPicPr>
        <p:blipFill>
          <a:blip r:embed="rId1"/>
          <a:stretch/>
        </p:blipFill>
        <p:spPr>
          <a:xfrm>
            <a:off x="755640" y="50133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719280" y="835560"/>
            <a:ext cx="2557440" cy="5814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一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0"/>
          <p:cNvGrpSpPr/>
          <p:nvPr/>
        </p:nvGrpSpPr>
        <p:grpSpPr>
          <a:xfrm>
            <a:off x="826920" y="998640"/>
            <a:ext cx="511200" cy="269640"/>
            <a:chOff x="826920" y="998640"/>
            <a:chExt cx="511200" cy="269640"/>
          </a:xfrm>
        </p:grpSpPr>
        <p:sp>
          <p:nvSpPr>
            <p:cNvPr id="203" name="AutoShape 3"/>
            <p:cNvSpPr/>
            <p:nvPr/>
          </p:nvSpPr>
          <p:spPr>
            <a:xfrm>
              <a:off x="826920" y="998640"/>
              <a:ext cx="298800" cy="2696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5385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"/>
            <p:cNvSpPr/>
            <p:nvPr/>
          </p:nvSpPr>
          <p:spPr>
            <a:xfrm>
              <a:off x="1039320" y="998640"/>
              <a:ext cx="298800" cy="2696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3"/>
          <p:cNvSpPr/>
          <p:nvPr/>
        </p:nvSpPr>
        <p:spPr>
          <a:xfrm>
            <a:off x="2233440" y="5027760"/>
            <a:ext cx="69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石蜡溶化、汽化是物理变化；石蜡燃烧是化学变化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2" descr=""/>
          <p:cNvPicPr/>
          <p:nvPr/>
        </p:nvPicPr>
        <p:blipFill>
          <a:blip r:embed="rId1"/>
          <a:stretch/>
        </p:blipFill>
        <p:spPr>
          <a:xfrm>
            <a:off x="647640" y="1300320"/>
            <a:ext cx="7859880" cy="43639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1969920" y="4173480"/>
            <a:ext cx="18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化学变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604960" y="1828800"/>
            <a:ext cx="18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化学变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412560"/>
            <a:ext cx="5002200" cy="5792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二、物理性质和化学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62080" y="515880"/>
            <a:ext cx="1766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馨提示：怎样区别“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性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”和“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变化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2174760" y="1247760"/>
            <a:ext cx="10256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028960" y="806400"/>
            <a:ext cx="1396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80"/>
                </a:solidFill>
                <a:latin typeface="Arial"/>
              </a:rPr>
              <a:t>描述词不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13000" y="703440"/>
            <a:ext cx="123840" cy="1112760"/>
          </a:xfrm>
          <a:custGeom>
            <a:avLst/>
            <a:gdLst>
              <a:gd name="textAreaLeft" fmla="*/ 79200 w 123840"/>
              <a:gd name="textAreaRight" fmla="*/ 124200 w 123840"/>
              <a:gd name="textAreaTop" fmla="*/ 28800 h 1112760"/>
              <a:gd name="textAreaBottom" fmla="*/ 1083960 h 11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427560" y="561960"/>
            <a:ext cx="744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性质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3403440" y="1512720"/>
            <a:ext cx="13971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变化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294080" y="561960"/>
            <a:ext cx="3784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能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够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、可（以）、（不）易、难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4233960" y="1512720"/>
            <a:ext cx="31669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变成、生成、成了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538200" y="2143080"/>
            <a:ext cx="712152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举例：判断下列各种说法分别属于物质的变化还是性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水变成水蒸气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酒精挥发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酒精能挥发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铁杵磨成针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铁器易生锈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纸张能燃烧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62480" y="3227400"/>
            <a:ext cx="485280" cy="1476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</a:t>
            </a: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化    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285920" y="2455920"/>
            <a:ext cx="576360" cy="2989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77760 h 2989080"/>
              <a:gd name="textAreaBottom" fmla="*/ 2911320 h 29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889280" y="2297160"/>
            <a:ext cx="83808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变化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935000" y="3392640"/>
            <a:ext cx="82872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组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935000" y="4148280"/>
            <a:ext cx="79236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结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935000" y="5192640"/>
            <a:ext cx="79236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性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2797200" y="1433520"/>
            <a:ext cx="762120" cy="2209680"/>
          </a:xfrm>
          <a:custGeom>
            <a:avLst/>
            <a:gdLst>
              <a:gd name="textAreaLeft" fmla="*/ 487080 w 762120"/>
              <a:gd name="textAreaRight" fmla="*/ 762480 w 7621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591000" y="1182600"/>
            <a:ext cx="138276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物理变化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551400" y="3305160"/>
            <a:ext cx="144936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化学变化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2793960" y="4632480"/>
            <a:ext cx="439920" cy="1538280"/>
          </a:xfrm>
          <a:custGeom>
            <a:avLst/>
            <a:gdLst>
              <a:gd name="textAreaLeft" fmla="*/ 281160 w 439920"/>
              <a:gd name="textAreaRight" fmla="*/ 440280 w 439920"/>
              <a:gd name="textAreaTop" fmla="*/ 39960 h 1538280"/>
              <a:gd name="textAreaBottom" fmla="*/ 1498320 h 15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301920" y="4400640"/>
            <a:ext cx="163044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物理性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3301920" y="5924520"/>
            <a:ext cx="163044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化学性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3711600" y="2239920"/>
            <a:ext cx="100800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联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4165560" y="1589040"/>
            <a:ext cx="0" cy="609480"/>
          </a:xfrm>
          <a:prstGeom prst="line">
            <a:avLst/>
          </a:prstGeom>
          <a:ln w="3168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 flipV="1">
            <a:off x="4176720" y="2719440"/>
            <a:ext cx="0" cy="533520"/>
          </a:xfrm>
          <a:prstGeom prst="line">
            <a:avLst/>
          </a:prstGeom>
          <a:ln w="3168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4967280" y="4545000"/>
            <a:ext cx="441360" cy="1646280"/>
          </a:xfrm>
          <a:custGeom>
            <a:avLst/>
            <a:gdLst>
              <a:gd name="textAreaLeft" fmla="*/ 0 w 441360"/>
              <a:gd name="textAreaRight" fmla="*/ 159480 w 441360"/>
              <a:gd name="textAreaTop" fmla="*/ 42840 h 1646280"/>
              <a:gd name="textAreaBottom" fmla="*/ 1603440 h 164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10296"/>
                </a:lnTo>
                <a:cubicBezTo>
                  <a:pt x="10800" y="11196"/>
                  <a:pt x="16200" y="12095"/>
                  <a:pt x="21600" y="12095"/>
                </a:cubicBezTo>
                <a:cubicBezTo>
                  <a:pt x="16200" y="12095"/>
                  <a:pt x="10800" y="12995"/>
                  <a:pt x="10800" y="13894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5003640" y="1447920"/>
            <a:ext cx="729000" cy="2160360"/>
          </a:xfrm>
          <a:custGeom>
            <a:avLst/>
            <a:gdLst>
              <a:gd name="textAreaLeft" fmla="*/ 0 w 729000"/>
              <a:gd name="textAreaRight" fmla="*/ 263160 w 729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5834160" y="2214720"/>
            <a:ext cx="718920" cy="6476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区别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5665680" y="5237280"/>
            <a:ext cx="828720" cy="6476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区别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1"/>
          <p:cNvSpPr/>
          <p:nvPr/>
        </p:nvSpPr>
        <p:spPr>
          <a:xfrm>
            <a:off x="6624720" y="2457360"/>
            <a:ext cx="441360" cy="3168720"/>
          </a:xfrm>
          <a:custGeom>
            <a:avLst/>
            <a:gdLst>
              <a:gd name="textAreaLeft" fmla="*/ 0 w 441360"/>
              <a:gd name="textAreaRight" fmla="*/ 159480 w 4413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7160040" y="3646440"/>
            <a:ext cx="485280" cy="8650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联 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539640" y="560520"/>
            <a:ext cx="4551480" cy="520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Comic Sans MS"/>
              </a:rPr>
              <a:t>学完本课题你应该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24"/>
          <p:cNvGrpSpPr/>
          <p:nvPr/>
        </p:nvGrpSpPr>
        <p:grpSpPr>
          <a:xfrm>
            <a:off x="669960" y="682560"/>
            <a:ext cx="511200" cy="270000"/>
            <a:chOff x="669960" y="682560"/>
            <a:chExt cx="511200" cy="270000"/>
          </a:xfrm>
        </p:grpSpPr>
        <p:sp>
          <p:nvSpPr>
            <p:cNvPr id="242" name="AutoShape 3"/>
            <p:cNvSpPr/>
            <p:nvPr/>
          </p:nvSpPr>
          <p:spPr>
            <a:xfrm>
              <a:off x="669960" y="682560"/>
              <a:ext cx="298800" cy="27000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5385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"/>
            <p:cNvSpPr/>
            <p:nvPr/>
          </p:nvSpPr>
          <p:spPr>
            <a:xfrm>
              <a:off x="882360" y="682560"/>
              <a:ext cx="298800" cy="27000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514440" y="173160"/>
            <a:ext cx="8110440" cy="5083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自我诊断检测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判断木炭在空气中燃烧是化学变化的主要依据是（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产生红光               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放出大量的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生成无色气体二氧化碳   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木炭消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下列变化属于物理变化的是（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火药爆炸      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煤的燃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矿石粉碎               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钢铁生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下列现象属于化学变化的是（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冰融化成水             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钢铁生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钢锭轧成钢条           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蜡烛熔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858080" y="969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5202360" y="24177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197320" y="38368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74840" y="5302080"/>
            <a:ext cx="8180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下列四种变化中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有一种与其他三者有本质的区别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它是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(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铁生锈  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水汽化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煤燃烧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脂肪酸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8074440" y="5279040"/>
            <a:ext cx="656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0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558720" y="2133720"/>
            <a:ext cx="9720" cy="19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3"/>
          <p:cNvSpPr/>
          <p:nvPr/>
        </p:nvSpPr>
        <p:spPr>
          <a:xfrm>
            <a:off x="544680" y="3533400"/>
            <a:ext cx="78958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下列变化属于化学变化的是（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牛奶酸败 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冰雪融化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试管破裂 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干冰升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4900680" y="3534120"/>
            <a:ext cx="48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88880" y="328680"/>
            <a:ext cx="81802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物质世界充满了化学变化，人类需要的大部分能量也是由化学变化产生的。下列生产、生活实例不是利用化学变化产生能量的是（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电厂以煤为燃料，进行火力发电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人维持体温和生命活动所需要的能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三峡大坝建成发电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利用炸药开山炸石和拆除危旧建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2416680" y="1220760"/>
            <a:ext cx="400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80960" y="4976640"/>
            <a:ext cx="78962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7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下列成语中，一定包含有化学变化的是（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木已成舟 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花香四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蜡烛成灰 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滴水成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6302160" y="5059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719280" y="652320"/>
            <a:ext cx="7632720" cy="687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世间的万物总是在不停的发生着变化，这些变化共分为几类，如何区分他们呢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6" descr="3"/>
          <p:cNvPicPr/>
          <p:nvPr/>
        </p:nvPicPr>
        <p:blipFill>
          <a:blip r:embed="rId1"/>
          <a:stretch/>
        </p:blipFill>
        <p:spPr>
          <a:xfrm>
            <a:off x="4788000" y="2313000"/>
            <a:ext cx="3003480" cy="18684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7" descr="20041216165618dbad3"/>
          <p:cNvPicPr/>
          <p:nvPr/>
        </p:nvPicPr>
        <p:blipFill>
          <a:blip r:embed="rId2"/>
          <a:stretch/>
        </p:blipFill>
        <p:spPr>
          <a:xfrm>
            <a:off x="1066680" y="2320920"/>
            <a:ext cx="3492720" cy="18288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20049101120451"/>
          <p:cNvPicPr/>
          <p:nvPr/>
        </p:nvPicPr>
        <p:blipFill>
          <a:blip r:embed="rId3"/>
          <a:stretch/>
        </p:blipFill>
        <p:spPr>
          <a:xfrm>
            <a:off x="1066680" y="4503600"/>
            <a:ext cx="3505320" cy="1752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xin_131001090710110118453"/>
          <p:cNvPicPr/>
          <p:nvPr/>
        </p:nvPicPr>
        <p:blipFill>
          <a:blip r:embed="rId4"/>
          <a:stretch/>
        </p:blipFill>
        <p:spPr>
          <a:xfrm>
            <a:off x="4824360" y="4456080"/>
            <a:ext cx="30146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-4489560" y="3314880"/>
            <a:ext cx="19080" cy="1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2"/>
          <a:stretch/>
        </p:blipFill>
        <p:spPr>
          <a:xfrm>
            <a:off x="-4489560" y="4035600"/>
            <a:ext cx="19080" cy="9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571680" y="1352160"/>
            <a:ext cx="793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8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日常生活中我们常观察到以下现象：①菜刀表面常产生棕黄色的斑点  ②新鲜萝卜放入泡菜坛中，几天后萝卜变酸了  ③水果腐烂后发出难闻的气味  ④把鸡蛋放入白醋中，蛋壳表面产生气泡  ⑤农田里烧麦沤肥，浓烟冲天  ⑥点燃烟花可看到美丽的焰火、闻到刺激性气味，现有四位同学就以上现象发表看法，你认为正确的是（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6440" y="3420360"/>
            <a:ext cx="76579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甲同学认为上述现象不能判断是否发生了化学反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乙同学认为上述现象表明变化后都产生了新物质，所以都发生了化学反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丙同学认为除了②以外，其余都是化学变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丁同学认为上述现象确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实表明变化后都产生了新物质，但不一定发生了化学反应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7118280" y="2473920"/>
            <a:ext cx="48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647640" y="981000"/>
            <a:ext cx="7812000" cy="283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将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物理变化  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物理性质  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化学性质  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化学变化  填入下列空格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（１）硫是淡黄色固体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　　　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）将少量硫粉放入燃烧匙中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将燃烧匙放在酒精灯上火焰加热，硫粉熔化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（４）继续加热，硫在空气中燃烧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（５）硫能燃烧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990960" y="220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267000" y="32716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448240" y="3868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2938320" y="440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503280" y="190800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常中的下列做法，可用物质的化学性质解释的是（  ）①用汽油洗掉衣服上的油污  ②用纯碱除去面团因发酵产生的酸味  ③用大理石作装饰材料  ④家中熬骨汤时，加入少量食醋可以增加汤中的钙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①②        B.②④       C.①③④      D.②③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7906320" y="1408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1"/>
          <p:cNvSpPr/>
          <p:nvPr/>
        </p:nvSpPr>
        <p:spPr>
          <a:xfrm>
            <a:off x="596880" y="2170440"/>
            <a:ext cx="78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煤气是人们日常生活中的一种重要的燃料，它的主要成分是一氧化碳。一氧化碳是一种没有颜色、没有气味的有毒气体。为了防止煤气中毒，人们有意在煤气里加入少量有强烈刺激性气味的气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醚。当煤气泄露时，人们可以根据硫醚的气味觉察到煤气的泄露，以便及时采取措施。在标准状况下，一氧化碳难溶于水，密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5 g·L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比空气密度略小。一氧化碳有剧毒，因为它能与血液中的血红蛋白结合，使人体缺氧。一氧化碳能在空气中燃烧生成二氧化碳。在冶金工业上，通常用一氧化碳作为还原剂，将铁矿石中的碳元素还原出来。请你根据阅读材料完成下列问题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一氧化碳的物理性质有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一氧化碳的化学性质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"/>
          <p:cNvSpPr/>
          <p:nvPr/>
        </p:nvSpPr>
        <p:spPr>
          <a:xfrm>
            <a:off x="1908000" y="3063960"/>
            <a:ext cx="503280" cy="504720"/>
          </a:xfrm>
          <a:prstGeom prst="downArrow">
            <a:avLst>
              <a:gd name="adj1" fmla="val 50000"/>
              <a:gd name="adj2" fmla="val 250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604800" y="1836720"/>
            <a:ext cx="302436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98" y="10800"/>
                </a:moveTo>
                <a:cubicBezTo>
                  <a:pt x="1298" y="16048"/>
                  <a:pt x="5552" y="20302"/>
                  <a:pt x="10800" y="20302"/>
                </a:cubicBezTo>
                <a:cubicBezTo>
                  <a:pt x="16048" y="20302"/>
                  <a:pt x="20302" y="16048"/>
                  <a:pt x="20302" y="10800"/>
                </a:cubicBezTo>
                <a:cubicBezTo>
                  <a:pt x="20302" y="5552"/>
                  <a:pt x="16048" y="1298"/>
                  <a:pt x="10800" y="1298"/>
                </a:cubicBezTo>
                <a:cubicBezTo>
                  <a:pt x="5552" y="1298"/>
                  <a:pt x="1298" y="5552"/>
                  <a:pt x="1298" y="10800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34920" y="3679920"/>
            <a:ext cx="2894040" cy="642600"/>
          </a:xfrm>
          <a:prstGeom prst="rect">
            <a:avLst/>
          </a:prstGeom>
          <a:gradFill rotWithShape="0">
            <a:gsLst>
              <a:gs pos="0">
                <a:srgbClr val="a4f8fa"/>
              </a:gs>
              <a:gs pos="50000">
                <a:srgbClr val="ffffff"/>
              </a:gs>
              <a:gs pos="100000">
                <a:srgbClr val="a4f8f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物质变化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新物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6122880" y="3079800"/>
            <a:ext cx="503280" cy="504720"/>
          </a:xfrm>
          <a:prstGeom prst="downArrow">
            <a:avLst>
              <a:gd name="adj1" fmla="val 50000"/>
              <a:gd name="adj2" fmla="val 250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394160" y="1811160"/>
            <a:ext cx="4103640" cy="122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755" y="10800"/>
                </a:moveTo>
                <a:cubicBezTo>
                  <a:pt x="755" y="16348"/>
                  <a:pt x="5252" y="20845"/>
                  <a:pt x="10800" y="20845"/>
                </a:cubicBezTo>
                <a:cubicBezTo>
                  <a:pt x="16348" y="20845"/>
                  <a:pt x="20845" y="16348"/>
                  <a:pt x="20845" y="10800"/>
                </a:cubicBezTo>
                <a:cubicBezTo>
                  <a:pt x="20845" y="5252"/>
                  <a:pt x="16348" y="755"/>
                  <a:pt x="10800" y="755"/>
                </a:cubicBezTo>
                <a:cubicBezTo>
                  <a:pt x="5252" y="755"/>
                  <a:pt x="755" y="5252"/>
                  <a:pt x="755" y="10800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294160" y="3679920"/>
            <a:ext cx="2340000" cy="642600"/>
          </a:xfrm>
          <a:prstGeom prst="rect">
            <a:avLst/>
          </a:prstGeom>
          <a:gradFill rotWithShape="0">
            <a:gsLst>
              <a:gs pos="0">
                <a:srgbClr val="a4f8fa"/>
              </a:gs>
              <a:gs pos="50000">
                <a:srgbClr val="ffffff"/>
              </a:gs>
              <a:gs pos="100000">
                <a:srgbClr val="a4f8f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物质变化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新物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042920" y="124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5114880" y="1909800"/>
            <a:ext cx="2736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300" spc="-1" strike="noStrike">
                <a:solidFill>
                  <a:srgbClr val="cc0099"/>
                </a:solidFill>
                <a:latin typeface="宋体"/>
              </a:rPr>
              <a:t>变化前：纸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 rot="5400000">
            <a:off x="1830240" y="5014800"/>
            <a:ext cx="65700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 rot="5400000">
            <a:off x="6071760" y="5024160"/>
            <a:ext cx="606240" cy="50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1309680" y="5727600"/>
            <a:ext cx="1641600" cy="459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变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5510160" y="5769000"/>
            <a:ext cx="1873440" cy="459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变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1116000" y="2000160"/>
            <a:ext cx="2016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cc0099"/>
                </a:solidFill>
                <a:latin typeface="宋体"/>
              </a:rPr>
              <a:t>变化前：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4734000" y="2341440"/>
            <a:ext cx="441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cc0099"/>
                </a:solidFill>
                <a:latin typeface="宋体"/>
              </a:rPr>
              <a:t>变化后：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1154160" y="1322280"/>
            <a:ext cx="2052720" cy="4597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将纸剪成碎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5654520" y="1274760"/>
            <a:ext cx="1800360" cy="4597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将纸张点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3120" y="307800"/>
            <a:ext cx="5113440" cy="579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化学变化和物理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1149480" y="2386080"/>
            <a:ext cx="18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化后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2419920" y="2014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2313000" y="23875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2674440" y="3795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没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1523520" y="5721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物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5874840" y="5753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化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2"/>
          <p:cNvSpPr/>
          <p:nvPr/>
        </p:nvSpPr>
        <p:spPr>
          <a:xfrm>
            <a:off x="6167160" y="2349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二氧化碳和水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6896880" y="378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14479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变化前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反应物的颜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状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反应发生需要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是否需要加热或其他条件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变化时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生的现象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有无沉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气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成，是否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发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发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颜色变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现象发生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变化后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生成物的颜色、状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797560" y="33480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你会观察实验吗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9"/>
          <p:cNvSpPr/>
          <p:nvPr/>
        </p:nvSpPr>
        <p:spPr>
          <a:xfrm>
            <a:off x="684360" y="627120"/>
            <a:ext cx="31287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边观察边记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98400" y="1271520"/>
          <a:ext cx="7753320" cy="4978440"/>
        </p:xfrm>
        <a:graphic>
          <a:graphicData uri="http://schemas.openxmlformats.org/drawingml/2006/table">
            <a:tbl>
              <a:tblPr/>
              <a:tblGrid>
                <a:gridCol w="773280"/>
                <a:gridCol w="1869840"/>
                <a:gridCol w="1724040"/>
                <a:gridCol w="1567080"/>
                <a:gridCol w="1819080"/>
              </a:tblGrid>
              <a:tr h="114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序号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5000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变化前的物质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5000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变化时发生的现象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5000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变化前的物质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5000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变化后有无物质生成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5000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94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00080"/>
                          </a:solidFill>
                          <a:latin typeface="宋体"/>
                        </a:rPr>
                        <a:t>1-1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800080"/>
                          </a:solidFill>
                          <a:latin typeface="宋体"/>
                        </a:rPr>
                        <a:t>液态的水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00080"/>
                          </a:solidFill>
                          <a:latin typeface="宋体"/>
                        </a:rPr>
                        <a:t>1-2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800080"/>
                          </a:solidFill>
                          <a:latin typeface="宋体"/>
                        </a:rPr>
                        <a:t>蓝色块状的胆矾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00080"/>
                          </a:solidFill>
                          <a:latin typeface="宋体"/>
                        </a:rPr>
                        <a:t>1-3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800080"/>
                          </a:solidFill>
                          <a:latin typeface="宋体"/>
                        </a:rPr>
                        <a:t>蓝色的胆矾溶液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00080"/>
                          </a:solidFill>
                          <a:latin typeface="宋体"/>
                        </a:rPr>
                        <a:t>1-4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800080"/>
                          </a:solidFill>
                          <a:latin typeface="宋体"/>
                        </a:rPr>
                        <a:t>颗粒状石灰石</a:t>
                      </a:r>
                      <a:r>
                        <a:rPr b="1" lang="en-US" sz="2300" spc="-1" strike="noStrike">
                          <a:solidFill>
                            <a:srgbClr val="80008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2300" spc="-1" strike="noStrike">
                          <a:solidFill>
                            <a:srgbClr val="800080"/>
                          </a:solidFill>
                          <a:latin typeface="宋体"/>
                        </a:rPr>
                        <a:t>或大理石</a:t>
                      </a:r>
                      <a:r>
                        <a:rPr b="1" lang="en-US" sz="2300" spc="-1" strike="noStrike">
                          <a:solidFill>
                            <a:srgbClr val="800080"/>
                          </a:solidFill>
                          <a:latin typeface="宋体"/>
                        </a:rPr>
                        <a:t>)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72" name="Group 2066"/>
          <p:cNvGrpSpPr/>
          <p:nvPr/>
        </p:nvGrpSpPr>
        <p:grpSpPr>
          <a:xfrm>
            <a:off x="812880" y="755640"/>
            <a:ext cx="511200" cy="270000"/>
            <a:chOff x="812880" y="755640"/>
            <a:chExt cx="511200" cy="270000"/>
          </a:xfrm>
        </p:grpSpPr>
        <p:sp>
          <p:nvSpPr>
            <p:cNvPr id="73" name="AutoShape 3"/>
            <p:cNvSpPr/>
            <p:nvPr/>
          </p:nvSpPr>
          <p:spPr>
            <a:xfrm>
              <a:off x="812880" y="755640"/>
              <a:ext cx="298800" cy="27000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5385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"/>
            <p:cNvSpPr/>
            <p:nvPr/>
          </p:nvSpPr>
          <p:spPr>
            <a:xfrm>
              <a:off x="1025280" y="755640"/>
              <a:ext cx="298800" cy="27000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50"/>
          <p:cNvSpPr/>
          <p:nvPr/>
        </p:nvSpPr>
        <p:spPr>
          <a:xfrm>
            <a:off x="4179960" y="372096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39720" y="967680"/>
            <a:ext cx="7813800" cy="4871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验一：水的沸腾</a:t>
            </a:r>
            <a:br>
              <a:rPr sz="2800"/>
            </a:b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把盛有少量水的试管斜夹在铁架台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上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如图所示。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在试管底部小心加热至水沸腾。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把一块洁净的表面皿移近试管口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观察现象。</a:t>
            </a:r>
            <a:br>
              <a:rPr sz="24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验二：胆矾的研碎</a:t>
            </a:r>
            <a:br>
              <a:rPr sz="2800"/>
            </a:b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取少量胆矾放在研钵中。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用研杵把胆矾研碎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观察现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6175440" y="2097000"/>
            <a:ext cx="2160000" cy="2017080"/>
            <a:chOff x="6175440" y="2097000"/>
            <a:chExt cx="2160000" cy="2017080"/>
          </a:xfrm>
        </p:grpSpPr>
        <p:grpSp>
          <p:nvGrpSpPr>
            <p:cNvPr id="78" name="Group 6"/>
            <p:cNvGrpSpPr/>
            <p:nvPr/>
          </p:nvGrpSpPr>
          <p:grpSpPr>
            <a:xfrm>
              <a:off x="6175440" y="2097000"/>
              <a:ext cx="1626120" cy="2017080"/>
              <a:chOff x="6175440" y="2097000"/>
              <a:chExt cx="1626120" cy="2017080"/>
            </a:xfrm>
          </p:grpSpPr>
          <p:grpSp>
            <p:nvGrpSpPr>
              <p:cNvPr id="79" name="Group 7"/>
              <p:cNvGrpSpPr/>
              <p:nvPr/>
            </p:nvGrpSpPr>
            <p:grpSpPr>
              <a:xfrm>
                <a:off x="7238880" y="2097000"/>
                <a:ext cx="154440" cy="1849680"/>
                <a:chOff x="7238880" y="2097000"/>
                <a:chExt cx="154440" cy="1849680"/>
              </a:xfrm>
            </p:grpSpPr>
            <p:sp>
              <p:nvSpPr>
                <p:cNvPr id="80" name="Rectangle 8"/>
                <p:cNvSpPr/>
                <p:nvPr/>
              </p:nvSpPr>
              <p:spPr>
                <a:xfrm>
                  <a:off x="7274160" y="2097000"/>
                  <a:ext cx="74880" cy="1812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Rectangle 9"/>
                <p:cNvSpPr/>
                <p:nvPr/>
              </p:nvSpPr>
              <p:spPr>
                <a:xfrm>
                  <a:off x="7238880" y="3841560"/>
                  <a:ext cx="154440" cy="10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Group 10"/>
              <p:cNvGrpSpPr/>
              <p:nvPr/>
            </p:nvGrpSpPr>
            <p:grpSpPr>
              <a:xfrm>
                <a:off x="6175440" y="3927240"/>
                <a:ext cx="1626120" cy="186840"/>
                <a:chOff x="6175440" y="3927240"/>
                <a:chExt cx="1626120" cy="186840"/>
              </a:xfrm>
            </p:grpSpPr>
            <p:sp>
              <p:nvSpPr>
                <p:cNvPr id="83" name="Rectangle 11"/>
                <p:cNvSpPr/>
                <p:nvPr/>
              </p:nvSpPr>
              <p:spPr>
                <a:xfrm>
                  <a:off x="6175440" y="3927240"/>
                  <a:ext cx="1626120" cy="11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12"/>
                <p:cNvSpPr/>
                <p:nvPr/>
              </p:nvSpPr>
              <p:spPr>
                <a:xfrm>
                  <a:off x="6175440" y="4044600"/>
                  <a:ext cx="153720" cy="6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13"/>
                <p:cNvSpPr/>
                <p:nvPr/>
              </p:nvSpPr>
              <p:spPr>
                <a:xfrm>
                  <a:off x="7661160" y="4044600"/>
                  <a:ext cx="138600" cy="6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Group 14"/>
            <p:cNvGrpSpPr/>
            <p:nvPr/>
          </p:nvGrpSpPr>
          <p:grpSpPr>
            <a:xfrm>
              <a:off x="6320520" y="3212280"/>
              <a:ext cx="703800" cy="709920"/>
              <a:chOff x="6320520" y="3212280"/>
              <a:chExt cx="703800" cy="709920"/>
            </a:xfrm>
          </p:grpSpPr>
          <p:grpSp>
            <p:nvGrpSpPr>
              <p:cNvPr id="87" name="Group 15"/>
              <p:cNvGrpSpPr/>
              <p:nvPr/>
            </p:nvGrpSpPr>
            <p:grpSpPr>
              <a:xfrm>
                <a:off x="6320520" y="3390120"/>
                <a:ext cx="703800" cy="532080"/>
                <a:chOff x="6320520" y="3390120"/>
                <a:chExt cx="703800" cy="532080"/>
              </a:xfrm>
            </p:grpSpPr>
            <p:grpSp>
              <p:nvGrpSpPr>
                <p:cNvPr id="88" name="Group 16"/>
                <p:cNvGrpSpPr/>
                <p:nvPr/>
              </p:nvGrpSpPr>
              <p:grpSpPr>
                <a:xfrm>
                  <a:off x="6351840" y="3682440"/>
                  <a:ext cx="639000" cy="198360"/>
                  <a:chOff x="6351840" y="3682440"/>
                  <a:chExt cx="639000" cy="198360"/>
                </a:xfrm>
              </p:grpSpPr>
              <p:sp>
                <p:nvSpPr>
                  <p:cNvPr id="89" name="AutoShape 17"/>
                  <p:cNvSpPr/>
                  <p:nvPr/>
                </p:nvSpPr>
                <p:spPr>
                  <a:xfrm>
                    <a:off x="6365880" y="3700080"/>
                    <a:ext cx="6192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760" y="21600"/>
                        </a:lnTo>
                        <a:lnTo>
                          <a:pt x="1584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18"/>
                  <p:cNvSpPr/>
                  <p:nvPr/>
                </p:nvSpPr>
                <p:spPr>
                  <a:xfrm>
                    <a:off x="6351840" y="3682440"/>
                    <a:ext cx="639000" cy="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" name="Freeform 19"/>
                <p:cNvSpPr/>
                <p:nvPr/>
              </p:nvSpPr>
              <p:spPr>
                <a:xfrm>
                  <a:off x="6320520" y="3481560"/>
                  <a:ext cx="703800" cy="412200"/>
                </a:xfrm>
                <a:custGeom>
                  <a:avLst/>
                  <a:gdLst/>
                  <a:ahLst/>
                  <a:rect l="l" t="t" r="r" b="b"/>
                  <a:pathLst>
                    <a:path w="1994" h="1404">
                      <a:moveTo>
                        <a:pt x="543" y="1404"/>
                      </a:moveTo>
                      <a:lnTo>
                        <a:pt x="0" y="624"/>
                      </a:lnTo>
                      <a:lnTo>
                        <a:pt x="724" y="312"/>
                      </a:lnTo>
                      <a:lnTo>
                        <a:pt x="724" y="0"/>
                      </a:lnTo>
                      <a:lnTo>
                        <a:pt x="1267" y="0"/>
                      </a:lnTo>
                      <a:lnTo>
                        <a:pt x="1265" y="330"/>
                      </a:lnTo>
                      <a:lnTo>
                        <a:pt x="1994" y="624"/>
                      </a:lnTo>
                      <a:lnTo>
                        <a:pt x="1448" y="1404"/>
                      </a:lnTo>
                      <a:lnTo>
                        <a:pt x="543" y="1404"/>
                      </a:lnTo>
                      <a:close/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0"/>
                <p:cNvGrpSpPr/>
                <p:nvPr/>
              </p:nvGrpSpPr>
              <p:grpSpPr>
                <a:xfrm>
                  <a:off x="6543360" y="3390120"/>
                  <a:ext cx="311400" cy="479520"/>
                  <a:chOff x="6543360" y="3390120"/>
                  <a:chExt cx="311400" cy="479520"/>
                </a:xfrm>
              </p:grpSpPr>
              <p:sp>
                <p:nvSpPr>
                  <p:cNvPr id="93" name="AutoShape 21"/>
                  <p:cNvSpPr/>
                  <p:nvPr/>
                </p:nvSpPr>
                <p:spPr>
                  <a:xfrm>
                    <a:off x="6600240" y="3469680"/>
                    <a:ext cx="13860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hx30Oval 20"/>
                  <p:cNvSpPr/>
                  <p:nvPr/>
                </p:nvSpPr>
                <p:spPr>
                  <a:xfrm>
                    <a:off x="6614280" y="3423960"/>
                    <a:ext cx="116640" cy="15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23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hx30Rectangle 21"/>
                  <p:cNvSpPr/>
                  <p:nvPr/>
                </p:nvSpPr>
                <p:spPr>
                  <a:xfrm>
                    <a:off x="6642360" y="3390120"/>
                    <a:ext cx="57960" cy="32400"/>
                  </a:xfrm>
                  <a:prstGeom prst="rect">
                    <a:avLst/>
                  </a:prstGeom>
                  <a:solidFill>
                    <a:srgbClr val="000000"/>
                  </a:solidFill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hx30Freeform 72"/>
                  <p:cNvSpPr/>
                  <p:nvPr/>
                </p:nvSpPr>
                <p:spPr>
                  <a:xfrm>
                    <a:off x="6557400" y="3549600"/>
                    <a:ext cx="29736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0" h="3302">
                        <a:moveTo>
                          <a:pt x="840" y="0"/>
                        </a:moveTo>
                        <a:cubicBezTo>
                          <a:pt x="615" y="572"/>
                          <a:pt x="390" y="1144"/>
                          <a:pt x="480" y="1404"/>
                        </a:cubicBezTo>
                        <a:cubicBezTo>
                          <a:pt x="570" y="1664"/>
                          <a:pt x="1170" y="1456"/>
                          <a:pt x="1380" y="1560"/>
                        </a:cubicBezTo>
                        <a:cubicBezTo>
                          <a:pt x="1590" y="1664"/>
                          <a:pt x="1830" y="1872"/>
                          <a:pt x="1740" y="2028"/>
                        </a:cubicBezTo>
                        <a:cubicBezTo>
                          <a:pt x="1650" y="2184"/>
                          <a:pt x="870" y="2366"/>
                          <a:pt x="840" y="2496"/>
                        </a:cubicBezTo>
                        <a:cubicBezTo>
                          <a:pt x="810" y="2626"/>
                          <a:pt x="1410" y="2730"/>
                          <a:pt x="1560" y="2808"/>
                        </a:cubicBezTo>
                        <a:cubicBezTo>
                          <a:pt x="1710" y="2886"/>
                          <a:pt x="1740" y="2886"/>
                          <a:pt x="1740" y="2964"/>
                        </a:cubicBezTo>
                        <a:cubicBezTo>
                          <a:pt x="1740" y="3042"/>
                          <a:pt x="1680" y="3302"/>
                          <a:pt x="1560" y="3276"/>
                        </a:cubicBezTo>
                        <a:cubicBezTo>
                          <a:pt x="1440" y="3250"/>
                          <a:pt x="1170" y="2912"/>
                          <a:pt x="1020" y="2808"/>
                        </a:cubicBezTo>
                        <a:cubicBezTo>
                          <a:pt x="870" y="2704"/>
                          <a:pt x="720" y="2730"/>
                          <a:pt x="660" y="2652"/>
                        </a:cubicBezTo>
                        <a:cubicBezTo>
                          <a:pt x="600" y="2574"/>
                          <a:pt x="540" y="2470"/>
                          <a:pt x="660" y="2340"/>
                        </a:cubicBezTo>
                        <a:cubicBezTo>
                          <a:pt x="780" y="2210"/>
                          <a:pt x="1470" y="1976"/>
                          <a:pt x="1380" y="1872"/>
                        </a:cubicBezTo>
                        <a:cubicBezTo>
                          <a:pt x="1290" y="1768"/>
                          <a:pt x="240" y="2028"/>
                          <a:pt x="120" y="1716"/>
                        </a:cubicBezTo>
                        <a:cubicBezTo>
                          <a:pt x="0" y="1404"/>
                          <a:pt x="330" y="702"/>
                          <a:pt x="660" y="0"/>
                        </a:cubicBez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223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6543360" y="3441600"/>
                    <a:ext cx="251280" cy="46080"/>
                    <a:chOff x="6543360" y="3441600"/>
                    <a:chExt cx="251280" cy="46080"/>
                  </a:xfrm>
                </p:grpSpPr>
                <p:sp>
                  <p:nvSpPr>
                    <p:cNvPr id="98" name="Rectangle 26"/>
                    <p:cNvSpPr/>
                    <p:nvPr/>
                  </p:nvSpPr>
                  <p:spPr>
                    <a:xfrm>
                      <a:off x="6595200" y="3441600"/>
                      <a:ext cx="147600" cy="26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23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Rectangle 27"/>
                    <p:cNvSpPr/>
                    <p:nvPr/>
                  </p:nvSpPr>
                  <p:spPr>
                    <a:xfrm>
                      <a:off x="6543360" y="3462480"/>
                      <a:ext cx="251280" cy="25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23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" name="AutoShape 28"/>
                <p:cNvSpPr/>
                <p:nvPr/>
              </p:nvSpPr>
              <p:spPr>
                <a:xfrm flipV="1">
                  <a:off x="6451200" y="3894120"/>
                  <a:ext cx="442800" cy="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096" y="21600"/>
                      </a:lnTo>
                      <a:lnTo>
                        <a:pt x="1750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2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29"/>
                <p:cNvSpPr/>
                <p:nvPr/>
              </p:nvSpPr>
              <p:spPr>
                <a:xfrm>
                  <a:off x="6507720" y="3888360"/>
                  <a:ext cx="333000" cy="16200"/>
                </a:xfrm>
                <a:prstGeom prst="rect">
                  <a:avLst/>
                </a:prstGeom>
                <a:solidFill>
                  <a:srgbClr val="ffffff"/>
                </a:solidFill>
                <a:ln w="22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30"/>
              <p:cNvGrpSpPr/>
              <p:nvPr/>
            </p:nvGrpSpPr>
            <p:grpSpPr>
              <a:xfrm>
                <a:off x="6501240" y="3212280"/>
                <a:ext cx="303120" cy="187560"/>
                <a:chOff x="6501240" y="3212280"/>
                <a:chExt cx="303120" cy="187560"/>
              </a:xfrm>
            </p:grpSpPr>
            <p:sp>
              <p:nvSpPr>
                <p:cNvPr id="103" name="Freeform 31"/>
                <p:cNvSpPr/>
                <p:nvPr/>
              </p:nvSpPr>
              <p:spPr>
                <a:xfrm flipV="1" rot="20700000">
                  <a:off x="6605280" y="3218040"/>
                  <a:ext cx="26640" cy="157680"/>
                </a:xfrm>
                <a:custGeom>
                  <a:avLst/>
                  <a:gdLst/>
                  <a:ahLst/>
                  <a:rect l="l" t="t" r="r" b="b"/>
                  <a:pathLst>
                    <a:path w="180" h="1248">
                      <a:moveTo>
                        <a:pt x="180" y="1248"/>
                      </a:moveTo>
                      <a:cubicBezTo>
                        <a:pt x="90" y="1170"/>
                        <a:pt x="0" y="1092"/>
                        <a:pt x="0" y="936"/>
                      </a:cubicBezTo>
                      <a:cubicBezTo>
                        <a:pt x="0" y="780"/>
                        <a:pt x="180" y="468"/>
                        <a:pt x="180" y="312"/>
                      </a:cubicBezTo>
                      <a:cubicBezTo>
                        <a:pt x="180" y="156"/>
                        <a:pt x="30" y="52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32"/>
                <p:cNvSpPr/>
                <p:nvPr/>
              </p:nvSpPr>
              <p:spPr>
                <a:xfrm>
                  <a:off x="6669000" y="3218760"/>
                  <a:ext cx="7200" cy="157680"/>
                </a:xfrm>
                <a:custGeom>
                  <a:avLst/>
                  <a:gdLst/>
                  <a:ahLst/>
                  <a:rect l="l" t="t" r="r" b="b"/>
                  <a:pathLst>
                    <a:path w="180" h="1248">
                      <a:moveTo>
                        <a:pt x="180" y="1248"/>
                      </a:moveTo>
                      <a:cubicBezTo>
                        <a:pt x="90" y="1170"/>
                        <a:pt x="0" y="1092"/>
                        <a:pt x="0" y="936"/>
                      </a:cubicBezTo>
                      <a:cubicBezTo>
                        <a:pt x="0" y="780"/>
                        <a:pt x="180" y="468"/>
                        <a:pt x="180" y="312"/>
                      </a:cubicBezTo>
                      <a:cubicBezTo>
                        <a:pt x="180" y="156"/>
                        <a:pt x="30" y="52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33"/>
                <p:cNvSpPr/>
                <p:nvPr/>
              </p:nvSpPr>
              <p:spPr>
                <a:xfrm flipH="1" rot="20100000">
                  <a:off x="6583680" y="3218760"/>
                  <a:ext cx="6120" cy="157680"/>
                </a:xfrm>
                <a:custGeom>
                  <a:avLst/>
                  <a:gdLst/>
                  <a:ahLst/>
                  <a:rect l="l" t="t" r="r" b="b"/>
                  <a:pathLst>
                    <a:path w="180" h="1248">
                      <a:moveTo>
                        <a:pt x="180" y="1248"/>
                      </a:moveTo>
                      <a:cubicBezTo>
                        <a:pt x="90" y="1170"/>
                        <a:pt x="0" y="1092"/>
                        <a:pt x="0" y="936"/>
                      </a:cubicBezTo>
                      <a:cubicBezTo>
                        <a:pt x="0" y="780"/>
                        <a:pt x="180" y="468"/>
                        <a:pt x="180" y="312"/>
                      </a:cubicBezTo>
                      <a:cubicBezTo>
                        <a:pt x="180" y="156"/>
                        <a:pt x="30" y="52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34"/>
                <p:cNvSpPr/>
                <p:nvPr/>
              </p:nvSpPr>
              <p:spPr>
                <a:xfrm flipH="1">
                  <a:off x="6704280" y="3218760"/>
                  <a:ext cx="20160" cy="157680"/>
                </a:xfrm>
                <a:custGeom>
                  <a:avLst/>
                  <a:gdLst/>
                  <a:ahLst/>
                  <a:rect l="l" t="t" r="r" b="b"/>
                  <a:pathLst>
                    <a:path w="180" h="1248">
                      <a:moveTo>
                        <a:pt x="180" y="1248"/>
                      </a:moveTo>
                      <a:cubicBezTo>
                        <a:pt x="90" y="1170"/>
                        <a:pt x="0" y="1092"/>
                        <a:pt x="0" y="936"/>
                      </a:cubicBezTo>
                      <a:cubicBezTo>
                        <a:pt x="0" y="780"/>
                        <a:pt x="180" y="468"/>
                        <a:pt x="180" y="312"/>
                      </a:cubicBezTo>
                      <a:cubicBezTo>
                        <a:pt x="180" y="156"/>
                        <a:pt x="30" y="52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35"/>
                <p:cNvSpPr/>
                <p:nvPr/>
              </p:nvSpPr>
              <p:spPr>
                <a:xfrm rot="19800000">
                  <a:off x="6543720" y="3218040"/>
                  <a:ext cx="14400" cy="174960"/>
                </a:xfrm>
                <a:custGeom>
                  <a:avLst/>
                  <a:gdLst/>
                  <a:ahLst/>
                  <a:rect l="l" t="t" r="r" b="b"/>
                  <a:pathLst>
                    <a:path w="180" h="1248">
                      <a:moveTo>
                        <a:pt x="180" y="1248"/>
                      </a:moveTo>
                      <a:cubicBezTo>
                        <a:pt x="90" y="1170"/>
                        <a:pt x="0" y="1092"/>
                        <a:pt x="0" y="936"/>
                      </a:cubicBezTo>
                      <a:cubicBezTo>
                        <a:pt x="0" y="780"/>
                        <a:pt x="180" y="468"/>
                        <a:pt x="180" y="312"/>
                      </a:cubicBezTo>
                      <a:cubicBezTo>
                        <a:pt x="180" y="156"/>
                        <a:pt x="30" y="52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36"/>
                <p:cNvSpPr/>
                <p:nvPr/>
              </p:nvSpPr>
              <p:spPr>
                <a:xfrm flipH="1" rot="1500000">
                  <a:off x="6753240" y="3229920"/>
                  <a:ext cx="14400" cy="175320"/>
                </a:xfrm>
                <a:custGeom>
                  <a:avLst/>
                  <a:gdLst/>
                  <a:ahLst/>
                  <a:rect l="l" t="t" r="r" b="b"/>
                  <a:pathLst>
                    <a:path w="180" h="1248">
                      <a:moveTo>
                        <a:pt x="180" y="1248"/>
                      </a:moveTo>
                      <a:cubicBezTo>
                        <a:pt x="90" y="1170"/>
                        <a:pt x="0" y="1092"/>
                        <a:pt x="0" y="936"/>
                      </a:cubicBezTo>
                      <a:cubicBezTo>
                        <a:pt x="0" y="780"/>
                        <a:pt x="180" y="468"/>
                        <a:pt x="180" y="312"/>
                      </a:cubicBezTo>
                      <a:cubicBezTo>
                        <a:pt x="180" y="156"/>
                        <a:pt x="30" y="52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37"/>
                <p:cNvSpPr/>
                <p:nvPr/>
              </p:nvSpPr>
              <p:spPr>
                <a:xfrm flipV="1" rot="20700000">
                  <a:off x="6632280" y="3212280"/>
                  <a:ext cx="15840" cy="93600"/>
                </a:xfrm>
                <a:custGeom>
                  <a:avLst/>
                  <a:gdLst/>
                  <a:ahLst/>
                  <a:rect l="l" t="t" r="r" b="b"/>
                  <a:pathLst>
                    <a:path w="180" h="1248">
                      <a:moveTo>
                        <a:pt x="180" y="1248"/>
                      </a:moveTo>
                      <a:cubicBezTo>
                        <a:pt x="90" y="1170"/>
                        <a:pt x="0" y="1092"/>
                        <a:pt x="0" y="936"/>
                      </a:cubicBezTo>
                      <a:cubicBezTo>
                        <a:pt x="0" y="780"/>
                        <a:pt x="180" y="468"/>
                        <a:pt x="180" y="312"/>
                      </a:cubicBezTo>
                      <a:cubicBezTo>
                        <a:pt x="180" y="156"/>
                        <a:pt x="30" y="52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8"/>
                <p:cNvSpPr/>
                <p:nvPr/>
              </p:nvSpPr>
              <p:spPr>
                <a:xfrm flipV="1" rot="900000">
                  <a:off x="6745680" y="3224880"/>
                  <a:ext cx="15840" cy="93240"/>
                </a:xfrm>
                <a:custGeom>
                  <a:avLst/>
                  <a:gdLst/>
                  <a:ahLst/>
                  <a:rect l="l" t="t" r="r" b="b"/>
                  <a:pathLst>
                    <a:path w="180" h="1248">
                      <a:moveTo>
                        <a:pt x="180" y="1248"/>
                      </a:moveTo>
                      <a:cubicBezTo>
                        <a:pt x="90" y="1170"/>
                        <a:pt x="0" y="1092"/>
                        <a:pt x="0" y="936"/>
                      </a:cubicBezTo>
                      <a:cubicBezTo>
                        <a:pt x="0" y="780"/>
                        <a:pt x="180" y="468"/>
                        <a:pt x="180" y="312"/>
                      </a:cubicBezTo>
                      <a:cubicBezTo>
                        <a:pt x="180" y="156"/>
                        <a:pt x="30" y="52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Group 39"/>
            <p:cNvGrpSpPr/>
            <p:nvPr/>
          </p:nvGrpSpPr>
          <p:grpSpPr>
            <a:xfrm>
              <a:off x="6410520" y="2358360"/>
              <a:ext cx="1319400" cy="1012680"/>
              <a:chOff x="6410520" y="2358360"/>
              <a:chExt cx="1319400" cy="1012680"/>
            </a:xfrm>
          </p:grpSpPr>
          <p:sp>
            <p:nvSpPr>
              <p:cNvPr id="112" name="AutoShape 40"/>
              <p:cNvSpPr/>
              <p:nvPr/>
            </p:nvSpPr>
            <p:spPr>
              <a:xfrm flipV="1" rot="8644800">
                <a:off x="6371280" y="2925000"/>
                <a:ext cx="965880" cy="179280"/>
              </a:xfrm>
              <a:prstGeom prst="flowChartDisp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1"/>
              <p:cNvSpPr/>
              <p:nvPr/>
            </p:nvSpPr>
            <p:spPr>
              <a:xfrm rot="3278400">
                <a:off x="7299720" y="2283480"/>
                <a:ext cx="180720" cy="704160"/>
              </a:xfrm>
              <a:custGeom>
                <a:avLst/>
                <a:gdLst/>
                <a:ahLst/>
                <a:rect l="l" t="t" r="r" b="b"/>
                <a:pathLst>
                  <a:path w="238" h="775">
                    <a:moveTo>
                      <a:pt x="0" y="775"/>
                    </a:moveTo>
                    <a:lnTo>
                      <a:pt x="2" y="0"/>
                    </a:lnTo>
                    <a:lnTo>
                      <a:pt x="238" y="1"/>
                    </a:lnTo>
                    <a:lnTo>
                      <a:pt x="232" y="4"/>
                    </a:lnTo>
                    <a:lnTo>
                      <a:pt x="232" y="76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42"/>
            <p:cNvGrpSpPr/>
            <p:nvPr/>
          </p:nvGrpSpPr>
          <p:grpSpPr>
            <a:xfrm>
              <a:off x="7225200" y="2599560"/>
              <a:ext cx="174960" cy="298800"/>
              <a:chOff x="7225200" y="2599560"/>
              <a:chExt cx="174960" cy="298800"/>
            </a:xfrm>
          </p:grpSpPr>
          <p:sp>
            <p:nvSpPr>
              <p:cNvPr id="115" name="Rectangle 43"/>
              <p:cNvSpPr/>
              <p:nvPr/>
            </p:nvSpPr>
            <p:spPr>
              <a:xfrm>
                <a:off x="7225200" y="2599560"/>
                <a:ext cx="17496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44"/>
              <p:cNvSpPr/>
              <p:nvPr/>
            </p:nvSpPr>
            <p:spPr>
              <a:xfrm>
                <a:off x="7225200" y="2809440"/>
                <a:ext cx="17496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45"/>
            <p:cNvSpPr/>
            <p:nvPr/>
          </p:nvSpPr>
          <p:spPr>
            <a:xfrm>
              <a:off x="6786360" y="2927520"/>
              <a:ext cx="32796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6"/>
            <p:cNvSpPr/>
            <p:nvPr/>
          </p:nvSpPr>
          <p:spPr>
            <a:xfrm>
              <a:off x="6732360" y="2984040"/>
              <a:ext cx="28008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7"/>
            <p:cNvSpPr/>
            <p:nvPr/>
          </p:nvSpPr>
          <p:spPr>
            <a:xfrm>
              <a:off x="6644880" y="3044160"/>
              <a:ext cx="21744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8"/>
            <p:cNvSpPr/>
            <p:nvPr/>
          </p:nvSpPr>
          <p:spPr>
            <a:xfrm>
              <a:off x="6566400" y="3107160"/>
              <a:ext cx="21744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9"/>
            <p:cNvSpPr/>
            <p:nvPr/>
          </p:nvSpPr>
          <p:spPr>
            <a:xfrm>
              <a:off x="6483960" y="3162240"/>
              <a:ext cx="21708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50"/>
            <p:cNvSpPr/>
            <p:nvPr/>
          </p:nvSpPr>
          <p:spPr>
            <a:xfrm>
              <a:off x="7693560" y="2143440"/>
              <a:ext cx="641880" cy="188280"/>
            </a:xfrm>
            <a:prstGeom prst="parallelogram">
              <a:avLst>
                <a:gd name="adj" fmla="val 85229"/>
              </a:avLst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51"/>
            <p:cNvSpPr/>
            <p:nvPr/>
          </p:nvSpPr>
          <p:spPr>
            <a:xfrm>
              <a:off x="7693560" y="2379240"/>
              <a:ext cx="232560" cy="92880"/>
            </a:xfrm>
            <a:prstGeom prst="cloudCallout">
              <a:avLst>
                <a:gd name="adj1" fmla="val -169337"/>
                <a:gd name="adj2" fmla="val 27222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830160" y="1952640"/>
            <a:ext cx="7512120" cy="2379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验三：胆矾与氢氧化钠反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取少量研碎的胆矾分别放入两只试管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向其中加入少量的水，振荡直到变成澄清溶液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向其中一只滴入氢氧化钠溶液，观察试管中发生的变化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54120" y="756720"/>
            <a:ext cx="7851600" cy="3070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验四：石灰石与盐酸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将少量的石灰石放入干燥的试管中，向其中加入少量稀盐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用配有玻璃弯管的橡皮塞塞在试管口，使弯管的另一端伸入装有澄清石灰水的烧杯里，观察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3"/>
          <p:cNvGrpSpPr/>
          <p:nvPr/>
        </p:nvGrpSpPr>
        <p:grpSpPr>
          <a:xfrm>
            <a:off x="2411280" y="4016520"/>
            <a:ext cx="4031280" cy="2232000"/>
            <a:chOff x="2411280" y="4016520"/>
            <a:chExt cx="4031280" cy="2232000"/>
          </a:xfrm>
        </p:grpSpPr>
        <p:grpSp>
          <p:nvGrpSpPr>
            <p:cNvPr id="127" name="Group 11"/>
            <p:cNvGrpSpPr/>
            <p:nvPr/>
          </p:nvGrpSpPr>
          <p:grpSpPr>
            <a:xfrm>
              <a:off x="2411280" y="4016520"/>
              <a:ext cx="4031280" cy="2232000"/>
              <a:chOff x="2411280" y="4016520"/>
              <a:chExt cx="4031280" cy="2232000"/>
            </a:xfrm>
          </p:grpSpPr>
          <p:pic>
            <p:nvPicPr>
              <p:cNvPr id="128" name="Picture 9" descr="20080721120005684"/>
              <p:cNvPicPr/>
              <p:nvPr/>
            </p:nvPicPr>
            <p:blipFill>
              <a:blip r:embed="rId1"/>
              <a:stretch/>
            </p:blipFill>
            <p:spPr>
              <a:xfrm>
                <a:off x="4344840" y="4376520"/>
                <a:ext cx="2097720" cy="17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0" descr="图片1"/>
              <p:cNvPicPr/>
              <p:nvPr/>
            </p:nvPicPr>
            <p:blipFill>
              <a:blip r:embed="rId2"/>
              <a:stretch/>
            </p:blipFill>
            <p:spPr>
              <a:xfrm>
                <a:off x="2411280" y="4016520"/>
                <a:ext cx="1890720" cy="22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Rectangle 12"/>
            <p:cNvSpPr/>
            <p:nvPr/>
          </p:nvSpPr>
          <p:spPr>
            <a:xfrm>
              <a:off x="3756600" y="4376520"/>
              <a:ext cx="807480" cy="1425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627120"/>
            <a:ext cx="3587760" cy="52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现象的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73120" y="1303200"/>
          <a:ext cx="7921440" cy="4879800"/>
        </p:xfrm>
        <a:graphic>
          <a:graphicData uri="http://schemas.openxmlformats.org/drawingml/2006/table">
            <a:tbl>
              <a:tblPr/>
              <a:tblGrid>
                <a:gridCol w="790200"/>
                <a:gridCol w="1736640"/>
                <a:gridCol w="2229120"/>
                <a:gridCol w="1749240"/>
                <a:gridCol w="1416240"/>
              </a:tblGrid>
              <a:tr h="1100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变化前的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质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变化时发生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现象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变化后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物质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变化后有无新物质生成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  <a:tr h="92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1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5000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液态的水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</a:tr>
              <a:tr h="98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5000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蓝色块状的胆矾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</a:tr>
              <a:tr h="949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3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5000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蓝色的胆矾溶液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</a:tr>
              <a:tr h="917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5000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颗粒状石灰石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或大理石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fffff"/>
                        </a:gs>
                        <a:gs pos="100000">
                          <a:srgbClr val="ccffcc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33" name="Text Box 43"/>
          <p:cNvSpPr/>
          <p:nvPr/>
        </p:nvSpPr>
        <p:spPr>
          <a:xfrm>
            <a:off x="3289320" y="2382840"/>
            <a:ext cx="208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有水蒸气放出遇冷变液体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3289320" y="3570120"/>
            <a:ext cx="216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由块状变粉末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3156120" y="4519440"/>
            <a:ext cx="2341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有蓝色沉淀生成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3267000" y="5222880"/>
            <a:ext cx="2089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有气泡放出，石灰水变浑浊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7639200" y="4575240"/>
            <a:ext cx="57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有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7639200" y="5478480"/>
            <a:ext cx="5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有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7628040" y="2637000"/>
            <a:ext cx="466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无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7639200" y="3630600"/>
            <a:ext cx="466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无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5460840" y="2558880"/>
            <a:ext cx="1652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液态的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5460840" y="3362400"/>
            <a:ext cx="1735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蓝色粉末状的胆矾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3"/>
          <p:cNvSpPr/>
          <p:nvPr/>
        </p:nvSpPr>
        <p:spPr>
          <a:xfrm>
            <a:off x="5460840" y="4336920"/>
            <a:ext cx="172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蓝色的氢氧化铜沉淀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5460840" y="5237280"/>
            <a:ext cx="165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二氧化碳气体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53"/>
          <p:cNvGrpSpPr/>
          <p:nvPr/>
        </p:nvGrpSpPr>
        <p:grpSpPr>
          <a:xfrm>
            <a:off x="712800" y="766800"/>
            <a:ext cx="511200" cy="270000"/>
            <a:chOff x="712800" y="766800"/>
            <a:chExt cx="511200" cy="270000"/>
          </a:xfrm>
        </p:grpSpPr>
        <p:sp>
          <p:nvSpPr>
            <p:cNvPr id="146" name="AutoShape 3"/>
            <p:cNvSpPr/>
            <p:nvPr/>
          </p:nvSpPr>
          <p:spPr>
            <a:xfrm>
              <a:off x="712800" y="766800"/>
              <a:ext cx="298800" cy="27000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5385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925200" y="766800"/>
              <a:ext cx="298800" cy="27000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2:32:15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9-12-04T11:16:31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9</vt:lpwstr>
  </property>
</Properties>
</file>