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wmf" ContentType="image/x-wmf"/>
  <Override PartName="/ppt/media/image5.gif" ContentType="image/gif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3B5-F05B-46B1-96FF-DC62A968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917-95AB-4A4B-B99B-82447D17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350-41A5-4322-8F70-1F84BFE1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8CB-CABE-472C-8575-CAA3E6BB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5A9-F83D-49A3-AF54-5002BE6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B00-C25B-441D-A5B4-65202F4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5DA-B1C2-4EBC-84A7-9AE642E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74D-61F3-465E-AACC-0BB6248E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B6B-D426-4825-830E-ADE04059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BDF-3D1D-4229-87EF-1F59407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2DC-4F46-44B0-B3FF-A0A8161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98C-73E0-4EC4-9B14-5A7F323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7F0-1F81-4E7E-9B05-53FDA39EC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5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35120" y="1371600"/>
            <a:ext cx="401796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121932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28124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335520" y="234936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视觉小游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915240" y="5661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图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3716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792520"/>
            <a:ext cx="61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现象一：太阳好像变大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现象二：颜色深黄、殷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现象三：接近地平线时太阳变扁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现象四：神秘的暗弧，暗弧外面有亮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现象五：西方天空出现迷人的紫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受落日之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170080"/>
            <a:ext cx="712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描绘了落日的哪些景象？请找一找，划一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66880" y="5485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好像变大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345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525708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日颜色深黄、殷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573600" cy="304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454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近地平线时太阳变扁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96760" y="1066680"/>
            <a:ext cx="7409160" cy="41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90720" y="5409360"/>
            <a:ext cx="72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秘的暗弧，暗弧外面有亮弧；迷人的紫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11080" y="161460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能力三、我会表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用简练的语言给大家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落日出现以上幻觉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62120" y="1828800"/>
          <a:ext cx="7611840" cy="4459320"/>
        </p:xfrm>
        <a:graphic>
          <a:graphicData uri="http://schemas.openxmlformats.org/drawingml/2006/table">
            <a:tbl>
              <a:tblPr/>
              <a:tblGrid>
                <a:gridCol w="2895480"/>
                <a:gridCol w="471636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落时的幻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生幻觉的原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414440" y="25909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深黄、殷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764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神秘的暗弧、亮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30704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迷人的紫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30440" y="4992840"/>
            <a:ext cx="15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落日变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567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落日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4680" y="25588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光线散射和光波长短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32925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地球表面和大气层的弯曲，光线散射，大气层密度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307040"/>
            <a:ext cx="24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眼睛的叠合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9928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光线折射的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678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未说明原因，但已证明并没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152388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123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粗活意简体"/>
              </a:rPr>
              <a:t>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7240" y="123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粗活意简体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838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粗活意简体"/>
              </a:rPr>
              <a:t>逻辑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xkbwl.com/Photo/UploadPhotos/20058291059496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7200720" cy="4295880"/>
          </a:xfrm>
          <a:prstGeom prst="rect">
            <a:avLst/>
          </a:prstGeom>
          <a:ln w="0">
            <a:noFill/>
          </a:ln>
        </p:spPr>
      </p:pic>
      <p:sp>
        <p:nvSpPr>
          <p:cNvPr id="120" name="标题 1"/>
          <p:cNvSpPr/>
          <p:nvPr/>
        </p:nvSpPr>
        <p:spPr>
          <a:xfrm>
            <a:off x="684360" y="4869000"/>
            <a:ext cx="252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光线散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4816440"/>
            <a:ext cx="532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一束光通过稀释后的牛奶后为粉红色，而从侧面和上面看，是浅蓝色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标题 1"/>
          <p:cNvSpPr/>
          <p:nvPr/>
        </p:nvSpPr>
        <p:spPr>
          <a:xfrm>
            <a:off x="900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眼睛的叠合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pic.52photoshop.cn/20070830_e470537777dfff83858f4cCv3FdErc9e.jpg"/>
          <p:cNvPicPr/>
          <p:nvPr/>
        </p:nvPicPr>
        <p:blipFill>
          <a:blip r:embed="rId2"/>
          <a:stretch/>
        </p:blipFill>
        <p:spPr>
          <a:xfrm>
            <a:off x="4211640" y="3141720"/>
            <a:ext cx="425772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611280" y="1643040"/>
            <a:ext cx="777240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ts val="4598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知道颜料三原色吧？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紫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蓝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人眼叠加而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3480" y="1828800"/>
            <a:ext cx="352764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77120" y="533520"/>
            <a:ext cx="2090520" cy="1008000"/>
          </a:xfrm>
          <a:prstGeom prst="cloudCallout">
            <a:avLst>
              <a:gd name="adj1" fmla="val -17351"/>
              <a:gd name="adj2" fmla="val 126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黑体"/>
              </a:rPr>
              <a:t>背景衬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黑体"/>
              </a:rPr>
              <a:t>（参照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个身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篮球运动员和姚明合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15236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49680" y="1828800"/>
            <a:ext cx="352764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990720"/>
            <a:ext cx="45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姚明身边站着三个小朋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8160" y="1600200"/>
            <a:ext cx="36118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63960" y="1600200"/>
            <a:ext cx="361188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22960" y="765000"/>
            <a:ext cx="1871640" cy="719280"/>
          </a:xfrm>
          <a:prstGeom prst="cloudCallout">
            <a:avLst>
              <a:gd name="adj1" fmla="val -43300"/>
              <a:gd name="adj2" fmla="val 2822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折射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9640" y="404640"/>
            <a:ext cx="1152720" cy="960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筷子断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1700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按照“我喜欢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___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段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___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句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因为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_____”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421000"/>
            <a:ext cx="792612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例如：①我喜欢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段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“无不赞叹太阳升起时的壮观景象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一句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因为“无不”用的好，一词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双重否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强调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个观赏日出的人都会赞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②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喜欢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段，因为此段运用了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举例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说明方法，增强了文章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科学性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从而具有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说服力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75000" y="76500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能力四、我会赏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29564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627280" y="98100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粗活意简体"/>
              </a:rPr>
              <a:t>这样替代，行吗？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粗活意简体"/>
              <a:ea typeface="方正粗活意简体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0188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课文原句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连我们的古人不也留下“夕阳无限好，只是近黄昏”的诗句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改    句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古人也留下了“夕阳无限好，只是近黄昏”的诗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12720" y="54054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句是反问句，强调古人也有这种情感，语意重；第二句是一般肯定句，只是客观的说明，没有强调意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1341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句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天空有云，你会看见灿烂的晚霞；全天无云，不要忘记回头，你会发现背后的天空中现出神秘的蓝灰色暗弧，暗弧外面还镶有明显的亮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为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云时，天空会出现晚霞；无云时，则可能会出现蓝灰色暗弧，外面还有一层亮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429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280c"/>
                </a:solidFill>
                <a:latin typeface="Arial"/>
                <a:ea typeface="隶书"/>
              </a:rPr>
              <a:t>原文用词优美，使用了拟人的修辞手法，语言生动形象，富有文学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6364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粗活意简体"/>
              </a:rPr>
              <a:t>这样替代，行吗？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粗活意简体"/>
              <a:ea typeface="方正粗活意简体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125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能力五：我善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2360" y="836280"/>
            <a:ext cx="8640720" cy="56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海日生残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江春入旧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王湾《次北固山下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记溪亭日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沉醉不知归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清照《如梦令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暮乡关何处是 烟波江上使人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崔颢《黄鹤楼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飞来山上千寻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闻说鸡鸣见日升。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安石《登飞来峰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大漠孤烟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长河落日圆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王维《使至塞上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嶂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烟落日孤城闭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范仲淹《渔家傲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16304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了此文，你获得那些启示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709360"/>
            <a:ext cx="7485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透过现象看事物的 本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眼见不 一定为实，我们要学会了解事情的 真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要仔细观察生活，尊重科学事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标题 1"/>
          <p:cNvSpPr/>
          <p:nvPr/>
        </p:nvSpPr>
        <p:spPr>
          <a:xfrm>
            <a:off x="755640" y="34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能力六：我会反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086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谈收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学习一点儿文体知识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明白一点儿科学道理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获得一点儿人生感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老师寄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实的东西往往不一定是美的，而美好的东西往往披上了虚假的外衣，我们看到的只是幻象，却依然欣欣然沉溺于幻象而不愿醒来。可是有一天，终会醒来，有人悲叹，有人神伤，有人麻木，有人坚强。我们学习这篇文章，不仅仅是让你们清醒地看清每个幻象的本质，我还想，让你们诗意地生活，等到那一天，幻觉退去，真实毕现的时候，你能如看这每天的日落一样，平常，淡然。因为，你已经在美丽中快乐了，何况，明天，还有一轮新的太阳要升起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730840"/>
            <a:ext cx="9144000" cy="113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文没有交待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落日变大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原因，你能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试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吗？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利用所学的课文知识补写其原因。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2708280"/>
            <a:ext cx="2735280" cy="1944720"/>
          </a:xfrm>
          <a:prstGeom prst="cloudCallout">
            <a:avLst>
              <a:gd name="adj1" fmla="val -37523"/>
              <a:gd name="adj2" fmla="val 944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思考中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科学的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探索中享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真理的 幸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404640"/>
            <a:ext cx="2735280" cy="1556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趁热打铁牛刀小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落日变大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如果我们用一架调好的照相机各拍一张落日和中午的太阳，比较一下便会发现它们的大小是完全一样的，那为什么我们看到的却好像是落日大些呢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原来我们的眼睛在观察物体时，感觉到的大小不仅取决于物体本身的实际大小，另外还受距离远近、背景衬托以及物体本身亮度等诸多因素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先说“ 背景衬托”。 它是指在一定的条件下，人对物体的视觉会发生错觉，一个物体在一些小的物体中间看起来就显得大些，而一个物体在一些大的物体中间看起来又显得小些。晚上，太阳要从地平线落下，由于地平线离我们很远，远处背景中的树木、房屋小得使人看不清楚，太阳在这个背景下落在地平线上，看起来就显得很大；而中午太阳高挂在广阔的天空，和大地上近处高大的树木和房屋比较，就显得很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落日的幻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1280" y="692280"/>
            <a:ext cx="25923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黄天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2936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将书本翻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15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2307200">
            <a:off x="272520" y="882000"/>
            <a:ext cx="1893960" cy="1476360"/>
          </a:xfrm>
          <a:prstGeom prst="cloudCallout">
            <a:avLst>
              <a:gd name="adj1" fmla="val -34620"/>
              <a:gd name="adj2" fmla="val 65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34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科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说明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1484280"/>
            <a:ext cx="2663640" cy="936720"/>
          </a:xfrm>
          <a:prstGeom prst="cloudCallout">
            <a:avLst>
              <a:gd name="adj1" fmla="val -45111"/>
              <a:gd name="adj2" fmla="val 162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事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说明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说说“ 光渗现象”。我们看白色图形比看同样大小的黑色图形要大些，这在物理学上叫“ 光渗作用”。当太阳下山时，四周天空是暗沉沉的，因而太阳显得明亮，光渗现象不显著，看起来就觉得小了。而在中午时，四周天空都很明亮，相对之下，太阳与背衬的亮度差没有那样悬殊，这也是使我们看起来落日大些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，跟眼睛的结构也有关系。晚上所见太阳之所以比中午显得大些，还有一个原因，那就是落日的位置低，我们观察时眼睛是平视的，眼球中的晶状体保持正常的状态，凸起程度较小，焦距较大，太阳透过晶状体在视网膜上成的像也较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中午我们观察太阳需要抬头仰视，又由于受头颈弯曲程度的限制，太阳光不能直射进入人眼，我们看太阳是斜视的，为在视网膜上得到清晰的像，晶状体便会不由自主地凸起来，使其焦距变小，在视网膜上所成的像也会变小些，所以仰视时会觉得太阳小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外，还因为是光线折射的缘故。我们早上看太阳时因角度低，光线经过的空气层较厚、密度较大，会产生折射作用。中午时空气层相对薄一些、密度较小，光线又是直射，看起来比较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81644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1916280"/>
            <a:ext cx="4572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88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柱子是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还是方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03840" y="228600"/>
            <a:ext cx="4859280" cy="6172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6000" y="1484280"/>
            <a:ext cx="244800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88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据说能看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智商有一百八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19480" y="549360"/>
            <a:ext cx="5772240" cy="5761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63640" y="1844640"/>
            <a:ext cx="457200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88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  <a:ea typeface="黑体"/>
              </a:rPr>
              <a:t>是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Perpetua"/>
                <a:ea typeface="黑体"/>
              </a:rPr>
              <a:t>还是动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11145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落日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9360" y="549360"/>
            <a:ext cx="804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58770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落日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能力一：我会读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觉   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咏   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丽   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减   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蓝   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落       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 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上   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丽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山，气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奄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26920" y="126828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h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3085920" y="12682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yí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309640" y="126828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7021800" y="11970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711360" y="242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shu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2761560" y="250020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725720" y="2427120"/>
            <a:ext cx="12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Perpetua"/>
              </a:rPr>
              <a:t>z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7524720" y="2349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h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1374840" y="3651120"/>
            <a:ext cx="5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858760" y="364500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xi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423040" y="36450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Perpetua"/>
              </a:rPr>
              <a:t>x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1357560" y="487512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bó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4067280" y="473220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Perpetua"/>
              </a:rPr>
              <a:t>yǎnyǎ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02760" y="988920"/>
            <a:ext cx="16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能力二、我会概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用一句话概括文章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2924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文主要写了日落时的幻觉及产生幻觉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0:36:06Z</dcterms:created>
  <dc:creator>未知用户</dc:creator>
  <dc:description/>
  <dc:language>en-US</dc:language>
  <cp:lastModifiedBy>User</cp:lastModifiedBy>
  <dcterms:modified xsi:type="dcterms:W3CDTF">2013-12-17T12:54:57Z</dcterms:modified>
  <cp:revision>29</cp:revision>
  <dc:subject/>
  <dc:title>幻灯片 1</dc:title>
</cp:coreProperties>
</file>