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6A6-AAAA-4FB1-BE06-F0981302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AF8D-CEAF-4D31-9232-3C0E5076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0FA-7BA6-4D39-9937-85621505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717-05E9-47C9-BCAA-915BEA5F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E664-848C-457A-AFB2-25AFBE3C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6E35-5E41-4E6C-B451-EB242A3B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7F5E-62AA-4285-93EE-06E163A1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0BA0-4268-4ADC-990B-9FC90BE9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B1AD-B377-4FED-9EE8-EBD596FF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EB90-52C9-412D-B03C-2A5ADF6E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A360-A176-4478-AE69-BD6AD4C1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DCCA-6F25-4A7A-86A8-610E3170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E999-BAE7-4D54-94D8-53E4521E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1264-27FA-4126-BF09-B6A9E52B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25BC-B13E-4D9D-9299-9847047D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C0CE-C1E7-445A-825C-B2E5B6B4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4BA2-2CD9-4256-B8A7-F8C5300E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BBBF-17F3-4335-9C32-67C3D091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1EAA-49A7-4C98-B9AB-E2D986D3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CEDD-1A53-4955-9893-974CC1F3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862-E7AD-49BA-A04D-AF0B8509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E2E-4223-4423-A8B0-537DBCF5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FD4-3E89-43FA-8276-9DE7EE19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CD6B-BCBB-4729-ACFC-4591D7B7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53FE-96DA-4AE7-B16E-8DCD0688AD96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9294-71E8-4735-9138-3457A0507C87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284720" y="0"/>
            <a:ext cx="21589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&amp;tn=baiduimagedetail&amp;word=%BB%D8%CA%D5&#892;%D0%CE&amp;in=20539&amp;cl=2&amp;lm=-1&amp;pn=6&amp;rn=1&amp;di=9595062225&amp;ln=2000&amp;fr=ala0&amp;fmq=&amp;ic=&amp;s=&amp;se=&amp;sme=0&amp;tab=&amp;width=&amp;height=&amp;face=&amp;is=&amp;istype=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.baidu.com/i?ct=503316480&amp;z=&amp;tn=baiduimagedetail&amp;word=%BB%D8%CA%D5&#892;%D0%CE&amp;in=27687&amp;cl=2&amp;lm=-1&amp;pn=13&amp;rn=1&amp;di=12881895180&amp;ln=2000&amp;fr=ala0&amp;fmq=&amp;ic=&amp;s=&amp;se=&amp;sme=0&amp;tab=&amp;width=&amp;height=&amp;face=&amp;is=&amp;istype=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age.baidu.com/i?ct=503316480&amp;z=&amp;tn=baiduimagedetail&amp;word=%BD%DA&#750;&#892;%D0%CE&amp;in=13340&amp;cl=2&amp;lm=-1&amp;pn=0&amp;rn=1&amp;di=36219872775&amp;ln=1108&amp;fr=ala0&amp;fmq=&amp;ic=&amp;s=&amp;se=&amp;sme=0&amp;tab=&amp;width=&amp;height=&amp;face=&amp;is=&amp;istype=" TargetMode="Externa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hyperlink" Target="http://image.baidu.com/i?ct=503316480&amp;z=&amp;tn=baiduimagedetail&amp;word=%C2%CC&#619;&#691;&#439;%B1%EA&#1470;&amp;in=4902&amp;cl=2&amp;lm=-1&amp;pn=0&amp;rn=1&amp;di=20365175085&amp;ln=2000&amp;fr=ala0&amp;fmq=&amp;ic=&amp;s=&amp;se=&amp;sme=0&amp;tab=&amp;width=&amp;height=&amp;face=&amp;is=&amp;istype=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.baidu.com/i?ct=503316480&amp;z=&amp;tn=baiduimagedetail&amp;word=%BE%B2&#1465;%CE%FC%D1&#817;%EA&#1470;&amp;in=15199&amp;cl=2&amp;lm=-1&amp;pn=3&amp;rn=1&amp;di=42994966125&amp;ln=2000&amp;fr=ala0&amp;fmq=&amp;ic=&amp;s=&amp;se=&amp;sme=0&amp;tab=&amp;width=&amp;height=&amp;face=&amp;is=&amp;istype=" TargetMode="External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000000"/>
                </a:solidFill>
                <a:latin typeface="Verdana"/>
              </a:rPr>
              <a:t>分类和回收利用</a:t>
            </a:r>
            <a:endParaRPr b="0" lang="en-US" sz="6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垃圾的分类和分装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垃圾的回收利用，需要把其中可利用的材料</a:t>
            </a:r>
            <a:r>
              <a:rPr b="1" lang="zh-CN" sz="3000" spc="-1" strike="noStrike">
                <a:solidFill>
                  <a:srgbClr val="cc0000"/>
                </a:solidFill>
                <a:latin typeface="Verdana"/>
              </a:rPr>
              <a:t>区分和集中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起来。要有效地回收，必须改变垃圾混装的旧习惯，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对生活垃圾进行分类和分装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，这是我们每个公民应尽的义务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在家里，我们把垃圾分装了吗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平常产生的生活垃圾一般分为几类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每一类包含的是哪些垃圾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应该投放到什么样的回收箱里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-36360" y="3716280"/>
            <a:ext cx="9144000" cy="2889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74560" y="4651200"/>
            <a:ext cx="259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各种金属制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纸制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塑料制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玻璃、橡胶、布等制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11640" y="4651200"/>
            <a:ext cx="259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砖瓦陶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渣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卫生间废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9640" y="4651200"/>
            <a:ext cx="25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剩余饭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果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蔬菜茎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09200" y="1413000"/>
            <a:ext cx="75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四类。可回收垃圾、厨余垃圾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有害垃圾、其他垃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垃圾分类、分装还便于对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有毒垃圾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的处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  <a:ea typeface="黑体"/>
              </a:rPr>
              <a:t>废电池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就是一种需要谨慎处理的垃圾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9144000" cy="342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140000" y="477720"/>
            <a:ext cx="4330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一节一号电池烂在地里，能使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平方米面积上的土壤失去利用价值；一粒纽扣电池可使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600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吨水无法饮用，相当于一个人一生的饮水量。对自然环境威胁最大的五种物质，电池里就包含了三种：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汞、铅、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如果将废旧电池混入生活垃圾一起填埋，渗出的汞及重金属物质就会浸入土壤，污染地下水，进而通过食物链间接威胁到人类的健康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4076640" cy="5294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医疗垃圾也要集中进行处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否则会传染疾病，危机我们的健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7791480" cy="396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分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640" y="1777680"/>
            <a:ext cx="757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西瓜皮②旧电池③瓷碗④破热水瓶胆⑤废日光灯管⑥破雨伞⑦剩菜⑧塑料杯⑨过期药品⑩穿不下的衣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50920" y="4719600"/>
          <a:ext cx="8686800" cy="1550880"/>
        </p:xfrm>
        <a:graphic>
          <a:graphicData uri="http://schemas.openxmlformats.org/drawingml/2006/table">
            <a:tbl>
              <a:tblPr/>
              <a:tblGrid>
                <a:gridCol w="2171520"/>
                <a:gridCol w="2171880"/>
                <a:gridCol w="2171520"/>
                <a:gridCol w="217188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可回收垃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厨余垃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有害垃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其他垃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565200" y="5516640"/>
            <a:ext cx="12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⑥⑧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2800" y="551664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①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0840" y="5513400"/>
            <a:ext cx="12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②⑤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82160" y="551340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③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5076720" cy="35416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做一个堆肥箱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7280" y="1773000"/>
            <a:ext cx="4259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家庭垃圾中有约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1/3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是碎菜叶、蛋壳等厨余垃圾。这些垃圾和院子里的枯叶、杂草等能够通过堆积自然分解，成为有用的有机肥料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让我们在学校里做一个堆肥箱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将食品废料、杂草、落叶等掺入污水，堆积起来，表面覆盖一层土壤。腐熟时间一般需要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1~3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个月。腐熟后的垃圾可以用来做底肥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556000" y="2565360"/>
            <a:ext cx="5271840" cy="3821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Verdana"/>
              </a:rPr>
              <a:t>垃圾分类、分装并不难！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Verdana"/>
              </a:rPr>
              <a:t>只要我们人人参与，养成良好的习惯，我们周围的环境一定会变得更加清洁和美丽。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我的设计方案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选定一个角落，挖个浅坑，挖出的土放在一边备用。在坑上放好堆肥箱，就可以投入落叶之类的有机物，一层落叶一层土，这样逐渐添加。洒些水保持湿润，便于发酵腐熟。这个过程中堆肥会因腐烂而沉降，体积缩小。半年后便是一箱好肥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 u="sng">
                <a:solidFill>
                  <a:srgbClr val="000000"/>
                </a:solidFill>
                <a:uFillTx/>
                <a:latin typeface="Verdana"/>
              </a:rPr>
              <a:t>对于生活中的一些废弃物，我们可以从垃圾中</a:t>
            </a:r>
            <a:r>
              <a:rPr b="1" lang="zh-CN" sz="4300" spc="-1" strike="noStrike" u="sng">
                <a:solidFill>
                  <a:srgbClr val="ff0000"/>
                </a:solidFill>
                <a:uFillTx/>
                <a:latin typeface="Verdana"/>
              </a:rPr>
              <a:t>回收它们并重新加工利用</a:t>
            </a:r>
            <a:r>
              <a:rPr b="1" lang="zh-CN" sz="4300" spc="-1" strike="noStrike" u="sng">
                <a:solidFill>
                  <a:srgbClr val="000000"/>
                </a:solidFill>
                <a:uFillTx/>
                <a:latin typeface="Verdana"/>
              </a:rPr>
              <a:t>。这样做不但能够减少垃圾的数量，而且能够节省大量的自然资源。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Verdana"/>
              </a:rPr>
              <a:t>哪些垃圾可以回收利用？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Verdana"/>
              </a:rPr>
              <a:t>怎样回收利用它们呢？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00" y="-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00" y="-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1844640"/>
            <a:ext cx="7847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回收废塑料——开发“第二油田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少废塑料可以还原为再生塑料，而所有的废塑料、废餐盒、食品袋、编织袋、软包装盒等都可以回炼为燃油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吨废塑料至少能回炼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千克汽油和柴油，难怪有人称回收旧塑料为开发“第二油田”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596880"/>
            <a:ext cx="842472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回收废电池——防止悲剧重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痛痛病”和“水俣病”都是在日本发生的工业公害病。这是由于含镉或汞的工业废水污染了土壤和水源，进入了人类的食物链。“水俣病”是汞中毒，轻者手足麻木，重者死亡。“痛痛病”是镉中毒，患者手足疼痛，全身各处都很容易发生骨折。得这种病的人都一直喊着“痛啊！痛啊！”，直到死去，所以被叫做“痛痛病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于普通土干电池都含有这两种有毒金属元素，所以说电池从生产到废弃，时刻都潜伏着污染。电池的回收势在必行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71640" y="981000"/>
            <a:ext cx="7561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回收废纸——再造林木资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回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吨废纸能生产好纸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8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千克，可以少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棵大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立方米的垃圾填埋场空间，还可以节约一半以上的造纸能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5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水污染，每张纸至少可以回收两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16000" y="2492280"/>
            <a:ext cx="746748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回收生物垃圾——再造绿色肥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们日常生活的食物残渣可以通过堆肥再造、成为植树绿化的有机肥料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50920" y="260280"/>
            <a:ext cx="864216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回收各种废弃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    —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所有的垃圾都能变成资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铝制易拉罐再制铝，比用铝土提取铝少消耗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1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能量，减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5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空气污染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废玻璃再造玻璃，不仅可节约石英砂、纯碱、长石粉、煤炭，还可节电，减少大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2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能量消耗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空气污染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水污染。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回收一个玻璃瓶节省的能量，可使灯泡发亮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小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468360" y="620640"/>
            <a:ext cx="80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（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塑料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被评为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世纪人类“最糟糕的发明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塑料能够多次熔化成形，（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回收和利用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废塑料能够减少环境污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回收玻璃比直接用天然原料制造玻璃便宜，因为玻璃熔化的温度比用生料熔炼的温度（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低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很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许多金属可以被熔化后再利用，回收利用废金属， 既（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节约能源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又（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节约矿产资源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废电池是一种需要（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谨慎处理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的垃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将食品废料、杂草、落叶等掺入污水，堆积起来，表面覆盖一层土壤，腐熟时间一般需要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1—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个月，腐熟后的垃圾可以用来做底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1986840" y="765000"/>
            <a:ext cx="474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有人说“一点点废品卖不了几个钱，放在家里占地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划算。”你是怎样看待这种说法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755640" y="213372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答：这种说法是错误的。废品虽然卖不了多少钱，但经过回收加工利用后，既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保护环境、节约资源，又能为社会创造更大的价值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应该让每个家庭都成为垃圾处理场，如果每个家庭都能对生活垃圾进行分类、分装和及时处理，这将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对改善我们周围的环境和节约资源起到非常重要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79280" y="1989000"/>
            <a:ext cx="2233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本课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2565360"/>
            <a:ext cx="86040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垃圾中的一些原材料可以重新回收利用，这样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以减少垃圾、节约资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垃圾分类、分装便于垃圾回收利用和对一些有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垃圾的处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堆肥法可以有效减少垃圾并形成肥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69228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分类和回收利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1268280"/>
            <a:ext cx="2233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一、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8920" y="1916280"/>
            <a:ext cx="87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对于生活中的一些废弃物，我们可以从垃圾中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它们并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____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这样做不但能够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而且能够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_____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在我们的生活中，我经常在回收的物品有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_______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465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回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69228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分类和回收利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9440" y="3068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重新加工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92720" y="3068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减少垃圾数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12360" y="3933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节省大量自然资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69080" y="4724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塑料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3240" y="5646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报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81040" y="566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易拉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0920" y="1268280"/>
            <a:ext cx="2233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一、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1916280"/>
            <a:ext cx="914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回收塑料制品在生活中很常见，因为塑料能够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_______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回收利用塑料能够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废电池里含有三种有毒物质是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_______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______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也要集中进行处理，否则会传染疾病，危及我们的健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做个堆肥箱垃圾腐熟一般要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____________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2400" y="263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多次熔化成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43280" y="69228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分类和回收利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29120" y="2708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减少环境污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25080" y="3341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25080" y="3357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1800" y="3933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3120" y="4581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医疗垃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66160" y="5862600"/>
            <a:ext cx="14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1—3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可回收利用的垃圾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Verdana"/>
              </a:rPr>
              <a:t>调查附近的废品回收站或询问废品回收工作者，他们回收些什么？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Verdana"/>
              </a:rPr>
              <a:t>这些物品回收后用什么用处？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55640" y="1197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1773360"/>
            <a:ext cx="8964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下列有关垃圾回收利用的说法正确的是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回收利用花费代价比生料加工花费高就不再回收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回收利用玻璃比直接用天然原料制取玻璃便宜，因为玻璃熔化的温度比用生料熔炼的温度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为了减少垃圾，一律都要回收利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（     ）是减少垃圾数量的重要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用一次性用品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选择精美包装物品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重新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3760" y="19162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6840" y="515772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43280" y="69228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分类和回收利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55640" y="1197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1773360"/>
            <a:ext cx="8964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生活中过夜的饭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吃的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于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其他垃圾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可回收垃圾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厨余垃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下列垃圾中不可以自然分解的是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鱼骨头和菜叶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蛋壳和纸屑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塑料快餐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下列垃圾中，要谨慎处理的是（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旧衣服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手机电池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旧报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95920" y="191628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8640" y="335772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3280" y="69228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分类和回收利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6680" y="4437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55640" y="1197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1557360"/>
            <a:ext cx="8964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当我们没有办法减少一些材料的使用量时，可以通过回收垃圾中的原材料，重新加工利用，以减少垃圾的数量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可回收利用的物品大多是由玻璃、金属、纸、塑料等制成的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废电池就是一种需要谨慎处理的垃圾（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要有效地回收垃圾中的原料，必须改变垃圾混装的习惯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57120" y="29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494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18200" y="494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03280" y="6278400"/>
            <a:ext cx="4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539640" y="2060640"/>
          <a:ext cx="8353440" cy="4392720"/>
        </p:xfrm>
        <a:graphic>
          <a:graphicData uri="http://schemas.openxmlformats.org/drawingml/2006/table">
            <a:tbl>
              <a:tblPr/>
              <a:tblGrid>
                <a:gridCol w="2592360"/>
                <a:gridCol w="3121200"/>
                <a:gridCol w="2639880"/>
              </a:tblGrid>
              <a:tr h="877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垃圾的种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所包括的垃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处理方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厨余垃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剩菜剩饭等</a:t>
                      </a:r>
                      <a:r>
                        <a:rPr b="0" lang="zh-CN" sz="2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喂猪、喂鸡等</a:t>
                      </a:r>
                      <a:r>
                        <a:rPr b="0" lang="zh-CN" sz="2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可回收垃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纸、金属、塑料等</a:t>
                      </a:r>
                      <a:r>
                        <a:rPr b="0" lang="zh-CN" sz="2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回收</a:t>
                      </a:r>
                      <a:r>
                        <a:rPr b="0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有毒有害垃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电池、化学药品等</a:t>
                      </a:r>
                      <a:r>
                        <a:rPr b="0" lang="zh-CN" sz="2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专门回收点</a:t>
                      </a:r>
                      <a:r>
                        <a:rPr b="0" lang="zh-CN" sz="2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其他垃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建筑垃圾等</a:t>
                      </a:r>
                      <a:r>
                        <a:rPr b="0" lang="zh-CN" sz="2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填埋</a:t>
                      </a:r>
                      <a:r>
                        <a:rPr b="0" lang="zh-CN" sz="26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t3.baidu.com/it/u=2477928711,1498879250&amp;fm=0&amp;gp=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500280"/>
            <a:ext cx="1871640" cy="187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t3.baidu.com/it/u=2706329050,2814625496&amp;fm=0&amp;gp=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3500280"/>
            <a:ext cx="1800360" cy="1836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2872800" y="551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回收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http://t1.baidu.com/it/u=2961015213,3909915598&amp;fm=15&amp;gp=0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75640" y="3500280"/>
            <a:ext cx="1914480" cy="1872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9"/>
          <p:cNvSpPr/>
          <p:nvPr/>
        </p:nvSpPr>
        <p:spPr>
          <a:xfrm>
            <a:off x="7270920" y="551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节水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中国节能标志"/>
          <p:cNvPicPr/>
          <p:nvPr/>
        </p:nvPicPr>
        <p:blipFill>
          <a:blip r:embed="rId8"/>
          <a:stretch/>
        </p:blipFill>
        <p:spPr>
          <a:xfrm>
            <a:off x="250920" y="3429000"/>
            <a:ext cx="1873080" cy="18716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2"/>
          <p:cNvSpPr/>
          <p:nvPr/>
        </p:nvSpPr>
        <p:spPr>
          <a:xfrm>
            <a:off x="720000" y="551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节能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5184000" y="551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危险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http://t1.baidu.com/it/u=2254060030,3357994119&amp;fm=0&amp;gp=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692280"/>
            <a:ext cx="1854000" cy="1800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1"/>
          <p:cNvSpPr/>
          <p:nvPr/>
        </p:nvSpPr>
        <p:spPr>
          <a:xfrm>
            <a:off x="376920" y="2637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绿色食品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644560" y="2708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品安全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http://t2.baidu.com/it/u=1446463714,1443109308&amp;fm=0&amp;gp=0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643280" y="692280"/>
            <a:ext cx="2016360" cy="1800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4"/>
          <p:cNvSpPr/>
          <p:nvPr/>
        </p:nvSpPr>
        <p:spPr>
          <a:xfrm>
            <a:off x="4804560" y="2708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禁止吸烟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http://t3.baidu.com/it/u=3896662752,1107392250&amp;fm=0&amp;gp=0.jpg"/>
          <p:cNvPicPr/>
          <p:nvPr/>
        </p:nvPicPr>
        <p:blipFill>
          <a:blip r:embed="rId13"/>
          <a:stretch/>
        </p:blipFill>
        <p:spPr>
          <a:xfrm>
            <a:off x="6948360" y="620640"/>
            <a:ext cx="1857600" cy="18734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6"/>
          <p:cNvSpPr/>
          <p:nvPr/>
        </p:nvSpPr>
        <p:spPr>
          <a:xfrm>
            <a:off x="6998760" y="2708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禁止向左转弯标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9" descr="http://t1.baidu.com/it/u=1267116799,2553264083&amp;fm=0&amp;gp=0.jpg"/>
          <p:cNvPicPr/>
          <p:nvPr/>
        </p:nvPicPr>
        <p:blipFill>
          <a:blip r:embed="rId14"/>
          <a:stretch/>
        </p:blipFill>
        <p:spPr>
          <a:xfrm>
            <a:off x="2340000" y="692280"/>
            <a:ext cx="2016000" cy="177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033800" cy="4033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9640" y="42210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塑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能够多次熔化成形，回收利用塑料能够减少环境污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76720" y="42210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玻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回收玻璃比直接用天然原料制取玻璃便宜。因为玻璃熔化的温度比用生料熔炼的温度低很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076720" y="404640"/>
            <a:ext cx="3527640" cy="352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148360" y="126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金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许多金属可以被熔化后再利用。回收利用废金属，既节约能源又节约矿石资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724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家庭垃圾中，还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纸张、布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可以被回收利用的材料。（完成作业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页填表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2209680"/>
            <a:ext cx="3009960" cy="857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447920" y="3581280"/>
            <a:ext cx="3162240" cy="743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9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Verdana"/>
              </a:rPr>
              <a:t>在家庭垃圾中，包含哪些可以被回收利用的材料？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916280"/>
            <a:ext cx="8229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1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Verdana"/>
              </a:rPr>
              <a:t>塑料瓶、金属、玻璃瓶、包装绳  等。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83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11280" y="2852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3716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4581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塑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5373720"/>
            <a:ext cx="9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玻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6000" y="2708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废报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3645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铁制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4360" y="4437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脸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5373720"/>
            <a:ext cx="9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油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06:36:48Z</dcterms:created>
  <dc:creator>Dell</dc:creator>
  <dc:description/>
  <dc:language>en-US</dc:language>
  <cp:lastModifiedBy>James.Yang</cp:lastModifiedBy>
  <dcterms:modified xsi:type="dcterms:W3CDTF">2014-12-28T14:08:01Z</dcterms:modified>
  <cp:revision>349</cp:revision>
  <dc:subject/>
  <dc:title>幻灯片 1</dc:title>
</cp:coreProperties>
</file>