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CCC9-8F2D-4FD3-B816-BDFBF2C9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C5B-938B-4563-BA2B-891BD523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5BB-7EA0-49CD-AE07-C9F3B394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F42-2D21-44DA-B176-FEA69978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71C8-B100-42BD-842C-36485CE8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AE69-5EC6-4D71-A00F-DA9AA82C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4F78-6646-4EB0-BF74-F78C68FF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BB6A-8BB3-407D-AEB9-22EA8593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D831-18A3-4B1F-A32C-4FCC8F15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F33E-AD95-48B3-A6F0-446566AF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ACEB-724F-4059-9D1C-67F65D25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9CD-56B9-4B76-BBC9-CE49D5D5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6D1C-2A58-41E5-88C7-17DE7549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9A8F-0960-4872-AFC9-32BD8F55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94DE-6C5C-453F-AB13-843093DA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062A-1D79-4602-B469-9F79DD53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E4D1-0DBB-4F8F-825B-C310592E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DFB-8E0B-46C2-9B3B-57ABC329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1A8-C44D-4B99-974F-7B5C0493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DD9-3D49-4CFB-B40D-30B3B1FB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1A7-88D4-4C9E-AF72-BB42985F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B44-B363-414D-9CAB-4E3F2637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3AA-C91B-4F43-AD2E-A39C73FF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A95-697A-4AA3-AEE1-848241D0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内页"/>
          <p:cNvPicPr/>
          <p:nvPr/>
        </p:nvPicPr>
        <p:blipFill>
          <a:blip r:embed="rId2"/>
          <a:srcRect l="0" t="0" r="333" b="364"/>
          <a:stretch/>
        </p:blipFill>
        <p:spPr>
          <a:xfrm>
            <a:off x="3240" y="-25560"/>
            <a:ext cx="9250200" cy="6910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BD04-ADFA-4522-B26B-91C51172347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D8CD-7738-4AF6-B040-FCC925E07B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未标题-3"/>
          <p:cNvPicPr/>
          <p:nvPr/>
        </p:nvPicPr>
        <p:blipFill>
          <a:blip r:embed="rId2"/>
          <a:srcRect l="412" t="0" r="432" b="543"/>
          <a:stretch/>
        </p:blipFill>
        <p:spPr>
          <a:xfrm>
            <a:off x="-4680" y="3240"/>
            <a:ext cx="918216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F1ED-89DD-45DB-BD2D-FBBEC4A1416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982D-3747-47F9-A3BA-9BF0ABA96D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7380360" y="64580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图片版权：伊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635280" y="1844640"/>
            <a:ext cx="52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快乐儿童节</a:t>
            </a:r>
            <a:r>
              <a:rPr b="1" lang="en-US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1908000" y="501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27280" y="746280"/>
            <a:ext cx="1493640" cy="369000"/>
          </a:xfrm>
          <a:prstGeom prst="rect">
            <a:avLst/>
          </a:prstGeom>
          <a:noFill/>
          <a:ln cap="rnd" w="936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张海山锐线体2.0"/>
              </a:rPr>
              <a:t>简约派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1908000" y="1343160"/>
            <a:ext cx="5321160" cy="1312920"/>
            <a:chOff x="1908000" y="1343160"/>
            <a:chExt cx="5321160" cy="1312920"/>
          </a:xfrm>
        </p:grpSpPr>
        <p:sp>
          <p:nvSpPr>
            <p:cNvPr id="89" name="Text Box 4"/>
            <p:cNvSpPr/>
            <p:nvPr/>
          </p:nvSpPr>
          <p:spPr>
            <a:xfrm>
              <a:off x="1908000" y="1343160"/>
              <a:ext cx="936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b3db98"/>
                  </a:solidFill>
                  <a:latin typeface="微软雅黑"/>
                  <a:ea typeface="微软雅黑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2403720" y="1595880"/>
              <a:ext cx="4825440" cy="777600"/>
            </a:xfrm>
            <a:prstGeom prst="rect">
              <a:avLst/>
            </a:prstGeom>
            <a:solidFill>
              <a:srgbClr val="b3d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6"/>
          <p:cNvGrpSpPr/>
          <p:nvPr/>
        </p:nvGrpSpPr>
        <p:grpSpPr>
          <a:xfrm>
            <a:off x="1920960" y="2295360"/>
            <a:ext cx="5314680" cy="1312920"/>
            <a:chOff x="1920960" y="2295360"/>
            <a:chExt cx="5314680" cy="1312920"/>
          </a:xfrm>
        </p:grpSpPr>
        <p:sp>
          <p:nvSpPr>
            <p:cNvPr id="92" name="Text Box 7"/>
            <p:cNvSpPr/>
            <p:nvPr/>
          </p:nvSpPr>
          <p:spPr>
            <a:xfrm>
              <a:off x="1920960" y="2295360"/>
              <a:ext cx="826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cccc"/>
                  </a:solidFill>
                  <a:latin typeface="微软雅黑"/>
                  <a:ea typeface="微软雅黑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2412000" y="2555640"/>
              <a:ext cx="4823640" cy="777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9"/>
            <p:cNvSpPr/>
            <p:nvPr/>
          </p:nvSpPr>
          <p:spPr>
            <a:xfrm flipH="1">
              <a:off x="2223000" y="2987280"/>
              <a:ext cx="216360" cy="216720"/>
            </a:xfrm>
            <a:prstGeom prst="rtTriangl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0"/>
          <p:cNvGrpSpPr/>
          <p:nvPr/>
        </p:nvGrpSpPr>
        <p:grpSpPr>
          <a:xfrm>
            <a:off x="1893960" y="3270240"/>
            <a:ext cx="5335200" cy="1312920"/>
            <a:chOff x="1893960" y="3270240"/>
            <a:chExt cx="5335200" cy="1312920"/>
          </a:xfrm>
        </p:grpSpPr>
        <p:sp>
          <p:nvSpPr>
            <p:cNvPr id="96" name="Text Box 11"/>
            <p:cNvSpPr/>
            <p:nvPr/>
          </p:nvSpPr>
          <p:spPr>
            <a:xfrm>
              <a:off x="1893960" y="3270240"/>
              <a:ext cx="77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9999"/>
                  </a:solidFill>
                  <a:latin typeface="微软雅黑"/>
                  <a:ea typeface="微软雅黑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2404800" y="3521160"/>
              <a:ext cx="4824360" cy="791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3"/>
            <p:cNvSpPr/>
            <p:nvPr/>
          </p:nvSpPr>
          <p:spPr>
            <a:xfrm>
              <a:off x="2319120" y="3851280"/>
              <a:ext cx="264600" cy="75960"/>
            </a:xfrm>
            <a:prstGeom prst="flowChartProcess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4"/>
            <p:cNvSpPr/>
            <p:nvPr/>
          </p:nvSpPr>
          <p:spPr>
            <a:xfrm>
              <a:off x="2273040" y="4236480"/>
              <a:ext cx="264600" cy="75960"/>
            </a:xfrm>
            <a:prstGeom prst="flowChartProcess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5"/>
            <p:cNvSpPr/>
            <p:nvPr/>
          </p:nvSpPr>
          <p:spPr>
            <a:xfrm>
              <a:off x="2320560" y="3526560"/>
              <a:ext cx="264600" cy="75960"/>
            </a:xfrm>
            <a:prstGeom prst="flowChartProcess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939320" y="4232160"/>
            <a:ext cx="5296680" cy="1312920"/>
            <a:chOff x="1939320" y="4232160"/>
            <a:chExt cx="5296680" cy="1312920"/>
          </a:xfrm>
        </p:grpSpPr>
        <p:sp>
          <p:nvSpPr>
            <p:cNvPr id="102" name="Text Box 17"/>
            <p:cNvSpPr/>
            <p:nvPr/>
          </p:nvSpPr>
          <p:spPr>
            <a:xfrm>
              <a:off x="1939320" y="4232160"/>
              <a:ext cx="762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cc669d"/>
                  </a:solidFill>
                  <a:latin typeface="微软雅黑"/>
                  <a:ea typeface="微软雅黑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8"/>
            <p:cNvSpPr/>
            <p:nvPr/>
          </p:nvSpPr>
          <p:spPr>
            <a:xfrm>
              <a:off x="2411280" y="4499640"/>
              <a:ext cx="4824720" cy="769680"/>
            </a:xfrm>
            <a:prstGeom prst="rect">
              <a:avLst/>
            </a:prstGeom>
            <a:solidFill>
              <a:srgbClr val="cc6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9"/>
          <p:cNvSpPr/>
          <p:nvPr/>
        </p:nvSpPr>
        <p:spPr>
          <a:xfrm>
            <a:off x="2577960" y="1805040"/>
            <a:ext cx="42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我们一起过儿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2590920" y="269388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我们一起过儿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2606760" y="365616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我们一起过儿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2614680" y="460836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我们一起过儿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一起过儿童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儿童是国家的未来，是民族的希望，给所有儿童创造良好的家庭、社会和学习环境，让他们健康、快乐、幸福地成长，一直是世界各国努力的目标，一年一度的“六一国际儿童节”就是专门为儿童们设立的节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日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本是世界上庆祝儿童节次数最多的国家，他们一年要庆祝三次儿童节，而且庆祝方式十分有意思，充满了浓浓的日本风情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女孩节　这个节日是专门为小女孩设立的，每到这一天，各国“儿童节”天，家中有女儿的父母会在家里设置一个陈列台，台上放上穿着日本和服的漂亮女娃娃玩偶，作为给自己女儿的节日礼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韩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韩国的儿童节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，从“男孩节”演变过来的。也是韩国的公众假日，每年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。这一天，孩子们可以尽情享受欢乐，父母要给孩子准备他们　最想要的礼物。很多孩子也会在这天穿上韩服，体验传统的韩国文化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哥伦比亚将每年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定为儿童节。在这个节日里，全国的学校都要举行各种生动活泼的庆祝活动，儿童们还常常戴上各式各样的假面具，扮成小丑的样子在街头玩耍，十分开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470560" y="3886200"/>
            <a:ext cx="33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张海山锐线体2.0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948360" y="64501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制作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yanchen</cp:lastModifiedBy>
  <dcterms:modified xsi:type="dcterms:W3CDTF">2020-03-12T09:23:33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13</vt:lpwstr>
  </property>
</Properties>
</file>