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click.wav" ContentType="audio/x-wav"/>
  <Override PartName="/ppt/media/image36.png" ContentType="image/png"/>
  <Override PartName="/ppt/media/image38.png" ContentType="image/png"/>
  <Override PartName="/ppt/media/image8.png" ContentType="image/png"/>
  <Override PartName="/ppt/media/image29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FC4A-2F0C-4C48-A0C1-52BB42524C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slide" Target="../slides/slide5.xml"/><Relationship Id="rId8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ziliao/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shiti/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jiaoan/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n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uwen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uxu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80B-1181-474E-B643-2962ECD2B32D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D77-A2F0-4098-873A-0EB9949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6D7-26A2-4922-AE59-43D3591C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63C5F-CEE9-4B14-BCA2-68BE3262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3A34-96CB-4F88-944F-BD7357E8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F4486-DE71-4B46-8A59-B260A93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C4C0-FF47-4A60-91A8-DE5E143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22C89-22A0-412E-A16C-CE9D5AF1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95B1B-8303-41AD-BAE8-D8A4E166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C960F-442F-478E-971E-6AADBBB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A5D32-79E0-449B-9176-BD2514E7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7DD12-4291-4FDD-9E6E-5868A964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1262-9D99-4758-8521-255F74B9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DA8-9C8A-4C9E-9C59-D590BD03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5A503-9D7A-4F06-A651-6576D5D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97D75-1C25-40B7-A56F-36C5F32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5F15E-3BF8-4B40-9012-CDC896C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D92A1-D985-4254-B514-D787099E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076AE-9B4F-449A-ADED-FAAD727C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2A4F7-BF63-4BE6-8BBA-51A1C58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E0E71-4440-4C92-8E74-0DB80302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2D7A6-849C-4BDB-A458-594D8ED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DC90F-F438-468F-9A20-9FEC055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11A9A-F61F-4A7B-8F31-C3DA6EB6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6DA-AD4F-425F-B0E7-ED516E2A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27B04-6CCE-4E3C-96EB-AF009F89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2FEF4-7348-4462-8972-3A1F1635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20604-C312-4DAC-92A0-3E287DA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8612A-BC01-45B8-AD40-30E6FA0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0AF9E-27D2-41B3-8523-C825B80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FF780-6069-4F27-9AF2-0AA55552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B1740-D56B-4476-ADCF-2AF821DB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A97F5-A39D-4D7D-A5B8-73BE1A58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614C-A85C-45E4-9B18-562077BE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0EE8C-9262-406C-923C-79F3EA7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1240-3F37-487E-8F6F-986705FF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98915-A9C9-4C60-AE17-D1E92BF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362DE-004E-4780-8589-93AF7012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A5392-9C37-48CC-8FF2-65DB0004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364B7-C649-4A3B-9617-A96F0413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723FC-3642-4406-9197-B1E9AAF0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D2692-BA6B-4E67-93CD-75E585E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A5F76-8CEE-4F10-8CDF-22971EA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EDCAF-88A4-4F16-B46B-7164BF2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A6E5D-BCFB-4AA6-B33E-C3FF7DDE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910AB-5D55-4BD7-9859-9B6328D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5AD-6048-4A3E-A4AC-EF033A7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EF647-3F16-48D1-94B2-F6F8A03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89251-1653-46AD-82EE-25E52654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72F88-EC1C-4381-B522-0AFF485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4BB44-6869-4815-8478-4DCDFE06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6BB10-55A4-4BEC-B050-007676D2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71474-B032-4A34-B183-31D87DC9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4F2F7-C874-4456-A9B9-C5822689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3D437-7F5B-4F6A-8655-C6FFA50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6D137-C243-44E1-8C6D-BAA0B6BD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57B47-A824-4669-937E-D365DBC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656-7AA4-4C5F-B198-EF89138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59B97-99A3-4BCF-AC7F-C2C473FC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F17E0-8DD9-4D3D-A516-97F50690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CFC61-BA2C-4BCC-9C9E-C920154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1CC89-C282-4CC7-8335-F78AC50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68E56-D204-4E1F-A7B1-7923654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AB446-A1F5-4BD3-A7AA-9C704E6E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B1CC2-5E1C-4FCC-98E7-3194BFBA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44F4-03AD-4DA1-8594-2389CEF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A0A-2B63-4D73-93D0-48750F6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D0CB-E72B-4D03-9E88-6EA3942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2B94-6E58-46AD-91A7-37B6C6D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583-C56A-47D9-8672-08A4FACE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82A6-89B0-4096-A8F9-25A0939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7C8-6888-48D8-BF96-D205759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6515-8AE9-4BA4-8BD1-7C61CE46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E92-F23A-4326-804E-6F5A589B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1E4D-90FD-494A-8B01-33B68B19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C73C-9929-4B1C-97AC-CA156EE8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3991-DF0C-4A5A-8221-C626A59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F460-E46E-4466-8A80-93E9A5E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E8E5-68D2-4590-96CD-CF3C288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5737D-BA43-47E6-8527-FBA9713D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238-EADF-4ED8-9AE9-A677F4D3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1A68-B1BE-4D83-9819-B9D16663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476D-73D9-4087-9B96-1EE9E804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D896-0C9C-45D4-B184-51A31EE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3DF9-4FFF-4913-A218-0FD38B55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2DCC-9F41-44DC-9F8B-57028439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2004-619E-4B4F-B20D-933A86C2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5A37-2184-4996-BDF7-4D43F738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586F-B457-420D-8055-4EE1B90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55896-7795-4832-B7D4-BDA9292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7678-62BF-4E5C-BB62-6194504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016-C29B-4C7F-970B-6C9B7992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7F560-D386-4B1D-A012-E6AACC8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E4D0-00DE-414B-A921-25BA4806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D577-B014-4775-A5CD-084B8CD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06AE-DE25-472B-8BB3-00C803F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7681-4631-4496-994F-836580AC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59967-6948-441E-B83A-1D6F55A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7F76-CAA4-4458-A873-D3B0844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F2CE-9268-4B17-B309-731CBEBE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7F0D-A906-4E0A-ABEA-82D11F99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C9C7-7013-49F7-ACD9-0986DD24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A70-CE1A-43CE-A354-E6EBC9A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4CA3-914E-4761-B528-252E29D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8C6B-C867-4C18-A5D0-71167C81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B04C-6072-4F53-986A-369B0349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ADE2B-FA3E-47E7-A6F7-7A50D276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6DA8-38E2-49A4-97D4-74D2AAAE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2E24-791E-4A81-A8C7-2385209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E2C4F-1059-440E-902F-6028A32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E600-BC44-478E-B362-D9FA0B8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21BF-7DD7-4EA1-A0E3-209E06C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BC5D8-08C7-4A9B-8F5D-5BE7B537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6AD-ABCF-4535-AFE3-8908251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0FF2-2542-4E7F-BA0F-72330903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F2C0-1232-4BFE-8701-991D0906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0986-EE63-4270-B368-D0A52FC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2380-4625-4179-89F4-F4755DA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B0968-3B2A-4D43-A415-719E4863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BF368-B7E9-47D1-8088-63577CA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9336-5805-47EE-9296-DA33D56E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27B1-4D4D-4B2C-B07E-BF2BC82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42C34-BDD8-4133-97C6-CF759AF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0337-ED4B-407C-AF26-5E6342C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D1A-932B-4988-811B-DE5CAFE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DFD0-999D-488A-870E-9068DF8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3BED-66BB-42A4-AFE1-B56566B1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3A56-1413-42BA-BAA7-44360A3E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D434-1142-4599-9263-EC3D03F6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604F-273C-462C-ADD1-F9B24B7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8C13-3611-42A0-A87D-6677C4E3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3091-FE31-468C-8E16-DE6BF1C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581F-2DE5-4FC6-BAAF-DDF5039E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55744-B9FE-4FA4-AEE7-AD69C2E8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BEDB-8027-4A30-AB76-39DE1763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18E-43A4-4C15-A872-F486B7A5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D286-F10C-48FD-8944-587B348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5D9A0-9A2F-4420-8E84-161D79E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81690-4FE2-4A9A-BF38-42A3F54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CD6B1-FFCF-46B6-BE14-912C0A24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89DE-8D17-4129-9199-2FE78BD4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C1751-F332-40A4-8E6F-7F4C7B6E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6D97-7FB8-4042-9C71-4401F038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448AB-2388-4492-8FED-24A55A89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CB7D-E27E-4307-87AE-E621F3B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F120-464B-4393-A364-8993FC9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5EA-9AE1-4E35-B3A7-500DF5A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C89EE-0AD7-4784-8D7D-AC24BAB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D787-AEFB-4569-8229-8D060D0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836E-EC92-4EE8-A695-A346EB6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87AD-C9D9-461F-BE42-64A87736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039D-BB8F-4D4B-AFED-FADEF04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3076-FABE-4AB7-933E-19AACF6A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6D11B-4D3E-46FD-85E1-90DEC943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83DE-6BCD-4116-BD6E-7AF2DAB3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34ABD-00F2-4B17-B5E9-A7209EE3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7428-DE74-470E-8D21-0FFD7F5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D6E-5445-4962-8B82-5D811071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0BA1-6410-4A1D-9DB6-C10D726554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1A5-A7B2-4034-9975-10E81BC812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BE5E-8886-4014-9D74-E32F62DF8B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8525-3D26-4B47-B40F-C1AB3E12FA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06A-54B0-46C0-BDCA-C02FC58B19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5C1-9F32-4DE2-9300-C87A6C006E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E1B-E13C-4945-8C5F-8F3407DBF0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A95C-FF86-42A9-99E5-E4366F4C93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B11-6237-4559-88CB-B11781A421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C0D1-6729-4B73-8A6C-FF9ACC23E2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98FB-39A5-4DC4-B46A-A71F147497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6E1F-A0D3-48F2-91DB-39021AEE11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image" Target="../media/image12.jpe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295280" y="15368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十七章  欧姆定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609480" y="28195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节 电阻的测量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2290320" y="586728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584360" y="1700280"/>
            <a:ext cx="64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431640" y="1268280"/>
            <a:ext cx="7993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英按图甲所示的电路图连接实验电路，测量电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值。闭合开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调节滑动变阻器的滑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，观察到电压表和电流表的示数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如图乙、丙所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电流表的示数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阻值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>
            <a:off x="826920" y="4065480"/>
            <a:ext cx="7164720" cy="235116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655164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.4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2735280" y="33782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矩形 4"/>
          <p:cNvSpPr/>
          <p:nvPr/>
        </p:nvSpPr>
        <p:spPr>
          <a:xfrm>
            <a:off x="228600" y="685800"/>
            <a:ext cx="1006560" cy="58140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8" descr=""/>
          <p:cNvPicPr/>
          <p:nvPr/>
        </p:nvPicPr>
        <p:blipFill>
          <a:blip r:embed="rId1"/>
          <a:stretch/>
        </p:blipFill>
        <p:spPr>
          <a:xfrm>
            <a:off x="4851360" y="4038480"/>
            <a:ext cx="1952640" cy="949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电流表01-"/>
          <p:cNvPicPr/>
          <p:nvPr/>
        </p:nvPicPr>
        <p:blipFill>
          <a:blip r:embed="rId2"/>
          <a:stretch/>
        </p:blipFill>
        <p:spPr>
          <a:xfrm>
            <a:off x="3403440" y="2362320"/>
            <a:ext cx="1324080" cy="1619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电池盒4"/>
          <p:cNvPicPr/>
          <p:nvPr/>
        </p:nvPicPr>
        <p:blipFill>
          <a:blip r:embed="rId3"/>
          <a:stretch/>
        </p:blipFill>
        <p:spPr>
          <a:xfrm>
            <a:off x="5156280" y="1676520"/>
            <a:ext cx="1828800" cy="596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滑动变阻器-03"/>
          <p:cNvPicPr/>
          <p:nvPr/>
        </p:nvPicPr>
        <p:blipFill>
          <a:blip r:embed="rId4"/>
          <a:stretch/>
        </p:blipFill>
        <p:spPr>
          <a:xfrm>
            <a:off x="6985080" y="3581280"/>
            <a:ext cx="2057400" cy="11750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开关02"/>
          <p:cNvPicPr/>
          <p:nvPr/>
        </p:nvPicPr>
        <p:blipFill>
          <a:blip r:embed="rId5"/>
          <a:stretch/>
        </p:blipFill>
        <p:spPr>
          <a:xfrm>
            <a:off x="7365960" y="1676520"/>
            <a:ext cx="1676520" cy="110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小灯泡01-"/>
          <p:cNvPicPr/>
          <p:nvPr/>
        </p:nvPicPr>
        <p:blipFill>
          <a:blip r:embed="rId6"/>
          <a:stretch/>
        </p:blipFill>
        <p:spPr>
          <a:xfrm>
            <a:off x="4851360" y="4038480"/>
            <a:ext cx="1905120" cy="8766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电压表-02"/>
          <p:cNvPicPr/>
          <p:nvPr/>
        </p:nvPicPr>
        <p:blipFill>
          <a:blip r:embed="rId7"/>
          <a:stretch/>
        </p:blipFill>
        <p:spPr>
          <a:xfrm>
            <a:off x="4546440" y="4952880"/>
            <a:ext cx="1484640" cy="16671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9"/>
          <p:cNvSpPr/>
          <p:nvPr/>
        </p:nvSpPr>
        <p:spPr>
          <a:xfrm>
            <a:off x="1523880" y="685800"/>
            <a:ext cx="5410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实验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测量小灯泡的电阻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70" name="Picture 10" descr=""/>
          <p:cNvPicPr/>
          <p:nvPr/>
        </p:nvPicPr>
        <p:blipFill>
          <a:blip r:embed="rId8"/>
          <a:stretch/>
        </p:blipFill>
        <p:spPr>
          <a:xfrm>
            <a:off x="457200" y="3200400"/>
            <a:ext cx="2514600" cy="2246400"/>
          </a:xfrm>
          <a:prstGeom prst="rect">
            <a:avLst/>
          </a:prstGeom>
          <a:ln w="0">
            <a:noFill/>
          </a:ln>
        </p:spPr>
      </p:pic>
      <p:sp>
        <p:nvSpPr>
          <p:cNvPr id="671" name="Freeform 11"/>
          <p:cNvSpPr/>
          <p:nvPr/>
        </p:nvSpPr>
        <p:spPr>
          <a:xfrm>
            <a:off x="6908760" y="1714680"/>
            <a:ext cx="762120" cy="723600"/>
          </a:xfrm>
          <a:custGeom>
            <a:avLst/>
            <a:gdLst/>
            <a:ahLst/>
            <a:rect l="l" t="t" r="r" b="b"/>
            <a:pathLst>
              <a:path w="480" h="456">
                <a:moveTo>
                  <a:pt x="0" y="24"/>
                </a:moveTo>
                <a:cubicBezTo>
                  <a:pt x="128" y="12"/>
                  <a:pt x="256" y="0"/>
                  <a:pt x="336" y="72"/>
                </a:cubicBezTo>
                <a:cubicBezTo>
                  <a:pt x="416" y="144"/>
                  <a:pt x="448" y="300"/>
                  <a:pt x="480" y="4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Freeform 12"/>
          <p:cNvSpPr/>
          <p:nvPr/>
        </p:nvSpPr>
        <p:spPr>
          <a:xfrm>
            <a:off x="8737560" y="2438280"/>
            <a:ext cx="406440" cy="15242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0" y="0"/>
                </a:moveTo>
                <a:cubicBezTo>
                  <a:pt x="112" y="208"/>
                  <a:pt x="224" y="416"/>
                  <a:pt x="240" y="576"/>
                </a:cubicBezTo>
                <a:cubicBezTo>
                  <a:pt x="256" y="736"/>
                  <a:pt x="176" y="848"/>
                  <a:pt x="96" y="96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Freeform 15"/>
          <p:cNvSpPr/>
          <p:nvPr/>
        </p:nvSpPr>
        <p:spPr>
          <a:xfrm>
            <a:off x="2717640" y="1752480"/>
            <a:ext cx="2514600" cy="1828800"/>
          </a:xfrm>
          <a:custGeom>
            <a:avLst/>
            <a:gdLst/>
            <a:ahLst/>
            <a:rect l="l" t="t" r="r" b="b"/>
            <a:pathLst>
              <a:path w="1584" h="1152">
                <a:moveTo>
                  <a:pt x="576" y="1152"/>
                </a:moveTo>
                <a:cubicBezTo>
                  <a:pt x="388" y="1140"/>
                  <a:pt x="200" y="1128"/>
                  <a:pt x="144" y="1008"/>
                </a:cubicBezTo>
                <a:cubicBezTo>
                  <a:pt x="88" y="888"/>
                  <a:pt x="0" y="600"/>
                  <a:pt x="240" y="432"/>
                </a:cubicBezTo>
                <a:cubicBezTo>
                  <a:pt x="480" y="264"/>
                  <a:pt x="1032" y="132"/>
                  <a:pt x="158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Freeform 19"/>
          <p:cNvSpPr/>
          <p:nvPr/>
        </p:nvSpPr>
        <p:spPr>
          <a:xfrm>
            <a:off x="6451560" y="4343400"/>
            <a:ext cx="1066680" cy="558720"/>
          </a:xfrm>
          <a:custGeom>
            <a:avLst/>
            <a:gdLst/>
            <a:ahLst/>
            <a:rect l="l" t="t" r="r" b="b"/>
            <a:pathLst>
              <a:path w="672" h="352">
                <a:moveTo>
                  <a:pt x="672" y="0"/>
                </a:moveTo>
                <a:cubicBezTo>
                  <a:pt x="656" y="160"/>
                  <a:pt x="640" y="320"/>
                  <a:pt x="528" y="336"/>
                </a:cubicBezTo>
                <a:cubicBezTo>
                  <a:pt x="416" y="352"/>
                  <a:pt x="208" y="224"/>
                  <a:pt x="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Freeform 20"/>
          <p:cNvSpPr/>
          <p:nvPr/>
        </p:nvSpPr>
        <p:spPr>
          <a:xfrm>
            <a:off x="4013280" y="3581280"/>
            <a:ext cx="1218960" cy="10670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768" y="528"/>
                </a:moveTo>
                <a:cubicBezTo>
                  <a:pt x="668" y="548"/>
                  <a:pt x="568" y="568"/>
                  <a:pt x="480" y="576"/>
                </a:cubicBezTo>
                <a:cubicBezTo>
                  <a:pt x="392" y="584"/>
                  <a:pt x="320" y="672"/>
                  <a:pt x="240" y="576"/>
                </a:cubicBezTo>
                <a:cubicBezTo>
                  <a:pt x="160" y="480"/>
                  <a:pt x="80" y="240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Freeform 21"/>
          <p:cNvSpPr/>
          <p:nvPr/>
        </p:nvSpPr>
        <p:spPr>
          <a:xfrm>
            <a:off x="5156280" y="4495680"/>
            <a:ext cx="1574640" cy="2082960"/>
          </a:xfrm>
          <a:custGeom>
            <a:avLst/>
            <a:gdLst/>
            <a:ahLst/>
            <a:rect l="l" t="t" r="r" b="b"/>
            <a:pathLst>
              <a:path w="992" h="1312">
                <a:moveTo>
                  <a:pt x="0" y="1056"/>
                </a:moveTo>
                <a:cubicBezTo>
                  <a:pt x="92" y="1184"/>
                  <a:pt x="184" y="1312"/>
                  <a:pt x="336" y="1296"/>
                </a:cubicBezTo>
                <a:cubicBezTo>
                  <a:pt x="488" y="1280"/>
                  <a:pt x="832" y="1176"/>
                  <a:pt x="912" y="960"/>
                </a:cubicBezTo>
                <a:cubicBezTo>
                  <a:pt x="992" y="744"/>
                  <a:pt x="904" y="372"/>
                  <a:pt x="81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Freeform 22"/>
          <p:cNvSpPr/>
          <p:nvPr/>
        </p:nvSpPr>
        <p:spPr>
          <a:xfrm>
            <a:off x="3987720" y="4419720"/>
            <a:ext cx="1244520" cy="1866960"/>
          </a:xfrm>
          <a:custGeom>
            <a:avLst/>
            <a:gdLst/>
            <a:ahLst/>
            <a:rect l="l" t="t" r="r" b="b"/>
            <a:pathLst>
              <a:path w="784" h="1176">
                <a:moveTo>
                  <a:pt x="496" y="1104"/>
                </a:moveTo>
                <a:cubicBezTo>
                  <a:pt x="336" y="1140"/>
                  <a:pt x="176" y="1176"/>
                  <a:pt x="112" y="1104"/>
                </a:cubicBezTo>
                <a:cubicBezTo>
                  <a:pt x="48" y="1032"/>
                  <a:pt x="0" y="856"/>
                  <a:pt x="112" y="672"/>
                </a:cubicBezTo>
                <a:cubicBezTo>
                  <a:pt x="224" y="488"/>
                  <a:pt x="504" y="244"/>
                  <a:pt x="784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663360" y="2209680"/>
            <a:ext cx="8056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断开开关，按电路图连接实物电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762120" y="2971800"/>
            <a:ext cx="80596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闭合开关，移动滑片让灯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发光正常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5V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光较暗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V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，发光较强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读取电流表和电压表的示数，并记录入表格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85800" y="4648320"/>
            <a:ext cx="7848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分别计算出灯泡在不同电压下发光时的电阻记入表格，并分析其电阻不同的原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85800" y="1523880"/>
            <a:ext cx="2743200" cy="52056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步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685800" y="5638680"/>
            <a:ext cx="5054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实验结束，整理实验器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533520" y="2514600"/>
          <a:ext cx="8208720" cy="328140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1726920"/>
                <a:gridCol w="1441440"/>
                <a:gridCol w="158436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灯泡亮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电压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U/V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电流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I/A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电阻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</a:t>
                      </a:r>
                      <a:r>
                        <a:rPr b="1" lang="el-GR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发光较强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发光正常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</a:rPr>
                        <a:t>发光较暗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</a:tbl>
          </a:graphicData>
        </a:graphic>
      </p:graphicFrame>
      <p:sp>
        <p:nvSpPr>
          <p:cNvPr id="684" name="Text Box 55"/>
          <p:cNvSpPr/>
          <p:nvPr/>
        </p:nvSpPr>
        <p:spPr>
          <a:xfrm>
            <a:off x="609480" y="1828800"/>
            <a:ext cx="3581640" cy="52056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计实验记录表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7299360" y="642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86" name="ShockwaveFlash1"/>
          <p:cNvGraphicFramePr/>
          <p:nvPr/>
        </p:nvGraphicFramePr>
        <p:xfrm>
          <a:off x="990720" y="1600200"/>
          <a:ext cx="71625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162560" cy="4680000"/>
                  </a:xfrm>
                  <a:prstGeom prst="rect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"/>
          <p:cNvGraphicFramePr/>
          <p:nvPr/>
        </p:nvGraphicFramePr>
        <p:xfrm>
          <a:off x="1143000" y="2895480"/>
          <a:ext cx="6369120" cy="2235240"/>
        </p:xfrm>
        <a:graphic>
          <a:graphicData uri="http://schemas.openxmlformats.org/drawingml/2006/table">
            <a:tbl>
              <a:tblPr/>
              <a:tblGrid>
                <a:gridCol w="1333440"/>
                <a:gridCol w="1227240"/>
                <a:gridCol w="1309680"/>
                <a:gridCol w="1336680"/>
                <a:gridCol w="116208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实验次序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Ｕ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V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Ｉ／Ａ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灯泡亮度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Ｒ／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2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较亮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2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暗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Rectangle 34"/>
          <p:cNvSpPr/>
          <p:nvPr/>
        </p:nvSpPr>
        <p:spPr>
          <a:xfrm>
            <a:off x="993960" y="23616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实验记录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6294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7162920" y="5257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6629400" y="419112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7.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 flipV="1">
            <a:off x="7696080" y="579132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4724280" y="2209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灯泡规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2.5V,0.3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914400" y="45720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80880" y="137160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记录的三组数据，分别求出三组对应的电阻值，并比较不同电流下电阻是否相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838080" y="5181480"/>
            <a:ext cx="7467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析：小灯泡的灯丝电阻与温度有关，温度越高，电阻越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66294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6.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431640" y="1268280"/>
            <a:ext cx="813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小灯泡的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验中，某同学在连接电路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小心将电流表和电压表接错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，如图所示。闭合开关可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的现象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烧坏，电压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灯泡烧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压表示数为电源电压值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压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2952720" y="33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1" name="Group 6"/>
          <p:cNvGrpSpPr/>
          <p:nvPr/>
        </p:nvGrpSpPr>
        <p:grpSpPr>
          <a:xfrm>
            <a:off x="5867280" y="1268280"/>
            <a:ext cx="2773440" cy="2394000"/>
            <a:chOff x="5867280" y="1268280"/>
            <a:chExt cx="2773440" cy="2394000"/>
          </a:xfrm>
        </p:grpSpPr>
        <p:sp>
          <p:nvSpPr>
            <p:cNvPr id="702" name="Rectangle 7"/>
            <p:cNvSpPr/>
            <p:nvPr/>
          </p:nvSpPr>
          <p:spPr>
            <a:xfrm>
              <a:off x="6091200" y="1495440"/>
              <a:ext cx="2349360" cy="1214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03" name="Group 8"/>
            <p:cNvGrpSpPr/>
            <p:nvPr/>
          </p:nvGrpSpPr>
          <p:grpSpPr>
            <a:xfrm>
              <a:off x="6873840" y="1268280"/>
              <a:ext cx="111240" cy="454320"/>
              <a:chOff x="6873840" y="1268280"/>
              <a:chExt cx="111240" cy="454320"/>
            </a:xfrm>
          </p:grpSpPr>
          <p:sp>
            <p:nvSpPr>
              <p:cNvPr id="704" name="Rectangle 19"/>
              <p:cNvSpPr/>
              <p:nvPr/>
            </p:nvSpPr>
            <p:spPr>
              <a:xfrm>
                <a:off x="6873840" y="1419120"/>
                <a:ext cx="11124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5" name="Line 20"/>
              <p:cNvSpPr/>
              <p:nvPr/>
            </p:nvSpPr>
            <p:spPr>
              <a:xfrm>
                <a:off x="6873840" y="1268280"/>
                <a:ext cx="0" cy="4543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6" name="Line 21"/>
              <p:cNvSpPr/>
              <p:nvPr/>
            </p:nvSpPr>
            <p:spPr>
              <a:xfrm>
                <a:off x="6985080" y="1381680"/>
                <a:ext cx="0" cy="2268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2"/>
            <p:cNvGrpSpPr/>
            <p:nvPr/>
          </p:nvGrpSpPr>
          <p:grpSpPr>
            <a:xfrm>
              <a:off x="7732800" y="1380960"/>
              <a:ext cx="372600" cy="228240"/>
              <a:chOff x="7732800" y="1380960"/>
              <a:chExt cx="372600" cy="228240"/>
            </a:xfrm>
          </p:grpSpPr>
          <p:sp>
            <p:nvSpPr>
              <p:cNvPr id="708" name="Rectangle 15"/>
              <p:cNvSpPr/>
              <p:nvPr/>
            </p:nvSpPr>
            <p:spPr>
              <a:xfrm>
                <a:off x="7774920" y="1380960"/>
                <a:ext cx="329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9" name="Line 16"/>
              <p:cNvSpPr/>
              <p:nvPr/>
            </p:nvSpPr>
            <p:spPr>
              <a:xfrm flipV="1">
                <a:off x="7774920" y="1380960"/>
                <a:ext cx="330480" cy="13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0" name="Oval 17"/>
              <p:cNvSpPr/>
              <p:nvPr/>
            </p:nvSpPr>
            <p:spPr>
              <a:xfrm>
                <a:off x="7732800" y="1472400"/>
                <a:ext cx="82800" cy="90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16"/>
            <p:cNvGrpSpPr/>
            <p:nvPr/>
          </p:nvGrpSpPr>
          <p:grpSpPr>
            <a:xfrm>
              <a:off x="7796160" y="2352600"/>
              <a:ext cx="844560" cy="439920"/>
              <a:chOff x="7796160" y="2352600"/>
              <a:chExt cx="844560" cy="439920"/>
            </a:xfrm>
          </p:grpSpPr>
          <p:sp>
            <p:nvSpPr>
              <p:cNvPr id="712" name="Rectangle 181"/>
              <p:cNvSpPr/>
              <p:nvPr/>
            </p:nvSpPr>
            <p:spPr>
              <a:xfrm>
                <a:off x="7796160" y="2352600"/>
                <a:ext cx="844560" cy="43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3" name="Line 182"/>
              <p:cNvSpPr/>
              <p:nvPr/>
            </p:nvSpPr>
            <p:spPr>
              <a:xfrm>
                <a:off x="8060040" y="2352600"/>
                <a:ext cx="3686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4" name="Line 183"/>
              <p:cNvSpPr/>
              <p:nvPr/>
            </p:nvSpPr>
            <p:spPr>
              <a:xfrm>
                <a:off x="8060040" y="2352600"/>
                <a:ext cx="0" cy="275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5" name="Rectangle 184"/>
              <p:cNvSpPr/>
              <p:nvPr/>
            </p:nvSpPr>
            <p:spPr>
              <a:xfrm>
                <a:off x="7796160" y="2627640"/>
                <a:ext cx="527040" cy="16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1"/>
            <p:cNvGrpSpPr/>
            <p:nvPr/>
          </p:nvGrpSpPr>
          <p:grpSpPr>
            <a:xfrm>
              <a:off x="5867280" y="1757520"/>
              <a:ext cx="403200" cy="520560"/>
              <a:chOff x="5867280" y="1757520"/>
              <a:chExt cx="403200" cy="520560"/>
            </a:xfrm>
          </p:grpSpPr>
          <p:sp>
            <p:nvSpPr>
              <p:cNvPr id="717" name="Oval 197"/>
              <p:cNvSpPr/>
              <p:nvPr/>
            </p:nvSpPr>
            <p:spPr>
              <a:xfrm>
                <a:off x="5867280" y="1790640"/>
                <a:ext cx="403200" cy="39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8" name="Text Box 198"/>
              <p:cNvSpPr/>
              <p:nvPr/>
            </p:nvSpPr>
            <p:spPr>
              <a:xfrm>
                <a:off x="5867280" y="1757520"/>
                <a:ext cx="37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24"/>
            <p:cNvGrpSpPr/>
            <p:nvPr/>
          </p:nvGrpSpPr>
          <p:grpSpPr>
            <a:xfrm>
              <a:off x="6091200" y="2708280"/>
              <a:ext cx="1379520" cy="719280"/>
              <a:chOff x="6091200" y="2708280"/>
              <a:chExt cx="1379520" cy="719280"/>
            </a:xfrm>
          </p:grpSpPr>
          <p:sp>
            <p:nvSpPr>
              <p:cNvPr id="720" name="Line 7"/>
              <p:cNvSpPr/>
              <p:nvPr/>
            </p:nvSpPr>
            <p:spPr>
              <a:xfrm>
                <a:off x="6091200" y="3427560"/>
                <a:ext cx="1379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21" name="Line 8"/>
              <p:cNvSpPr/>
              <p:nvPr/>
            </p:nvSpPr>
            <p:spPr>
              <a:xfrm flipV="1">
                <a:off x="6091200" y="2708280"/>
                <a:ext cx="0" cy="719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22" name="Line 9"/>
              <p:cNvSpPr/>
              <p:nvPr/>
            </p:nvSpPr>
            <p:spPr>
              <a:xfrm flipV="1">
                <a:off x="7470720" y="2708280"/>
                <a:ext cx="0" cy="719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23" name="Group 28"/>
            <p:cNvGrpSpPr/>
            <p:nvPr/>
          </p:nvGrpSpPr>
          <p:grpSpPr>
            <a:xfrm>
              <a:off x="6581880" y="3141720"/>
              <a:ext cx="407880" cy="520560"/>
              <a:chOff x="6581880" y="3141720"/>
              <a:chExt cx="407880" cy="520560"/>
            </a:xfrm>
          </p:grpSpPr>
          <p:sp>
            <p:nvSpPr>
              <p:cNvPr id="724" name="Oval 190"/>
              <p:cNvSpPr/>
              <p:nvPr/>
            </p:nvSpPr>
            <p:spPr>
              <a:xfrm>
                <a:off x="6588000" y="3235320"/>
                <a:ext cx="401760" cy="39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25" name="Text Box 191"/>
              <p:cNvSpPr/>
              <p:nvPr/>
            </p:nvSpPr>
            <p:spPr>
              <a:xfrm>
                <a:off x="6581880" y="3141720"/>
                <a:ext cx="36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726" name="Text Box 4"/>
            <p:cNvSpPr/>
            <p:nvPr/>
          </p:nvSpPr>
          <p:spPr>
            <a:xfrm>
              <a:off x="6608880" y="206532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7" name="Text Box 4"/>
            <p:cNvSpPr/>
            <p:nvPr/>
          </p:nvSpPr>
          <p:spPr>
            <a:xfrm>
              <a:off x="7885080" y="2857680"/>
              <a:ext cx="34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8" name="Text Box 116"/>
            <p:cNvSpPr/>
            <p:nvPr/>
          </p:nvSpPr>
          <p:spPr>
            <a:xfrm>
              <a:off x="7797960" y="1550880"/>
              <a:ext cx="31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9" name="AutoShape 34"/>
            <p:cNvSpPr/>
            <p:nvPr/>
          </p:nvSpPr>
          <p:spPr>
            <a:xfrm>
              <a:off x="6573960" y="2484360"/>
              <a:ext cx="438120" cy="43992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1568520" y="1924200"/>
            <a:ext cx="56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380880" y="1384200"/>
            <a:ext cx="8280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东同学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小灯泡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验：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完成如图实验电路的连接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小东正确连接电路后闭合开关，调节滑动变阻器使电压表的示数为图（甲）所示，此时电流表的示数如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乙）所示，小灯泡的电阻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5384880" y="3494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3" name="Picture 5" descr=""/>
          <p:cNvPicPr/>
          <p:nvPr/>
        </p:nvPicPr>
        <p:blipFill>
          <a:blip r:embed="rId1"/>
          <a:srcRect l="2684" t="17111" r="7125" b="0"/>
          <a:stretch/>
        </p:blipFill>
        <p:spPr>
          <a:xfrm>
            <a:off x="5168880" y="4660920"/>
            <a:ext cx="3637080" cy="191592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6"/>
          <p:cNvGrpSpPr/>
          <p:nvPr/>
        </p:nvGrpSpPr>
        <p:grpSpPr>
          <a:xfrm>
            <a:off x="596880" y="3914640"/>
            <a:ext cx="4284720" cy="2943360"/>
            <a:chOff x="596880" y="3914640"/>
            <a:chExt cx="4284720" cy="2943360"/>
          </a:xfrm>
        </p:grpSpPr>
        <p:pic>
          <p:nvPicPr>
            <p:cNvPr id="735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777960" y="5464080"/>
              <a:ext cx="95076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2038320" y="4348080"/>
              <a:ext cx="9428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6" descr="H:\2\人教教参资源\九\图\电流表.JPG"/>
            <p:cNvPicPr/>
            <p:nvPr/>
          </p:nvPicPr>
          <p:blipFill>
            <a:blip r:embed="rId4"/>
            <a:stretch/>
          </p:blipFill>
          <p:spPr>
            <a:xfrm>
              <a:off x="812880" y="4059000"/>
              <a:ext cx="8208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7" descr="H:\2\人教教参资源\九\图\电压表.JPG"/>
            <p:cNvPicPr/>
            <p:nvPr/>
          </p:nvPicPr>
          <p:blipFill>
            <a:blip r:embed="rId5"/>
            <a:stretch/>
          </p:blipFill>
          <p:spPr>
            <a:xfrm>
              <a:off x="2001960" y="5787720"/>
              <a:ext cx="9554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11" descr="无标题"/>
            <p:cNvPicPr/>
            <p:nvPr/>
          </p:nvPicPr>
          <p:blipFill>
            <a:blip r:embed="rId6"/>
            <a:stretch/>
          </p:blipFill>
          <p:spPr>
            <a:xfrm>
              <a:off x="3225960" y="4203720"/>
              <a:ext cx="1549080" cy="7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10" descr="H:\2\人教教参资源\九\图\电池组.JPG"/>
            <p:cNvPicPr/>
            <p:nvPr/>
          </p:nvPicPr>
          <p:blipFill>
            <a:blip r:embed="rId7"/>
            <a:stretch/>
          </p:blipFill>
          <p:spPr>
            <a:xfrm>
              <a:off x="3370320" y="5822640"/>
              <a:ext cx="115092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未知"/>
            <p:cNvSpPr/>
            <p:nvPr/>
          </p:nvSpPr>
          <p:spPr>
            <a:xfrm>
              <a:off x="1930320" y="4814640"/>
              <a:ext cx="339840" cy="1708200"/>
            </a:xfrm>
            <a:custGeom>
              <a:avLst/>
              <a:gdLst/>
              <a:ahLst/>
              <a:rect l="l" t="t" r="r" b="b"/>
              <a:pathLst>
                <a:path w="214" h="1076">
                  <a:moveTo>
                    <a:pt x="191" y="0"/>
                  </a:moveTo>
                  <a:cubicBezTo>
                    <a:pt x="188" y="51"/>
                    <a:pt x="193" y="214"/>
                    <a:pt x="171" y="309"/>
                  </a:cubicBezTo>
                  <a:cubicBezTo>
                    <a:pt x="149" y="404"/>
                    <a:pt x="86" y="486"/>
                    <a:pt x="59" y="571"/>
                  </a:cubicBezTo>
                  <a:cubicBezTo>
                    <a:pt x="32" y="656"/>
                    <a:pt x="0" y="741"/>
                    <a:pt x="6" y="818"/>
                  </a:cubicBezTo>
                  <a:cubicBezTo>
                    <a:pt x="12" y="895"/>
                    <a:pt x="61" y="994"/>
                    <a:pt x="96" y="1035"/>
                  </a:cubicBezTo>
                  <a:cubicBezTo>
                    <a:pt x="131" y="1076"/>
                    <a:pt x="190" y="1060"/>
                    <a:pt x="214" y="106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未知"/>
            <p:cNvSpPr/>
            <p:nvPr/>
          </p:nvSpPr>
          <p:spPr>
            <a:xfrm>
              <a:off x="2469960" y="4779720"/>
              <a:ext cx="667080" cy="1897200"/>
            </a:xfrm>
            <a:custGeom>
              <a:avLst/>
              <a:gdLst/>
              <a:ahLst/>
              <a:rect l="l" t="t" r="r" b="b"/>
              <a:pathLst>
                <a:path w="420" h="1195">
                  <a:moveTo>
                    <a:pt x="202" y="0"/>
                  </a:moveTo>
                  <a:cubicBezTo>
                    <a:pt x="228" y="30"/>
                    <a:pt x="323" y="77"/>
                    <a:pt x="359" y="172"/>
                  </a:cubicBezTo>
                  <a:cubicBezTo>
                    <a:pt x="395" y="267"/>
                    <a:pt x="420" y="426"/>
                    <a:pt x="419" y="568"/>
                  </a:cubicBezTo>
                  <a:cubicBezTo>
                    <a:pt x="418" y="710"/>
                    <a:pt x="402" y="924"/>
                    <a:pt x="351" y="1027"/>
                  </a:cubicBezTo>
                  <a:cubicBezTo>
                    <a:pt x="300" y="1130"/>
                    <a:pt x="170" y="1173"/>
                    <a:pt x="112" y="1184"/>
                  </a:cubicBezTo>
                  <a:cubicBezTo>
                    <a:pt x="54" y="1195"/>
                    <a:pt x="23" y="1113"/>
                    <a:pt x="0" y="1094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3" name="未知"/>
            <p:cNvSpPr/>
            <p:nvPr/>
          </p:nvSpPr>
          <p:spPr>
            <a:xfrm>
              <a:off x="4449600" y="4383000"/>
              <a:ext cx="277920" cy="1709640"/>
            </a:xfrm>
            <a:custGeom>
              <a:avLst/>
              <a:gdLst/>
              <a:ahLst/>
              <a:rect l="l" t="t" r="r" b="b"/>
              <a:pathLst>
                <a:path w="175" h="1077">
                  <a:moveTo>
                    <a:pt x="127" y="0"/>
                  </a:moveTo>
                  <a:cubicBezTo>
                    <a:pt x="134" y="55"/>
                    <a:pt x="162" y="233"/>
                    <a:pt x="168" y="336"/>
                  </a:cubicBezTo>
                  <a:cubicBezTo>
                    <a:pt x="174" y="439"/>
                    <a:pt x="175" y="521"/>
                    <a:pt x="164" y="621"/>
                  </a:cubicBezTo>
                  <a:cubicBezTo>
                    <a:pt x="153" y="721"/>
                    <a:pt x="131" y="859"/>
                    <a:pt x="104" y="935"/>
                  </a:cubicBezTo>
                  <a:cubicBezTo>
                    <a:pt x="77" y="1011"/>
                    <a:pt x="22" y="1047"/>
                    <a:pt x="0" y="107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4" name="未知"/>
            <p:cNvSpPr/>
            <p:nvPr/>
          </p:nvSpPr>
          <p:spPr>
            <a:xfrm>
              <a:off x="1533600" y="5895720"/>
              <a:ext cx="1919160" cy="962280"/>
            </a:xfrm>
            <a:custGeom>
              <a:avLst/>
              <a:gdLst/>
              <a:ahLst/>
              <a:rect l="l" t="t" r="r" b="b"/>
              <a:pathLst>
                <a:path w="1209" h="584">
                  <a:moveTo>
                    <a:pt x="1209" y="88"/>
                  </a:moveTo>
                  <a:cubicBezTo>
                    <a:pt x="1192" y="103"/>
                    <a:pt x="1160" y="110"/>
                    <a:pt x="1108" y="179"/>
                  </a:cubicBezTo>
                  <a:cubicBezTo>
                    <a:pt x="1056" y="248"/>
                    <a:pt x="1039" y="447"/>
                    <a:pt x="898" y="501"/>
                  </a:cubicBezTo>
                  <a:cubicBezTo>
                    <a:pt x="757" y="555"/>
                    <a:pt x="412" y="584"/>
                    <a:pt x="262" y="501"/>
                  </a:cubicBezTo>
                  <a:cubicBezTo>
                    <a:pt x="112" y="418"/>
                    <a:pt x="55" y="104"/>
                    <a:pt x="0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5" name="未知"/>
            <p:cNvSpPr/>
            <p:nvPr/>
          </p:nvSpPr>
          <p:spPr>
            <a:xfrm>
              <a:off x="1173240" y="4779720"/>
              <a:ext cx="1049400" cy="355680"/>
            </a:xfrm>
            <a:custGeom>
              <a:avLst/>
              <a:gdLst/>
              <a:ahLst/>
              <a:rect l="l" t="t" r="r" b="b"/>
              <a:pathLst>
                <a:path w="661" h="224">
                  <a:moveTo>
                    <a:pt x="661" y="23"/>
                  </a:moveTo>
                  <a:cubicBezTo>
                    <a:pt x="645" y="39"/>
                    <a:pt x="615" y="88"/>
                    <a:pt x="564" y="120"/>
                  </a:cubicBezTo>
                  <a:cubicBezTo>
                    <a:pt x="513" y="152"/>
                    <a:pt x="439" y="210"/>
                    <a:pt x="354" y="217"/>
                  </a:cubicBezTo>
                  <a:cubicBezTo>
                    <a:pt x="269" y="224"/>
                    <a:pt x="110" y="201"/>
                    <a:pt x="55" y="165"/>
                  </a:cubicBezTo>
                  <a:cubicBezTo>
                    <a:pt x="0" y="129"/>
                    <a:pt x="31" y="34"/>
                    <a:pt x="25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6" name="未知"/>
            <p:cNvSpPr/>
            <p:nvPr/>
          </p:nvSpPr>
          <p:spPr>
            <a:xfrm>
              <a:off x="596880" y="4814640"/>
              <a:ext cx="463680" cy="1073160"/>
            </a:xfrm>
            <a:custGeom>
              <a:avLst/>
              <a:gdLst/>
              <a:ahLst/>
              <a:rect l="l" t="t" r="r" b="b"/>
              <a:pathLst>
                <a:path w="292" h="676">
                  <a:moveTo>
                    <a:pt x="292" y="0"/>
                  </a:moveTo>
                  <a:cubicBezTo>
                    <a:pt x="224" y="29"/>
                    <a:pt x="157" y="58"/>
                    <a:pt x="114" y="111"/>
                  </a:cubicBezTo>
                  <a:cubicBezTo>
                    <a:pt x="72" y="164"/>
                    <a:pt x="55" y="250"/>
                    <a:pt x="38" y="319"/>
                  </a:cubicBezTo>
                  <a:cubicBezTo>
                    <a:pt x="21" y="388"/>
                    <a:pt x="0" y="473"/>
                    <a:pt x="12" y="526"/>
                  </a:cubicBezTo>
                  <a:cubicBezTo>
                    <a:pt x="25" y="579"/>
                    <a:pt x="73" y="612"/>
                    <a:pt x="114" y="637"/>
                  </a:cubicBezTo>
                  <a:cubicBezTo>
                    <a:pt x="155" y="662"/>
                    <a:pt x="227" y="668"/>
                    <a:pt x="256" y="67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7" name="Text Box 19"/>
            <p:cNvSpPr/>
            <p:nvPr/>
          </p:nvSpPr>
          <p:spPr>
            <a:xfrm>
              <a:off x="3441600" y="45640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8" name="Text Box 20"/>
            <p:cNvSpPr/>
            <p:nvPr/>
          </p:nvSpPr>
          <p:spPr>
            <a:xfrm>
              <a:off x="4270320" y="46353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9" name="Text Box 21"/>
            <p:cNvSpPr/>
            <p:nvPr/>
          </p:nvSpPr>
          <p:spPr>
            <a:xfrm>
              <a:off x="3225960" y="391464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0" name="Text Box 22"/>
            <p:cNvSpPr/>
            <p:nvPr/>
          </p:nvSpPr>
          <p:spPr>
            <a:xfrm>
              <a:off x="4557600" y="39510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380880" y="1523880"/>
            <a:ext cx="813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小灯泡的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验中，某同学在连接电路时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小心将电流表和电压表接错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置，如图所示。闭合开关可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的现象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烧坏，电压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灯泡烧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压表示数为电源电压值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电流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压表示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Rectangle 3"/>
          <p:cNvSpPr/>
          <p:nvPr/>
        </p:nvSpPr>
        <p:spPr>
          <a:xfrm>
            <a:off x="2890800" y="3648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53" name="Group 6"/>
          <p:cNvGrpSpPr/>
          <p:nvPr/>
        </p:nvGrpSpPr>
        <p:grpSpPr>
          <a:xfrm>
            <a:off x="5816520" y="1523880"/>
            <a:ext cx="2773440" cy="2394000"/>
            <a:chOff x="5816520" y="1523880"/>
            <a:chExt cx="2773440" cy="2394000"/>
          </a:xfrm>
        </p:grpSpPr>
        <p:sp>
          <p:nvSpPr>
            <p:cNvPr id="754" name="Rectangle 7"/>
            <p:cNvSpPr/>
            <p:nvPr/>
          </p:nvSpPr>
          <p:spPr>
            <a:xfrm>
              <a:off x="6040440" y="1751040"/>
              <a:ext cx="2349360" cy="121428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55" name="Group 8"/>
            <p:cNvGrpSpPr/>
            <p:nvPr/>
          </p:nvGrpSpPr>
          <p:grpSpPr>
            <a:xfrm>
              <a:off x="6823080" y="1523880"/>
              <a:ext cx="111240" cy="454320"/>
              <a:chOff x="6823080" y="1523880"/>
              <a:chExt cx="111240" cy="454320"/>
            </a:xfrm>
          </p:grpSpPr>
          <p:sp>
            <p:nvSpPr>
              <p:cNvPr id="756" name="Rectangle 19"/>
              <p:cNvSpPr/>
              <p:nvPr/>
            </p:nvSpPr>
            <p:spPr>
              <a:xfrm>
                <a:off x="6823080" y="1674720"/>
                <a:ext cx="111240" cy="11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7" name="Line 20"/>
              <p:cNvSpPr/>
              <p:nvPr/>
            </p:nvSpPr>
            <p:spPr>
              <a:xfrm>
                <a:off x="6823080" y="1523880"/>
                <a:ext cx="0" cy="4543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8" name="Line 21"/>
              <p:cNvSpPr/>
              <p:nvPr/>
            </p:nvSpPr>
            <p:spPr>
              <a:xfrm>
                <a:off x="6934320" y="1637280"/>
                <a:ext cx="0" cy="2268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"/>
            <p:cNvGrpSpPr/>
            <p:nvPr/>
          </p:nvGrpSpPr>
          <p:grpSpPr>
            <a:xfrm>
              <a:off x="7682040" y="1636560"/>
              <a:ext cx="372600" cy="228240"/>
              <a:chOff x="7682040" y="1636560"/>
              <a:chExt cx="372600" cy="228240"/>
            </a:xfrm>
          </p:grpSpPr>
          <p:sp>
            <p:nvSpPr>
              <p:cNvPr id="760" name="Rectangle 15"/>
              <p:cNvSpPr/>
              <p:nvPr/>
            </p:nvSpPr>
            <p:spPr>
              <a:xfrm>
                <a:off x="7724160" y="1636560"/>
                <a:ext cx="3290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1" name="Line 16"/>
              <p:cNvSpPr/>
              <p:nvPr/>
            </p:nvSpPr>
            <p:spPr>
              <a:xfrm flipV="1">
                <a:off x="7724160" y="1636560"/>
                <a:ext cx="330480" cy="13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2" name="Oval 17"/>
              <p:cNvSpPr/>
              <p:nvPr/>
            </p:nvSpPr>
            <p:spPr>
              <a:xfrm>
                <a:off x="7682040" y="1728000"/>
                <a:ext cx="82800" cy="90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6"/>
            <p:cNvGrpSpPr/>
            <p:nvPr/>
          </p:nvGrpSpPr>
          <p:grpSpPr>
            <a:xfrm>
              <a:off x="7745400" y="2608200"/>
              <a:ext cx="844560" cy="439920"/>
              <a:chOff x="7745400" y="2608200"/>
              <a:chExt cx="844560" cy="439920"/>
            </a:xfrm>
          </p:grpSpPr>
          <p:sp>
            <p:nvSpPr>
              <p:cNvPr id="764" name="Rectangle 181"/>
              <p:cNvSpPr/>
              <p:nvPr/>
            </p:nvSpPr>
            <p:spPr>
              <a:xfrm>
                <a:off x="7745400" y="2608200"/>
                <a:ext cx="844560" cy="43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5" name="Line 182"/>
              <p:cNvSpPr/>
              <p:nvPr/>
            </p:nvSpPr>
            <p:spPr>
              <a:xfrm>
                <a:off x="8009280" y="2608200"/>
                <a:ext cx="3686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6" name="Line 183"/>
              <p:cNvSpPr/>
              <p:nvPr/>
            </p:nvSpPr>
            <p:spPr>
              <a:xfrm>
                <a:off x="8009280" y="2608200"/>
                <a:ext cx="0" cy="2750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7" name="Rectangle 184"/>
              <p:cNvSpPr/>
              <p:nvPr/>
            </p:nvSpPr>
            <p:spPr>
              <a:xfrm>
                <a:off x="7745400" y="2883240"/>
                <a:ext cx="527040" cy="16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21"/>
            <p:cNvGrpSpPr/>
            <p:nvPr/>
          </p:nvGrpSpPr>
          <p:grpSpPr>
            <a:xfrm>
              <a:off x="5816520" y="2013120"/>
              <a:ext cx="403200" cy="520560"/>
              <a:chOff x="5816520" y="2013120"/>
              <a:chExt cx="403200" cy="520560"/>
            </a:xfrm>
          </p:grpSpPr>
          <p:sp>
            <p:nvSpPr>
              <p:cNvPr id="769" name="Oval 197"/>
              <p:cNvSpPr/>
              <p:nvPr/>
            </p:nvSpPr>
            <p:spPr>
              <a:xfrm>
                <a:off x="5816520" y="2046240"/>
                <a:ext cx="403200" cy="39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0" name="Text Box 198"/>
              <p:cNvSpPr/>
              <p:nvPr/>
            </p:nvSpPr>
            <p:spPr>
              <a:xfrm>
                <a:off x="5816520" y="2013120"/>
                <a:ext cx="370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24"/>
            <p:cNvGrpSpPr/>
            <p:nvPr/>
          </p:nvGrpSpPr>
          <p:grpSpPr>
            <a:xfrm>
              <a:off x="6040440" y="2963880"/>
              <a:ext cx="1379520" cy="719280"/>
              <a:chOff x="6040440" y="2963880"/>
              <a:chExt cx="1379520" cy="719280"/>
            </a:xfrm>
          </p:grpSpPr>
          <p:sp>
            <p:nvSpPr>
              <p:cNvPr id="772" name="Line 7"/>
              <p:cNvSpPr/>
              <p:nvPr/>
            </p:nvSpPr>
            <p:spPr>
              <a:xfrm>
                <a:off x="6040440" y="3683160"/>
                <a:ext cx="13795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3" name="Line 8"/>
              <p:cNvSpPr/>
              <p:nvPr/>
            </p:nvSpPr>
            <p:spPr>
              <a:xfrm flipV="1">
                <a:off x="6040440" y="2963880"/>
                <a:ext cx="0" cy="719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4" name="Line 9"/>
              <p:cNvSpPr/>
              <p:nvPr/>
            </p:nvSpPr>
            <p:spPr>
              <a:xfrm flipV="1">
                <a:off x="7419960" y="2963880"/>
                <a:ext cx="0" cy="7192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28"/>
            <p:cNvGrpSpPr/>
            <p:nvPr/>
          </p:nvGrpSpPr>
          <p:grpSpPr>
            <a:xfrm>
              <a:off x="6531120" y="3397320"/>
              <a:ext cx="407880" cy="520560"/>
              <a:chOff x="6531120" y="3397320"/>
              <a:chExt cx="407880" cy="520560"/>
            </a:xfrm>
          </p:grpSpPr>
          <p:sp>
            <p:nvSpPr>
              <p:cNvPr id="776" name="Oval 190"/>
              <p:cNvSpPr/>
              <p:nvPr/>
            </p:nvSpPr>
            <p:spPr>
              <a:xfrm>
                <a:off x="6537240" y="3490920"/>
                <a:ext cx="401760" cy="39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7" name="Text Box 191"/>
              <p:cNvSpPr/>
              <p:nvPr/>
            </p:nvSpPr>
            <p:spPr>
              <a:xfrm>
                <a:off x="6531120" y="3397320"/>
                <a:ext cx="36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778" name="Text Box 4"/>
            <p:cNvSpPr/>
            <p:nvPr/>
          </p:nvSpPr>
          <p:spPr>
            <a:xfrm>
              <a:off x="6558120" y="232092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9" name="Text Box 4"/>
            <p:cNvSpPr/>
            <p:nvPr/>
          </p:nvSpPr>
          <p:spPr>
            <a:xfrm>
              <a:off x="7834320" y="3113280"/>
              <a:ext cx="341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0" name="Text Box 116"/>
            <p:cNvSpPr/>
            <p:nvPr/>
          </p:nvSpPr>
          <p:spPr>
            <a:xfrm>
              <a:off x="7747200" y="1806480"/>
              <a:ext cx="31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1" name="AutoShape 34"/>
            <p:cNvSpPr/>
            <p:nvPr/>
          </p:nvSpPr>
          <p:spPr>
            <a:xfrm>
              <a:off x="6523200" y="2739960"/>
              <a:ext cx="438120" cy="43992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1568520" y="1758960"/>
            <a:ext cx="56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380880" y="1219320"/>
            <a:ext cx="8280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东同学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小灯泡电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实验：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完成如图实验电路的连接；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小东正确连接电路后闭合开关，调节滑动变阻器使电压表的示数为图（甲）所示，此时电流表的示数如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乙）所示，小灯泡的电阻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5384880" y="3328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5" name="Picture 5" descr=""/>
          <p:cNvPicPr/>
          <p:nvPr/>
        </p:nvPicPr>
        <p:blipFill>
          <a:blip r:embed="rId1"/>
          <a:srcRect l="2684" t="17111" r="7125" b="0"/>
          <a:stretch/>
        </p:blipFill>
        <p:spPr>
          <a:xfrm>
            <a:off x="5168880" y="4495680"/>
            <a:ext cx="3637080" cy="1916280"/>
          </a:xfrm>
          <a:prstGeom prst="rect">
            <a:avLst/>
          </a:prstGeom>
          <a:ln w="0">
            <a:noFill/>
          </a:ln>
        </p:spPr>
      </p:pic>
      <p:grpSp>
        <p:nvGrpSpPr>
          <p:cNvPr id="786" name="Group 6"/>
          <p:cNvGrpSpPr/>
          <p:nvPr/>
        </p:nvGrpSpPr>
        <p:grpSpPr>
          <a:xfrm>
            <a:off x="596880" y="3749760"/>
            <a:ext cx="4284720" cy="2942640"/>
            <a:chOff x="596880" y="3749760"/>
            <a:chExt cx="4284720" cy="2942640"/>
          </a:xfrm>
        </p:grpSpPr>
        <p:pic>
          <p:nvPicPr>
            <p:cNvPr id="787" name="Picture 3" descr="H:\2\人教教参资源\九\图\铡刀开关.JPG"/>
            <p:cNvPicPr/>
            <p:nvPr/>
          </p:nvPicPr>
          <p:blipFill>
            <a:blip r:embed="rId2"/>
            <a:stretch/>
          </p:blipFill>
          <p:spPr>
            <a:xfrm>
              <a:off x="777960" y="5298840"/>
              <a:ext cx="950760" cy="60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5" descr="H:\2\人教教参资源\九\图\小灯泡.JPG"/>
            <p:cNvPicPr/>
            <p:nvPr/>
          </p:nvPicPr>
          <p:blipFill>
            <a:blip r:embed="rId3"/>
            <a:stretch/>
          </p:blipFill>
          <p:spPr>
            <a:xfrm>
              <a:off x="2038320" y="4182840"/>
              <a:ext cx="942840" cy="6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6" descr="H:\2\人教教参资源\九\图\电流表.JPG"/>
            <p:cNvPicPr/>
            <p:nvPr/>
          </p:nvPicPr>
          <p:blipFill>
            <a:blip r:embed="rId4"/>
            <a:stretch/>
          </p:blipFill>
          <p:spPr>
            <a:xfrm>
              <a:off x="812880" y="3893760"/>
              <a:ext cx="82080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7" descr="H:\2\人教教参资源\九\图\电压表.JPG"/>
            <p:cNvPicPr/>
            <p:nvPr/>
          </p:nvPicPr>
          <p:blipFill>
            <a:blip r:embed="rId5"/>
            <a:stretch/>
          </p:blipFill>
          <p:spPr>
            <a:xfrm>
              <a:off x="2001960" y="5622480"/>
              <a:ext cx="9554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11" descr="无标题"/>
            <p:cNvPicPr/>
            <p:nvPr/>
          </p:nvPicPr>
          <p:blipFill>
            <a:blip r:embed="rId6"/>
            <a:stretch/>
          </p:blipFill>
          <p:spPr>
            <a:xfrm>
              <a:off x="3225960" y="4038480"/>
              <a:ext cx="154908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10" descr="H:\2\人教教参资源\九\图\电池组.JPG"/>
            <p:cNvPicPr/>
            <p:nvPr/>
          </p:nvPicPr>
          <p:blipFill>
            <a:blip r:embed="rId7"/>
            <a:stretch/>
          </p:blipFill>
          <p:spPr>
            <a:xfrm>
              <a:off x="3370320" y="5657400"/>
              <a:ext cx="115092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未知"/>
            <p:cNvSpPr/>
            <p:nvPr/>
          </p:nvSpPr>
          <p:spPr>
            <a:xfrm>
              <a:off x="1930320" y="4649400"/>
              <a:ext cx="339840" cy="1707840"/>
            </a:xfrm>
            <a:custGeom>
              <a:avLst/>
              <a:gdLst/>
              <a:ahLst/>
              <a:rect l="l" t="t" r="r" b="b"/>
              <a:pathLst>
                <a:path w="214" h="1076">
                  <a:moveTo>
                    <a:pt x="191" y="0"/>
                  </a:moveTo>
                  <a:cubicBezTo>
                    <a:pt x="188" y="51"/>
                    <a:pt x="193" y="214"/>
                    <a:pt x="171" y="309"/>
                  </a:cubicBezTo>
                  <a:cubicBezTo>
                    <a:pt x="149" y="404"/>
                    <a:pt x="86" y="486"/>
                    <a:pt x="59" y="571"/>
                  </a:cubicBezTo>
                  <a:cubicBezTo>
                    <a:pt x="32" y="656"/>
                    <a:pt x="0" y="741"/>
                    <a:pt x="6" y="818"/>
                  </a:cubicBezTo>
                  <a:cubicBezTo>
                    <a:pt x="12" y="895"/>
                    <a:pt x="61" y="994"/>
                    <a:pt x="96" y="1035"/>
                  </a:cubicBezTo>
                  <a:cubicBezTo>
                    <a:pt x="131" y="1076"/>
                    <a:pt x="190" y="1060"/>
                    <a:pt x="214" y="106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4" name="未知"/>
            <p:cNvSpPr/>
            <p:nvPr/>
          </p:nvSpPr>
          <p:spPr>
            <a:xfrm>
              <a:off x="2469960" y="4614480"/>
              <a:ext cx="667080" cy="1896840"/>
            </a:xfrm>
            <a:custGeom>
              <a:avLst/>
              <a:gdLst/>
              <a:ahLst/>
              <a:rect l="l" t="t" r="r" b="b"/>
              <a:pathLst>
                <a:path w="420" h="1195">
                  <a:moveTo>
                    <a:pt x="202" y="0"/>
                  </a:moveTo>
                  <a:cubicBezTo>
                    <a:pt x="228" y="30"/>
                    <a:pt x="323" y="77"/>
                    <a:pt x="359" y="172"/>
                  </a:cubicBezTo>
                  <a:cubicBezTo>
                    <a:pt x="395" y="267"/>
                    <a:pt x="420" y="426"/>
                    <a:pt x="419" y="568"/>
                  </a:cubicBezTo>
                  <a:cubicBezTo>
                    <a:pt x="418" y="710"/>
                    <a:pt x="402" y="924"/>
                    <a:pt x="351" y="1027"/>
                  </a:cubicBezTo>
                  <a:cubicBezTo>
                    <a:pt x="300" y="1130"/>
                    <a:pt x="170" y="1173"/>
                    <a:pt x="112" y="1184"/>
                  </a:cubicBezTo>
                  <a:cubicBezTo>
                    <a:pt x="54" y="1195"/>
                    <a:pt x="23" y="1113"/>
                    <a:pt x="0" y="1094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5" name="未知"/>
            <p:cNvSpPr/>
            <p:nvPr/>
          </p:nvSpPr>
          <p:spPr>
            <a:xfrm>
              <a:off x="4449600" y="4217760"/>
              <a:ext cx="277920" cy="1709280"/>
            </a:xfrm>
            <a:custGeom>
              <a:avLst/>
              <a:gdLst/>
              <a:ahLst/>
              <a:rect l="l" t="t" r="r" b="b"/>
              <a:pathLst>
                <a:path w="175" h="1077">
                  <a:moveTo>
                    <a:pt x="127" y="0"/>
                  </a:moveTo>
                  <a:cubicBezTo>
                    <a:pt x="134" y="55"/>
                    <a:pt x="162" y="233"/>
                    <a:pt x="168" y="336"/>
                  </a:cubicBezTo>
                  <a:cubicBezTo>
                    <a:pt x="174" y="439"/>
                    <a:pt x="175" y="521"/>
                    <a:pt x="164" y="621"/>
                  </a:cubicBezTo>
                  <a:cubicBezTo>
                    <a:pt x="153" y="721"/>
                    <a:pt x="131" y="859"/>
                    <a:pt x="104" y="935"/>
                  </a:cubicBezTo>
                  <a:cubicBezTo>
                    <a:pt x="77" y="1011"/>
                    <a:pt x="22" y="1047"/>
                    <a:pt x="0" y="107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6" name="未知"/>
            <p:cNvSpPr/>
            <p:nvPr/>
          </p:nvSpPr>
          <p:spPr>
            <a:xfrm>
              <a:off x="1533600" y="5730480"/>
              <a:ext cx="1919160" cy="961920"/>
            </a:xfrm>
            <a:custGeom>
              <a:avLst/>
              <a:gdLst/>
              <a:ahLst/>
              <a:rect l="l" t="t" r="r" b="b"/>
              <a:pathLst>
                <a:path w="1209" h="584">
                  <a:moveTo>
                    <a:pt x="1209" y="88"/>
                  </a:moveTo>
                  <a:cubicBezTo>
                    <a:pt x="1192" y="103"/>
                    <a:pt x="1160" y="110"/>
                    <a:pt x="1108" y="179"/>
                  </a:cubicBezTo>
                  <a:cubicBezTo>
                    <a:pt x="1056" y="248"/>
                    <a:pt x="1039" y="447"/>
                    <a:pt x="898" y="501"/>
                  </a:cubicBezTo>
                  <a:cubicBezTo>
                    <a:pt x="757" y="555"/>
                    <a:pt x="412" y="584"/>
                    <a:pt x="262" y="501"/>
                  </a:cubicBezTo>
                  <a:cubicBezTo>
                    <a:pt x="112" y="418"/>
                    <a:pt x="55" y="104"/>
                    <a:pt x="0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7" name="未知"/>
            <p:cNvSpPr/>
            <p:nvPr/>
          </p:nvSpPr>
          <p:spPr>
            <a:xfrm>
              <a:off x="1173240" y="4614480"/>
              <a:ext cx="1049400" cy="355320"/>
            </a:xfrm>
            <a:custGeom>
              <a:avLst/>
              <a:gdLst/>
              <a:ahLst/>
              <a:rect l="l" t="t" r="r" b="b"/>
              <a:pathLst>
                <a:path w="661" h="224">
                  <a:moveTo>
                    <a:pt x="661" y="23"/>
                  </a:moveTo>
                  <a:cubicBezTo>
                    <a:pt x="645" y="39"/>
                    <a:pt x="615" y="88"/>
                    <a:pt x="564" y="120"/>
                  </a:cubicBezTo>
                  <a:cubicBezTo>
                    <a:pt x="513" y="152"/>
                    <a:pt x="439" y="210"/>
                    <a:pt x="354" y="217"/>
                  </a:cubicBezTo>
                  <a:cubicBezTo>
                    <a:pt x="269" y="224"/>
                    <a:pt x="110" y="201"/>
                    <a:pt x="55" y="165"/>
                  </a:cubicBezTo>
                  <a:cubicBezTo>
                    <a:pt x="0" y="129"/>
                    <a:pt x="31" y="34"/>
                    <a:pt x="25" y="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8" name="未知"/>
            <p:cNvSpPr/>
            <p:nvPr/>
          </p:nvSpPr>
          <p:spPr>
            <a:xfrm>
              <a:off x="596880" y="4649400"/>
              <a:ext cx="463680" cy="1072800"/>
            </a:xfrm>
            <a:custGeom>
              <a:avLst/>
              <a:gdLst/>
              <a:ahLst/>
              <a:rect l="l" t="t" r="r" b="b"/>
              <a:pathLst>
                <a:path w="292" h="676">
                  <a:moveTo>
                    <a:pt x="292" y="0"/>
                  </a:moveTo>
                  <a:cubicBezTo>
                    <a:pt x="224" y="29"/>
                    <a:pt x="157" y="58"/>
                    <a:pt x="114" y="111"/>
                  </a:cubicBezTo>
                  <a:cubicBezTo>
                    <a:pt x="72" y="164"/>
                    <a:pt x="55" y="250"/>
                    <a:pt x="38" y="319"/>
                  </a:cubicBezTo>
                  <a:cubicBezTo>
                    <a:pt x="21" y="388"/>
                    <a:pt x="0" y="473"/>
                    <a:pt x="12" y="526"/>
                  </a:cubicBezTo>
                  <a:cubicBezTo>
                    <a:pt x="25" y="579"/>
                    <a:pt x="73" y="612"/>
                    <a:pt x="114" y="637"/>
                  </a:cubicBezTo>
                  <a:cubicBezTo>
                    <a:pt x="155" y="662"/>
                    <a:pt x="227" y="668"/>
                    <a:pt x="256" y="676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9" name="Text Box 19"/>
            <p:cNvSpPr/>
            <p:nvPr/>
          </p:nvSpPr>
          <p:spPr>
            <a:xfrm>
              <a:off x="3441600" y="4398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4270320" y="4470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1" name="Text Box 21"/>
            <p:cNvSpPr/>
            <p:nvPr/>
          </p:nvSpPr>
          <p:spPr>
            <a:xfrm>
              <a:off x="3225960" y="3749760"/>
              <a:ext cx="3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2" name="Text Box 22"/>
            <p:cNvSpPr/>
            <p:nvPr/>
          </p:nvSpPr>
          <p:spPr>
            <a:xfrm>
              <a:off x="4557600" y="3785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685440" y="190512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你可以设计一个能够用来测量电阻的电路吗？请画出电路图。</a:t>
            </a:r>
            <a:endParaRPr b="0" lang="en-US" sz="33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你设想的实验原理是什么？</a:t>
            </a:r>
            <a:endParaRPr b="0" lang="en-US" sz="3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09480" y="914400"/>
            <a:ext cx="7620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以下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304920" y="114300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东同学做测量灯泡电阻实验，连接电路后闭合开关，发现灯不亮，电流表无示数，电压表示数为电源电压。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障原因可能有几种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写出三种灯泡不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原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304920" y="4800600"/>
            <a:ext cx="8208720" cy="1629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电压表串联在电路中了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小灯泡断路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连接小灯泡两端的导线或接线柱断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5" name="Picture 5" descr="H:\2\人教教参资源\九\图\小灯泡.JPG"/>
          <p:cNvPicPr/>
          <p:nvPr/>
        </p:nvPicPr>
        <p:blipFill>
          <a:blip r:embed="rId1"/>
          <a:stretch/>
        </p:blipFill>
        <p:spPr>
          <a:xfrm>
            <a:off x="5165640" y="3951360"/>
            <a:ext cx="984240" cy="671400"/>
          </a:xfrm>
          <a:prstGeom prst="rect">
            <a:avLst/>
          </a:prstGeom>
          <a:ln w="0">
            <a:noFill/>
          </a:ln>
        </p:spPr>
      </p:pic>
      <p:grpSp>
        <p:nvGrpSpPr>
          <p:cNvPr id="806" name="Group 5"/>
          <p:cNvGrpSpPr/>
          <p:nvPr/>
        </p:nvGrpSpPr>
        <p:grpSpPr>
          <a:xfrm>
            <a:off x="4408560" y="2259000"/>
            <a:ext cx="3924360" cy="2374920"/>
            <a:chOff x="4408560" y="2259000"/>
            <a:chExt cx="3924360" cy="2374920"/>
          </a:xfrm>
        </p:grpSpPr>
        <p:pic>
          <p:nvPicPr>
            <p:cNvPr id="807" name="Picture 6" descr="无标题"/>
            <p:cNvPicPr/>
            <p:nvPr/>
          </p:nvPicPr>
          <p:blipFill>
            <a:blip r:embed="rId2"/>
            <a:stretch/>
          </p:blipFill>
          <p:spPr>
            <a:xfrm>
              <a:off x="7086600" y="2971800"/>
              <a:ext cx="1246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>
              <a:off x="6340680" y="2346480"/>
              <a:ext cx="77292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6" descr="H:\2\人教教参资源\九\图\电流表.JPG"/>
            <p:cNvPicPr/>
            <p:nvPr/>
          </p:nvPicPr>
          <p:blipFill>
            <a:blip r:embed="rId4"/>
            <a:stretch/>
          </p:blipFill>
          <p:spPr>
            <a:xfrm>
              <a:off x="4408560" y="3170160"/>
              <a:ext cx="7192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7" descr="H:\2\人教教参资源\九\图\电压表.JPG"/>
            <p:cNvPicPr/>
            <p:nvPr/>
          </p:nvPicPr>
          <p:blipFill>
            <a:blip r:embed="rId5"/>
            <a:stretch/>
          </p:blipFill>
          <p:spPr>
            <a:xfrm>
              <a:off x="6408720" y="3797280"/>
              <a:ext cx="8668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14" descr="H:\2\人教教参资源\九\图\蓄电池.jpg"/>
            <p:cNvPicPr/>
            <p:nvPr/>
          </p:nvPicPr>
          <p:blipFill>
            <a:blip r:embed="rId6"/>
            <a:stretch/>
          </p:blipFill>
          <p:spPr>
            <a:xfrm>
              <a:off x="5129280" y="2259000"/>
              <a:ext cx="105552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5"/>
          <p:cNvSpPr/>
          <p:nvPr/>
        </p:nvSpPr>
        <p:spPr>
          <a:xfrm>
            <a:off x="228600" y="1676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拓展实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Text Box 36"/>
          <p:cNvSpPr/>
          <p:nvPr/>
        </p:nvSpPr>
        <p:spPr>
          <a:xfrm>
            <a:off x="380880" y="762120"/>
            <a:ext cx="7391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观察灯泡处断路和短路时现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14" name="Group 45"/>
          <p:cNvGrpSpPr/>
          <p:nvPr/>
        </p:nvGrpSpPr>
        <p:grpSpPr>
          <a:xfrm>
            <a:off x="4267080" y="1523880"/>
            <a:ext cx="4495680" cy="3581280"/>
            <a:chOff x="4267080" y="1523880"/>
            <a:chExt cx="4495680" cy="3581280"/>
          </a:xfrm>
        </p:grpSpPr>
        <p:pic>
          <p:nvPicPr>
            <p:cNvPr id="815" name="Picture 6" descr="电流表01-"/>
            <p:cNvPicPr/>
            <p:nvPr/>
          </p:nvPicPr>
          <p:blipFill>
            <a:blip r:embed="rId1"/>
            <a:stretch/>
          </p:blipFill>
          <p:spPr>
            <a:xfrm>
              <a:off x="4746600" y="2007360"/>
              <a:ext cx="9262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Picture 7" descr="电池盒4"/>
            <p:cNvPicPr/>
            <p:nvPr/>
          </p:nvPicPr>
          <p:blipFill>
            <a:blip r:embed="rId2"/>
            <a:stretch/>
          </p:blipFill>
          <p:spPr>
            <a:xfrm>
              <a:off x="5972760" y="1523880"/>
              <a:ext cx="127944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8" descr="滑动变阻器-03"/>
            <p:cNvPicPr/>
            <p:nvPr/>
          </p:nvPicPr>
          <p:blipFill>
            <a:blip r:embed="rId3"/>
            <a:stretch/>
          </p:blipFill>
          <p:spPr>
            <a:xfrm>
              <a:off x="7252200" y="2867040"/>
              <a:ext cx="143928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9" descr="开关02"/>
            <p:cNvPicPr/>
            <p:nvPr/>
          </p:nvPicPr>
          <p:blipFill>
            <a:blip r:embed="rId4"/>
            <a:stretch/>
          </p:blipFill>
          <p:spPr>
            <a:xfrm>
              <a:off x="7518960" y="1523880"/>
              <a:ext cx="1172520" cy="7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11" descr="小灯泡01-"/>
            <p:cNvPicPr/>
            <p:nvPr/>
          </p:nvPicPr>
          <p:blipFill>
            <a:blip r:embed="rId5"/>
            <a:stretch/>
          </p:blipFill>
          <p:spPr>
            <a:xfrm>
              <a:off x="5972760" y="3135600"/>
              <a:ext cx="89280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12" descr="电压表-02"/>
            <p:cNvPicPr/>
            <p:nvPr/>
          </p:nvPicPr>
          <p:blipFill>
            <a:blip r:embed="rId6"/>
            <a:stretch/>
          </p:blipFill>
          <p:spPr>
            <a:xfrm>
              <a:off x="5546520" y="3834000"/>
              <a:ext cx="10382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Freeform 38"/>
            <p:cNvSpPr/>
            <p:nvPr/>
          </p:nvSpPr>
          <p:spPr>
            <a:xfrm>
              <a:off x="7199280" y="1550520"/>
              <a:ext cx="532800" cy="510120"/>
            </a:xfrm>
            <a:custGeom>
              <a:avLst/>
              <a:gdLst/>
              <a:ahLst/>
              <a:rect l="l" t="t" r="r" b="b"/>
              <a:pathLst>
                <a:path w="480" h="456">
                  <a:moveTo>
                    <a:pt x="0" y="24"/>
                  </a:moveTo>
                  <a:cubicBezTo>
                    <a:pt x="128" y="12"/>
                    <a:pt x="256" y="0"/>
                    <a:pt x="336" y="72"/>
                  </a:cubicBezTo>
                  <a:cubicBezTo>
                    <a:pt x="416" y="144"/>
                    <a:pt x="448" y="300"/>
                    <a:pt x="480" y="45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2" name="Freeform 39"/>
            <p:cNvSpPr/>
            <p:nvPr/>
          </p:nvSpPr>
          <p:spPr>
            <a:xfrm>
              <a:off x="8478720" y="2061000"/>
              <a:ext cx="284040" cy="1074240"/>
            </a:xfrm>
            <a:custGeom>
              <a:avLst/>
              <a:gdLst/>
              <a:ahLst/>
              <a:rect l="l" t="t" r="r" b="b"/>
              <a:pathLst>
                <a:path w="256" h="960">
                  <a:moveTo>
                    <a:pt x="0" y="0"/>
                  </a:moveTo>
                  <a:cubicBezTo>
                    <a:pt x="112" y="208"/>
                    <a:pt x="224" y="416"/>
                    <a:pt x="240" y="576"/>
                  </a:cubicBezTo>
                  <a:cubicBezTo>
                    <a:pt x="256" y="736"/>
                    <a:pt x="176" y="848"/>
                    <a:pt x="96" y="96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3" name="Freeform 40"/>
            <p:cNvSpPr/>
            <p:nvPr/>
          </p:nvSpPr>
          <p:spPr>
            <a:xfrm>
              <a:off x="6719400" y="3404160"/>
              <a:ext cx="950400" cy="393840"/>
            </a:xfrm>
            <a:custGeom>
              <a:avLst/>
              <a:gdLst/>
              <a:ahLst/>
              <a:rect l="l" t="t" r="r" b="b"/>
              <a:pathLst>
                <a:path w="856" h="352">
                  <a:moveTo>
                    <a:pt x="816" y="0"/>
                  </a:moveTo>
                  <a:cubicBezTo>
                    <a:pt x="836" y="160"/>
                    <a:pt x="856" y="320"/>
                    <a:pt x="720" y="336"/>
                  </a:cubicBezTo>
                  <a:cubicBezTo>
                    <a:pt x="584" y="352"/>
                    <a:pt x="292" y="224"/>
                    <a:pt x="0" y="9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4" name="Freeform 41"/>
            <p:cNvSpPr/>
            <p:nvPr/>
          </p:nvSpPr>
          <p:spPr>
            <a:xfrm>
              <a:off x="5226480" y="2867040"/>
              <a:ext cx="959400" cy="689040"/>
            </a:xfrm>
            <a:custGeom>
              <a:avLst/>
              <a:gdLst/>
              <a:ahLst/>
              <a:rect l="l" t="t" r="r" b="b"/>
              <a:pathLst>
                <a:path w="864" h="616">
                  <a:moveTo>
                    <a:pt x="864" y="528"/>
                  </a:moveTo>
                  <a:cubicBezTo>
                    <a:pt x="696" y="572"/>
                    <a:pt x="528" y="616"/>
                    <a:pt x="384" y="528"/>
                  </a:cubicBezTo>
                  <a:cubicBezTo>
                    <a:pt x="240" y="440"/>
                    <a:pt x="120" y="220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5" name="Freeform 42"/>
            <p:cNvSpPr/>
            <p:nvPr/>
          </p:nvSpPr>
          <p:spPr>
            <a:xfrm>
              <a:off x="4267080" y="1577520"/>
              <a:ext cx="1758960" cy="1289160"/>
            </a:xfrm>
            <a:custGeom>
              <a:avLst/>
              <a:gdLst/>
              <a:ahLst/>
              <a:rect l="l" t="t" r="r" b="b"/>
              <a:pathLst>
                <a:path w="1584" h="1152">
                  <a:moveTo>
                    <a:pt x="576" y="1152"/>
                  </a:moveTo>
                  <a:cubicBezTo>
                    <a:pt x="388" y="1140"/>
                    <a:pt x="200" y="1128"/>
                    <a:pt x="144" y="1008"/>
                  </a:cubicBezTo>
                  <a:cubicBezTo>
                    <a:pt x="88" y="888"/>
                    <a:pt x="0" y="600"/>
                    <a:pt x="240" y="432"/>
                  </a:cubicBezTo>
                  <a:cubicBezTo>
                    <a:pt x="480" y="264"/>
                    <a:pt x="1032" y="132"/>
                    <a:pt x="158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6" name="Freeform 43"/>
            <p:cNvSpPr/>
            <p:nvPr/>
          </p:nvSpPr>
          <p:spPr>
            <a:xfrm>
              <a:off x="5919840" y="3457800"/>
              <a:ext cx="1003680" cy="1647360"/>
            </a:xfrm>
            <a:custGeom>
              <a:avLst/>
              <a:gdLst/>
              <a:ahLst/>
              <a:rect l="l" t="t" r="r" b="b"/>
              <a:pathLst>
                <a:path w="904" h="1472">
                  <a:moveTo>
                    <a:pt x="0" y="1104"/>
                  </a:moveTo>
                  <a:cubicBezTo>
                    <a:pt x="28" y="1212"/>
                    <a:pt x="56" y="1320"/>
                    <a:pt x="192" y="1344"/>
                  </a:cubicBezTo>
                  <a:cubicBezTo>
                    <a:pt x="328" y="1368"/>
                    <a:pt x="728" y="1472"/>
                    <a:pt x="816" y="1248"/>
                  </a:cubicBezTo>
                  <a:cubicBezTo>
                    <a:pt x="904" y="1024"/>
                    <a:pt x="812" y="512"/>
                    <a:pt x="72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7" name="Freeform 44"/>
            <p:cNvSpPr/>
            <p:nvPr/>
          </p:nvSpPr>
          <p:spPr>
            <a:xfrm>
              <a:off x="5288760" y="3448800"/>
              <a:ext cx="897120" cy="1244520"/>
            </a:xfrm>
            <a:custGeom>
              <a:avLst/>
              <a:gdLst/>
              <a:ahLst/>
              <a:rect l="l" t="t" r="r" b="b"/>
              <a:pathLst>
                <a:path w="808" h="1112">
                  <a:moveTo>
                    <a:pt x="376" y="1112"/>
                  </a:moveTo>
                  <a:cubicBezTo>
                    <a:pt x="188" y="1096"/>
                    <a:pt x="0" y="1080"/>
                    <a:pt x="40" y="920"/>
                  </a:cubicBezTo>
                  <a:cubicBezTo>
                    <a:pt x="80" y="760"/>
                    <a:pt x="488" y="304"/>
                    <a:pt x="616" y="152"/>
                  </a:cubicBezTo>
                  <a:cubicBezTo>
                    <a:pt x="744" y="0"/>
                    <a:pt x="776" y="4"/>
                    <a:pt x="808" y="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28" name="Text Box 46"/>
          <p:cNvSpPr/>
          <p:nvPr/>
        </p:nvSpPr>
        <p:spPr>
          <a:xfrm>
            <a:off x="228600" y="2438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断开开关，将滑动变阻器阻值调到最大，电压表接入大量程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22860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路：将灯泡取下，闭合开关，观察现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6320" y="53341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短路：将灯泡两端用导线相连，闭合开关，观察现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Text Box 49"/>
          <p:cNvSpPr/>
          <p:nvPr/>
        </p:nvSpPr>
        <p:spPr>
          <a:xfrm>
            <a:off x="304920" y="4495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灯泡不亮，电流表无示数（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电压表有示数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Text Box 50"/>
          <p:cNvSpPr/>
          <p:nvPr/>
        </p:nvSpPr>
        <p:spPr>
          <a:xfrm>
            <a:off x="152280" y="5867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灯泡不亮，电流表有示数，电压表无示数（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6"/>
          <p:cNvSpPr/>
          <p:nvPr/>
        </p:nvSpPr>
        <p:spPr>
          <a:xfrm>
            <a:off x="127548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验原理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4" name="Picture 8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200400" cy="8841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9"/>
          <p:cNvSpPr/>
          <p:nvPr/>
        </p:nvSpPr>
        <p:spPr>
          <a:xfrm>
            <a:off x="1419480" y="2643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需测量物理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6" name="Text Box 11"/>
          <p:cNvSpPr/>
          <p:nvPr/>
        </p:nvSpPr>
        <p:spPr>
          <a:xfrm>
            <a:off x="1347480" y="3710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实验电路图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7" name="Picture 12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2362320" cy="147780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13"/>
          <p:cNvSpPr/>
          <p:nvPr/>
        </p:nvSpPr>
        <p:spPr>
          <a:xfrm>
            <a:off x="1339200" y="5105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滑动变阻器作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4552200" y="5105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改变被测电阻两端的电压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0" name="Picture 1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581280" y="2666880"/>
            <a:ext cx="4572000" cy="49068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18"/>
          <p:cNvSpPr/>
          <p:nvPr/>
        </p:nvSpPr>
        <p:spPr>
          <a:xfrm>
            <a:off x="457200" y="685800"/>
            <a:ext cx="2438280" cy="581400"/>
          </a:xfrm>
          <a:prstGeom prst="rect">
            <a:avLst/>
          </a:prstGeom>
          <a:solidFill>
            <a:srgbClr val="ffff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小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3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4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3"/>
          <p:cNvSpPr/>
          <p:nvPr/>
        </p:nvSpPr>
        <p:spPr>
          <a:xfrm>
            <a:off x="611280" y="308916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7" name="Picture 10" descr="png-0644"/>
          <p:cNvPicPr/>
          <p:nvPr/>
        </p:nvPicPr>
        <p:blipFill>
          <a:blip r:embed="rId18"/>
          <a:stretch/>
        </p:blipFill>
        <p:spPr>
          <a:xfrm>
            <a:off x="3059280" y="308916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、伏安法测电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09120" y="1447920"/>
            <a:ext cx="85345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原理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器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源、导线、开关、待测电阻、电压表、 电流表、滑动变阻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验电路图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7" name="Group 2"/>
          <p:cNvGrpSpPr/>
          <p:nvPr/>
        </p:nvGrpSpPr>
        <p:grpSpPr>
          <a:xfrm>
            <a:off x="3657600" y="3581280"/>
            <a:ext cx="3295440" cy="2484720"/>
            <a:chOff x="3657600" y="3581280"/>
            <a:chExt cx="3295440" cy="2484720"/>
          </a:xfrm>
        </p:grpSpPr>
        <p:sp>
          <p:nvSpPr>
            <p:cNvPr id="548" name="Rectangle 3"/>
            <p:cNvSpPr/>
            <p:nvPr/>
          </p:nvSpPr>
          <p:spPr>
            <a:xfrm>
              <a:off x="3923640" y="3811320"/>
              <a:ext cx="2791800" cy="122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9" name="Group 4"/>
            <p:cNvGrpSpPr/>
            <p:nvPr/>
          </p:nvGrpSpPr>
          <p:grpSpPr>
            <a:xfrm>
              <a:off x="4853160" y="3581280"/>
              <a:ext cx="132840" cy="457200"/>
              <a:chOff x="4853160" y="3581280"/>
              <a:chExt cx="132840" cy="457200"/>
            </a:xfrm>
          </p:grpSpPr>
          <p:sp>
            <p:nvSpPr>
              <p:cNvPr id="550" name="Rectangle 19"/>
              <p:cNvSpPr/>
              <p:nvPr/>
            </p:nvSpPr>
            <p:spPr>
              <a:xfrm>
                <a:off x="4853160" y="3732840"/>
                <a:ext cx="13284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1" name="Line 20"/>
              <p:cNvSpPr/>
              <p:nvPr/>
            </p:nvSpPr>
            <p:spPr>
              <a:xfrm>
                <a:off x="4853160" y="3581280"/>
                <a:ext cx="0" cy="457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2" name="Line 21"/>
              <p:cNvSpPr/>
              <p:nvPr/>
            </p:nvSpPr>
            <p:spPr>
              <a:xfrm>
                <a:off x="4986000" y="3695400"/>
                <a:ext cx="0" cy="2282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5873400" y="3695400"/>
              <a:ext cx="442440" cy="229680"/>
              <a:chOff x="5873400" y="3695400"/>
              <a:chExt cx="442440" cy="229680"/>
            </a:xfrm>
          </p:grpSpPr>
          <p:sp>
            <p:nvSpPr>
              <p:cNvPr id="554" name="Rectangle 15"/>
              <p:cNvSpPr/>
              <p:nvPr/>
            </p:nvSpPr>
            <p:spPr>
              <a:xfrm>
                <a:off x="5923440" y="3695400"/>
                <a:ext cx="390600" cy="22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5" name="Line 16"/>
              <p:cNvSpPr/>
              <p:nvPr/>
            </p:nvSpPr>
            <p:spPr>
              <a:xfrm flipV="1">
                <a:off x="5923440" y="3695400"/>
                <a:ext cx="392400" cy="138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6" name="Oval 17"/>
              <p:cNvSpPr/>
              <p:nvPr/>
            </p:nvSpPr>
            <p:spPr>
              <a:xfrm>
                <a:off x="5873400" y="3787560"/>
                <a:ext cx="98280" cy="90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57" name="Rectangle 178"/>
            <p:cNvSpPr/>
            <p:nvPr/>
          </p:nvSpPr>
          <p:spPr>
            <a:xfrm>
              <a:off x="4469040" y="4959360"/>
              <a:ext cx="616320" cy="162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58" name="Group 13"/>
            <p:cNvGrpSpPr/>
            <p:nvPr/>
          </p:nvGrpSpPr>
          <p:grpSpPr>
            <a:xfrm>
              <a:off x="5949720" y="4676400"/>
              <a:ext cx="1003320" cy="446040"/>
              <a:chOff x="5949720" y="4676400"/>
              <a:chExt cx="1003320" cy="446040"/>
            </a:xfrm>
          </p:grpSpPr>
          <p:sp>
            <p:nvSpPr>
              <p:cNvPr id="559" name="Rectangle 181"/>
              <p:cNvSpPr/>
              <p:nvPr/>
            </p:nvSpPr>
            <p:spPr>
              <a:xfrm>
                <a:off x="5949720" y="4676400"/>
                <a:ext cx="1003320" cy="44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0" name="Line 182"/>
              <p:cNvSpPr/>
              <p:nvPr/>
            </p:nvSpPr>
            <p:spPr>
              <a:xfrm>
                <a:off x="6263280" y="4676400"/>
                <a:ext cx="438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1" name="Line 183"/>
              <p:cNvSpPr/>
              <p:nvPr/>
            </p:nvSpPr>
            <p:spPr>
              <a:xfrm>
                <a:off x="6263280" y="4676400"/>
                <a:ext cx="0" cy="2786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2" name="Rectangle 184"/>
              <p:cNvSpPr/>
              <p:nvPr/>
            </p:nvSpPr>
            <p:spPr>
              <a:xfrm>
                <a:off x="5949720" y="4955040"/>
                <a:ext cx="626040" cy="16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8"/>
            <p:cNvGrpSpPr/>
            <p:nvPr/>
          </p:nvGrpSpPr>
          <p:grpSpPr>
            <a:xfrm>
              <a:off x="3657600" y="4027320"/>
              <a:ext cx="477720" cy="520560"/>
              <a:chOff x="3657600" y="4027320"/>
              <a:chExt cx="477720" cy="520560"/>
            </a:xfrm>
          </p:grpSpPr>
          <p:sp>
            <p:nvSpPr>
              <p:cNvPr id="564" name="Oval 197"/>
              <p:cNvSpPr/>
              <p:nvPr/>
            </p:nvSpPr>
            <p:spPr>
              <a:xfrm>
                <a:off x="3657600" y="4108320"/>
                <a:ext cx="477720" cy="404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5" name="Text Box 198"/>
              <p:cNvSpPr/>
              <p:nvPr/>
            </p:nvSpPr>
            <p:spPr>
              <a:xfrm>
                <a:off x="3657600" y="4027320"/>
                <a:ext cx="43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21"/>
            <p:cNvGrpSpPr/>
            <p:nvPr/>
          </p:nvGrpSpPr>
          <p:grpSpPr>
            <a:xfrm>
              <a:off x="3923640" y="4993560"/>
              <a:ext cx="1640160" cy="768960"/>
              <a:chOff x="3923640" y="4993560"/>
              <a:chExt cx="1640160" cy="768960"/>
            </a:xfrm>
          </p:grpSpPr>
          <p:sp>
            <p:nvSpPr>
              <p:cNvPr id="567" name="Line 7"/>
              <p:cNvSpPr/>
              <p:nvPr/>
            </p:nvSpPr>
            <p:spPr>
              <a:xfrm>
                <a:off x="3923640" y="5762520"/>
                <a:ext cx="1640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8" name="Line 8"/>
              <p:cNvSpPr/>
              <p:nvPr/>
            </p:nvSpPr>
            <p:spPr>
              <a:xfrm flipV="1">
                <a:off x="3923640" y="4993560"/>
                <a:ext cx="0" cy="768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9" name="Line 9"/>
              <p:cNvSpPr/>
              <p:nvPr/>
            </p:nvSpPr>
            <p:spPr>
              <a:xfrm flipV="1">
                <a:off x="5563800" y="4993560"/>
                <a:ext cx="0" cy="76896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5"/>
            <p:cNvGrpSpPr/>
            <p:nvPr/>
          </p:nvGrpSpPr>
          <p:grpSpPr>
            <a:xfrm>
              <a:off x="4516200" y="5545440"/>
              <a:ext cx="477720" cy="520560"/>
              <a:chOff x="4516200" y="5545440"/>
              <a:chExt cx="477720" cy="520560"/>
            </a:xfrm>
          </p:grpSpPr>
          <p:sp>
            <p:nvSpPr>
              <p:cNvPr id="571" name="Oval 190"/>
              <p:cNvSpPr/>
              <p:nvPr/>
            </p:nvSpPr>
            <p:spPr>
              <a:xfrm>
                <a:off x="4516200" y="5568120"/>
                <a:ext cx="477720" cy="404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72" name="Text Box 191"/>
              <p:cNvSpPr/>
              <p:nvPr/>
            </p:nvSpPr>
            <p:spPr>
              <a:xfrm>
                <a:off x="4516200" y="5545440"/>
                <a:ext cx="43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73" name="Text Box 4"/>
            <p:cNvSpPr/>
            <p:nvPr/>
          </p:nvSpPr>
          <p:spPr>
            <a:xfrm>
              <a:off x="4516200" y="455472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4" name="Text Box 4"/>
            <p:cNvSpPr/>
            <p:nvPr/>
          </p:nvSpPr>
          <p:spPr>
            <a:xfrm>
              <a:off x="6008400" y="5227920"/>
              <a:ext cx="850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'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5" name="Text Box 116"/>
            <p:cNvSpPr/>
            <p:nvPr/>
          </p:nvSpPr>
          <p:spPr>
            <a:xfrm>
              <a:off x="5949720" y="3865680"/>
              <a:ext cx="38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76" name="Group 29"/>
          <p:cNvGrpSpPr/>
          <p:nvPr/>
        </p:nvGrpSpPr>
        <p:grpSpPr>
          <a:xfrm>
            <a:off x="2666880" y="1371600"/>
            <a:ext cx="1431720" cy="1068840"/>
            <a:chOff x="2666880" y="1371600"/>
            <a:chExt cx="1431720" cy="1068840"/>
          </a:xfrm>
        </p:grpSpPr>
        <p:sp>
          <p:nvSpPr>
            <p:cNvPr id="577" name="Rectangle 30"/>
            <p:cNvSpPr/>
            <p:nvPr/>
          </p:nvSpPr>
          <p:spPr>
            <a:xfrm>
              <a:off x="2666880" y="1663560"/>
              <a:ext cx="109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8" name="Rectangle 31"/>
            <p:cNvSpPr/>
            <p:nvPr/>
          </p:nvSpPr>
          <p:spPr>
            <a:xfrm>
              <a:off x="3335040" y="1371600"/>
              <a:ext cx="763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9" name="Line 32"/>
            <p:cNvSpPr/>
            <p:nvPr/>
          </p:nvSpPr>
          <p:spPr>
            <a:xfrm>
              <a:off x="3335040" y="1882800"/>
              <a:ext cx="440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914400" y="3352680"/>
            <a:ext cx="2970000" cy="2592360"/>
            <a:chOff x="914400" y="3352680"/>
            <a:chExt cx="2970000" cy="2592360"/>
          </a:xfrm>
        </p:grpSpPr>
        <p:sp>
          <p:nvSpPr>
            <p:cNvPr id="581" name="Rectangle 3"/>
            <p:cNvSpPr/>
            <p:nvPr/>
          </p:nvSpPr>
          <p:spPr>
            <a:xfrm>
              <a:off x="1154160" y="3595320"/>
              <a:ext cx="2516040" cy="1293840"/>
            </a:xfrm>
            <a:prstGeom prst="rect">
              <a:avLst/>
            </a:prstGeom>
            <a:noFill/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82" name="Group 4"/>
            <p:cNvGrpSpPr/>
            <p:nvPr/>
          </p:nvGrpSpPr>
          <p:grpSpPr>
            <a:xfrm>
              <a:off x="1991880" y="3352680"/>
              <a:ext cx="119520" cy="484200"/>
              <a:chOff x="1991880" y="3352680"/>
              <a:chExt cx="119520" cy="484200"/>
            </a:xfrm>
          </p:grpSpPr>
          <p:sp>
            <p:nvSpPr>
              <p:cNvPr id="583" name="Rectangle 19"/>
              <p:cNvSpPr/>
              <p:nvPr/>
            </p:nvSpPr>
            <p:spPr>
              <a:xfrm>
                <a:off x="1991880" y="3513240"/>
                <a:ext cx="11952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4" name="Line 20"/>
              <p:cNvSpPr/>
              <p:nvPr/>
            </p:nvSpPr>
            <p:spPr>
              <a:xfrm>
                <a:off x="1991880" y="3352680"/>
                <a:ext cx="0" cy="48420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5" name="Line 21"/>
              <p:cNvSpPr/>
              <p:nvPr/>
            </p:nvSpPr>
            <p:spPr>
              <a:xfrm>
                <a:off x="2111400" y="3473640"/>
                <a:ext cx="0" cy="241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8"/>
            <p:cNvGrpSpPr/>
            <p:nvPr/>
          </p:nvGrpSpPr>
          <p:grpSpPr>
            <a:xfrm>
              <a:off x="2911680" y="3473280"/>
              <a:ext cx="398880" cy="242280"/>
              <a:chOff x="2911680" y="3473280"/>
              <a:chExt cx="398880" cy="242280"/>
            </a:xfrm>
          </p:grpSpPr>
          <p:sp>
            <p:nvSpPr>
              <p:cNvPr id="587" name="Rectangle 15"/>
              <p:cNvSpPr/>
              <p:nvPr/>
            </p:nvSpPr>
            <p:spPr>
              <a:xfrm>
                <a:off x="2956680" y="3473280"/>
                <a:ext cx="352080" cy="24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8" name="Line 16"/>
              <p:cNvSpPr/>
              <p:nvPr/>
            </p:nvSpPr>
            <p:spPr>
              <a:xfrm flipV="1">
                <a:off x="2956680" y="3473280"/>
                <a:ext cx="353880" cy="1468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9" name="Oval 17"/>
              <p:cNvSpPr/>
              <p:nvPr/>
            </p:nvSpPr>
            <p:spPr>
              <a:xfrm>
                <a:off x="2911680" y="3570480"/>
                <a:ext cx="88560" cy="95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90" name="Rectangle 178"/>
            <p:cNvSpPr/>
            <p:nvPr/>
          </p:nvSpPr>
          <p:spPr>
            <a:xfrm>
              <a:off x="1645560" y="4806360"/>
              <a:ext cx="555480" cy="171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91" name="Group 13"/>
            <p:cNvGrpSpPr/>
            <p:nvPr/>
          </p:nvGrpSpPr>
          <p:grpSpPr>
            <a:xfrm>
              <a:off x="2980080" y="4507920"/>
              <a:ext cx="904320" cy="470520"/>
              <a:chOff x="2980080" y="4507920"/>
              <a:chExt cx="904320" cy="470520"/>
            </a:xfrm>
          </p:grpSpPr>
          <p:sp>
            <p:nvSpPr>
              <p:cNvPr id="592" name="Rectangle 181"/>
              <p:cNvSpPr/>
              <p:nvPr/>
            </p:nvSpPr>
            <p:spPr>
              <a:xfrm>
                <a:off x="2980080" y="4507920"/>
                <a:ext cx="904320" cy="47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3" name="Line 182"/>
              <p:cNvSpPr/>
              <p:nvPr/>
            </p:nvSpPr>
            <p:spPr>
              <a:xfrm>
                <a:off x="3262680" y="4507920"/>
                <a:ext cx="3949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4" name="Line 183"/>
              <p:cNvSpPr/>
              <p:nvPr/>
            </p:nvSpPr>
            <p:spPr>
              <a:xfrm>
                <a:off x="3262680" y="4507920"/>
                <a:ext cx="0" cy="2941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5" name="Rectangle 184"/>
              <p:cNvSpPr/>
              <p:nvPr/>
            </p:nvSpPr>
            <p:spPr>
              <a:xfrm>
                <a:off x="2980080" y="4802040"/>
                <a:ext cx="564480" cy="17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8"/>
            <p:cNvGrpSpPr/>
            <p:nvPr/>
          </p:nvGrpSpPr>
          <p:grpSpPr>
            <a:xfrm>
              <a:off x="914400" y="3823200"/>
              <a:ext cx="430920" cy="520560"/>
              <a:chOff x="914400" y="3823200"/>
              <a:chExt cx="430920" cy="520560"/>
            </a:xfrm>
          </p:grpSpPr>
          <p:sp>
            <p:nvSpPr>
              <p:cNvPr id="597" name="Oval 197"/>
              <p:cNvSpPr/>
              <p:nvPr/>
            </p:nvSpPr>
            <p:spPr>
              <a:xfrm>
                <a:off x="914400" y="3908880"/>
                <a:ext cx="430920" cy="426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8" name="Text Box 198"/>
              <p:cNvSpPr/>
              <p:nvPr/>
            </p:nvSpPr>
            <p:spPr>
              <a:xfrm>
                <a:off x="914400" y="3823200"/>
                <a:ext cx="39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21"/>
            <p:cNvGrpSpPr/>
            <p:nvPr/>
          </p:nvGrpSpPr>
          <p:grpSpPr>
            <a:xfrm>
              <a:off x="1154160" y="4887360"/>
              <a:ext cx="1478160" cy="765720"/>
              <a:chOff x="1154160" y="4887360"/>
              <a:chExt cx="1478160" cy="765720"/>
            </a:xfrm>
          </p:grpSpPr>
          <p:sp>
            <p:nvSpPr>
              <p:cNvPr id="600" name="Line 7"/>
              <p:cNvSpPr/>
              <p:nvPr/>
            </p:nvSpPr>
            <p:spPr>
              <a:xfrm>
                <a:off x="1154160" y="5653080"/>
                <a:ext cx="147816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1" name="Line 8"/>
              <p:cNvSpPr/>
              <p:nvPr/>
            </p:nvSpPr>
            <p:spPr>
              <a:xfrm flipV="1">
                <a:off x="1154160" y="4887360"/>
                <a:ext cx="0" cy="7657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2" name="Line 9"/>
              <p:cNvSpPr/>
              <p:nvPr/>
            </p:nvSpPr>
            <p:spPr>
              <a:xfrm flipV="1">
                <a:off x="2632320" y="4887360"/>
                <a:ext cx="0" cy="76572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25"/>
            <p:cNvGrpSpPr/>
            <p:nvPr/>
          </p:nvGrpSpPr>
          <p:grpSpPr>
            <a:xfrm>
              <a:off x="1688400" y="5424480"/>
              <a:ext cx="430920" cy="520560"/>
              <a:chOff x="1688400" y="5424480"/>
              <a:chExt cx="430920" cy="520560"/>
            </a:xfrm>
          </p:grpSpPr>
          <p:sp>
            <p:nvSpPr>
              <p:cNvPr id="604" name="Oval 190"/>
              <p:cNvSpPr/>
              <p:nvPr/>
            </p:nvSpPr>
            <p:spPr>
              <a:xfrm>
                <a:off x="1688400" y="5448600"/>
                <a:ext cx="430920" cy="426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5" name="Text Box 191"/>
              <p:cNvSpPr/>
              <p:nvPr/>
            </p:nvSpPr>
            <p:spPr>
              <a:xfrm>
                <a:off x="1688400" y="5424480"/>
                <a:ext cx="39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06" name="Text Box 4"/>
            <p:cNvSpPr/>
            <p:nvPr/>
          </p:nvSpPr>
          <p:spPr>
            <a:xfrm>
              <a:off x="1688400" y="4379400"/>
              <a:ext cx="51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Text Box 4"/>
            <p:cNvSpPr/>
            <p:nvPr/>
          </p:nvSpPr>
          <p:spPr>
            <a:xfrm>
              <a:off x="3033000" y="5089680"/>
              <a:ext cx="76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7a77"/>
                  </a:solidFill>
                  <a:latin typeface="Times New Roman"/>
                </a:rPr>
                <a:t>R'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Text Box 116"/>
            <p:cNvSpPr/>
            <p:nvPr/>
          </p:nvSpPr>
          <p:spPr>
            <a:xfrm>
              <a:off x="2980080" y="3652920"/>
              <a:ext cx="34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9" name="Group 31"/>
          <p:cNvGrpSpPr/>
          <p:nvPr/>
        </p:nvGrpSpPr>
        <p:grpSpPr>
          <a:xfrm>
            <a:off x="4282920" y="2276640"/>
            <a:ext cx="4811760" cy="4201560"/>
            <a:chOff x="4282920" y="2276640"/>
            <a:chExt cx="4811760" cy="4201560"/>
          </a:xfrm>
        </p:grpSpPr>
        <p:pic>
          <p:nvPicPr>
            <p:cNvPr id="610" name="Picture 12" descr="H:\2\人教教参资源\九\图\电阻3.jpg"/>
            <p:cNvPicPr/>
            <p:nvPr/>
          </p:nvPicPr>
          <p:blipFill>
            <a:blip r:embed="rId1"/>
            <a:stretch/>
          </p:blipFill>
          <p:spPr>
            <a:xfrm>
              <a:off x="5867280" y="4329000"/>
              <a:ext cx="1084320" cy="44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33"/>
            <p:cNvGrpSpPr/>
            <p:nvPr/>
          </p:nvGrpSpPr>
          <p:grpSpPr>
            <a:xfrm>
              <a:off x="4282920" y="2276640"/>
              <a:ext cx="4811760" cy="4201560"/>
              <a:chOff x="4282920" y="2276640"/>
              <a:chExt cx="4811760" cy="4201560"/>
            </a:xfrm>
          </p:grpSpPr>
          <p:pic>
            <p:nvPicPr>
              <p:cNvPr id="612" name="Picture 34" descr="无标题"/>
              <p:cNvPicPr/>
              <p:nvPr/>
            </p:nvPicPr>
            <p:blipFill>
              <a:blip r:embed="rId2"/>
              <a:stretch/>
            </p:blipFill>
            <p:spPr>
              <a:xfrm>
                <a:off x="7251480" y="4187520"/>
                <a:ext cx="1843200" cy="88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3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7265880" y="2566800"/>
                <a:ext cx="1143000" cy="72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Picture 6" descr="H:\2\人教教参资源\九\图\电流表.JPG"/>
              <p:cNvPicPr/>
              <p:nvPr/>
            </p:nvPicPr>
            <p:blipFill>
              <a:blip r:embed="rId4"/>
              <a:stretch/>
            </p:blipFill>
            <p:spPr>
              <a:xfrm>
                <a:off x="4282920" y="3736800"/>
                <a:ext cx="1063800" cy="125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7" descr="H:\2\人教教参资源\九\图\电压表.JPG"/>
              <p:cNvPicPr/>
              <p:nvPr/>
            </p:nvPicPr>
            <p:blipFill>
              <a:blip r:embed="rId5"/>
              <a:stretch/>
            </p:blipFill>
            <p:spPr>
              <a:xfrm>
                <a:off x="5719680" y="5176800"/>
                <a:ext cx="1280880" cy="130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14" descr="H:\2\人教教参资源\九\图\蓄电池.jpg"/>
              <p:cNvPicPr/>
              <p:nvPr/>
            </p:nvPicPr>
            <p:blipFill>
              <a:blip r:embed="rId6"/>
              <a:stretch/>
            </p:blipFill>
            <p:spPr>
              <a:xfrm>
                <a:off x="5441760" y="2276640"/>
                <a:ext cx="1562040" cy="146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17" name="未知"/>
          <p:cNvSpPr/>
          <p:nvPr/>
        </p:nvSpPr>
        <p:spPr>
          <a:xfrm>
            <a:off x="6470640" y="2529000"/>
            <a:ext cx="1085760" cy="730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730080"/>
              <a:gd name="textAreaBottom" fmla="*/ 730080 h 730080"/>
            </a:gdLst>
            <a:ahLst/>
            <a:rect l="textAreaLeft" t="textAreaTop" r="textAreaRight" b="textAreaBottom"/>
            <a:pathLst>
              <a:path w="684" h="460">
                <a:moveTo>
                  <a:pt x="0" y="52"/>
                </a:moveTo>
                <a:cubicBezTo>
                  <a:pt x="39" y="49"/>
                  <a:pt x="173" y="0"/>
                  <a:pt x="240" y="34"/>
                </a:cubicBezTo>
                <a:cubicBezTo>
                  <a:pt x="308" y="68"/>
                  <a:pt x="345" y="184"/>
                  <a:pt x="404" y="253"/>
                </a:cubicBezTo>
                <a:cubicBezTo>
                  <a:pt x="463" y="321"/>
                  <a:pt x="548" y="430"/>
                  <a:pt x="595" y="445"/>
                </a:cubicBezTo>
                <a:cubicBezTo>
                  <a:pt x="642" y="460"/>
                  <a:pt x="666" y="366"/>
                  <a:pt x="684" y="34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未知"/>
          <p:cNvSpPr/>
          <p:nvPr/>
        </p:nvSpPr>
        <p:spPr>
          <a:xfrm>
            <a:off x="8209080" y="3067200"/>
            <a:ext cx="839520" cy="1365120"/>
          </a:xfrm>
          <a:custGeom>
            <a:avLst/>
            <a:gdLst>
              <a:gd name="textAreaLeft" fmla="*/ 0 w 839520"/>
              <a:gd name="textAreaRight" fmla="*/ 839880 w 839520"/>
              <a:gd name="textAreaTop" fmla="*/ 0 h 1365120"/>
              <a:gd name="textAreaBottom" fmla="*/ 1365120 h 1365120"/>
            </a:gdLst>
            <a:ahLst/>
            <a:rect l="textAreaLeft" t="textAreaTop" r="textAreaRight" b="textAreaBottom"/>
            <a:pathLst>
              <a:path w="529" h="860">
                <a:moveTo>
                  <a:pt x="0" y="26"/>
                </a:moveTo>
                <a:cubicBezTo>
                  <a:pt x="42" y="33"/>
                  <a:pt x="162" y="0"/>
                  <a:pt x="243" y="71"/>
                </a:cubicBezTo>
                <a:cubicBezTo>
                  <a:pt x="324" y="142"/>
                  <a:pt x="445" y="323"/>
                  <a:pt x="487" y="454"/>
                </a:cubicBezTo>
                <a:cubicBezTo>
                  <a:pt x="529" y="585"/>
                  <a:pt x="494" y="776"/>
                  <a:pt x="496" y="86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未知"/>
          <p:cNvSpPr/>
          <p:nvPr/>
        </p:nvSpPr>
        <p:spPr>
          <a:xfrm>
            <a:off x="6810480" y="4591080"/>
            <a:ext cx="941400" cy="639720"/>
          </a:xfrm>
          <a:custGeom>
            <a:avLst/>
            <a:gdLst>
              <a:gd name="textAreaLeft" fmla="*/ 0 w 941400"/>
              <a:gd name="textAreaRight" fmla="*/ 941760 w 9414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593" h="403">
                <a:moveTo>
                  <a:pt x="0" y="0"/>
                </a:moveTo>
                <a:cubicBezTo>
                  <a:pt x="33" y="45"/>
                  <a:pt x="144" y="205"/>
                  <a:pt x="200" y="264"/>
                </a:cubicBezTo>
                <a:cubicBezTo>
                  <a:pt x="256" y="323"/>
                  <a:pt x="275" y="339"/>
                  <a:pt x="334" y="354"/>
                </a:cubicBezTo>
                <a:cubicBezTo>
                  <a:pt x="394" y="368"/>
                  <a:pt x="524" y="403"/>
                  <a:pt x="558" y="354"/>
                </a:cubicBezTo>
                <a:cubicBezTo>
                  <a:pt x="593" y="305"/>
                  <a:pt x="548" y="120"/>
                  <a:pt x="545" y="5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未知"/>
          <p:cNvSpPr/>
          <p:nvPr/>
        </p:nvSpPr>
        <p:spPr>
          <a:xfrm>
            <a:off x="6610320" y="4552920"/>
            <a:ext cx="563760" cy="1603440"/>
          </a:xfrm>
          <a:custGeom>
            <a:avLst/>
            <a:gdLst>
              <a:gd name="textAreaLeft" fmla="*/ 0 w 563760"/>
              <a:gd name="textAreaRight" fmla="*/ 564120 w 56376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5" h="1010">
                <a:moveTo>
                  <a:pt x="0" y="1010"/>
                </a:moveTo>
                <a:cubicBezTo>
                  <a:pt x="35" y="1004"/>
                  <a:pt x="160" y="1006"/>
                  <a:pt x="213" y="967"/>
                </a:cubicBezTo>
                <a:cubicBezTo>
                  <a:pt x="266" y="928"/>
                  <a:pt x="297" y="869"/>
                  <a:pt x="315" y="777"/>
                </a:cubicBezTo>
                <a:cubicBezTo>
                  <a:pt x="334" y="684"/>
                  <a:pt x="355" y="542"/>
                  <a:pt x="322" y="412"/>
                </a:cubicBezTo>
                <a:cubicBezTo>
                  <a:pt x="289" y="283"/>
                  <a:pt x="160" y="86"/>
                  <a:pt x="118" y="0"/>
                </a:cubicBezTo>
              </a:path>
            </a:pathLst>
          </a:custGeom>
          <a:noFill/>
          <a:ln w="572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未知"/>
          <p:cNvSpPr/>
          <p:nvPr/>
        </p:nvSpPr>
        <p:spPr>
          <a:xfrm>
            <a:off x="5661000" y="4599000"/>
            <a:ext cx="434880" cy="1631880"/>
          </a:xfrm>
          <a:custGeom>
            <a:avLst/>
            <a:gdLst>
              <a:gd name="textAreaLeft" fmla="*/ 0 w 434880"/>
              <a:gd name="textAreaRight" fmla="*/ 435240 w 4348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274" h="1028">
                <a:moveTo>
                  <a:pt x="198" y="0"/>
                </a:moveTo>
                <a:cubicBezTo>
                  <a:pt x="175" y="84"/>
                  <a:pt x="90" y="376"/>
                  <a:pt x="58" y="504"/>
                </a:cubicBezTo>
                <a:cubicBezTo>
                  <a:pt x="26" y="632"/>
                  <a:pt x="0" y="688"/>
                  <a:pt x="4" y="770"/>
                </a:cubicBezTo>
                <a:cubicBezTo>
                  <a:pt x="8" y="852"/>
                  <a:pt x="35" y="960"/>
                  <a:pt x="80" y="994"/>
                </a:cubicBezTo>
                <a:cubicBezTo>
                  <a:pt x="125" y="1028"/>
                  <a:pt x="234" y="978"/>
                  <a:pt x="274" y="974"/>
                </a:cubicBezTo>
              </a:path>
            </a:pathLst>
          </a:custGeom>
          <a:noFill/>
          <a:ln w="5724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未知"/>
          <p:cNvSpPr/>
          <p:nvPr/>
        </p:nvSpPr>
        <p:spPr>
          <a:xfrm>
            <a:off x="4851360" y="4579920"/>
            <a:ext cx="1139760" cy="41112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718" h="259">
                <a:moveTo>
                  <a:pt x="0" y="76"/>
                </a:moveTo>
                <a:cubicBezTo>
                  <a:pt x="19" y="102"/>
                  <a:pt x="58" y="201"/>
                  <a:pt x="109" y="229"/>
                </a:cubicBezTo>
                <a:cubicBezTo>
                  <a:pt x="160" y="257"/>
                  <a:pt x="247" y="259"/>
                  <a:pt x="307" y="245"/>
                </a:cubicBezTo>
                <a:cubicBezTo>
                  <a:pt x="367" y="232"/>
                  <a:pt x="399" y="187"/>
                  <a:pt x="467" y="146"/>
                </a:cubicBezTo>
                <a:cubicBezTo>
                  <a:pt x="535" y="105"/>
                  <a:pt x="666" y="30"/>
                  <a:pt x="71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4175280" y="2617920"/>
            <a:ext cx="1577880" cy="213192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2131920"/>
              <a:gd name="textAreaBottom" fmla="*/ 2132280 h 2131920"/>
            </a:gdLst>
            <a:ahLst/>
            <a:rect l="textAreaLeft" t="textAreaTop" r="textAreaRight" b="textAreaBottom"/>
            <a:pathLst>
              <a:path w="1030" h="1394">
                <a:moveTo>
                  <a:pt x="1030" y="33"/>
                </a:moveTo>
                <a:cubicBezTo>
                  <a:pt x="1007" y="34"/>
                  <a:pt x="991" y="0"/>
                  <a:pt x="891" y="39"/>
                </a:cubicBezTo>
                <a:cubicBezTo>
                  <a:pt x="791" y="78"/>
                  <a:pt x="567" y="156"/>
                  <a:pt x="428" y="265"/>
                </a:cubicBezTo>
                <a:cubicBezTo>
                  <a:pt x="289" y="374"/>
                  <a:pt x="114" y="525"/>
                  <a:pt x="57" y="695"/>
                </a:cubicBezTo>
                <a:cubicBezTo>
                  <a:pt x="0" y="865"/>
                  <a:pt x="46" y="1170"/>
                  <a:pt x="85" y="1282"/>
                </a:cubicBezTo>
                <a:cubicBezTo>
                  <a:pt x="124" y="1394"/>
                  <a:pt x="247" y="1347"/>
                  <a:pt x="289" y="136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1219320" y="2209680"/>
            <a:ext cx="150156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图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TextBox 7"/>
          <p:cNvSpPr/>
          <p:nvPr/>
        </p:nvSpPr>
        <p:spPr>
          <a:xfrm>
            <a:off x="3809880" y="2133720"/>
            <a:ext cx="1501920" cy="57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图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228600" y="609480"/>
            <a:ext cx="58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实验电路图和实物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228600" y="2819520"/>
            <a:ext cx="7010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断开开关，按电路图连接实物电路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304920" y="3338640"/>
            <a:ext cx="8119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闭合开关，调节滑动变阻器的滑片，使电压表的示数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读取并记录对应的电流填入表格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04920" y="4648320"/>
            <a:ext cx="83055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计算每一次的电阻值，并求出它们的平均值记入表格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2660040" y="5562720"/>
            <a:ext cx="8056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实验结束，整理好实验器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304920" y="2057400"/>
            <a:ext cx="2057400" cy="58140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步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1447920" y="1295280"/>
            <a:ext cx="5638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实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：测量定值电阻的阻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5"/>
          <p:cNvSpPr/>
          <p:nvPr/>
        </p:nvSpPr>
        <p:spPr>
          <a:xfrm>
            <a:off x="457200" y="1752480"/>
            <a:ext cx="3352680" cy="58140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数据记录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33520" y="2666880"/>
          <a:ext cx="7993080" cy="3346560"/>
        </p:xfrm>
        <a:graphic>
          <a:graphicData uri="http://schemas.openxmlformats.org/drawingml/2006/table">
            <a:tbl>
              <a:tblPr/>
              <a:tblGrid>
                <a:gridCol w="1655640"/>
                <a:gridCol w="1468440"/>
                <a:gridCol w="1523880"/>
                <a:gridCol w="1524240"/>
                <a:gridCol w="1820880"/>
              </a:tblGrid>
              <a:tr h="87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电压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U/V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电流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I/A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电阻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</a:t>
                      </a:r>
                      <a:r>
                        <a:rPr b="1" lang="el-G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电阻平均值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</a:t>
                      </a:r>
                      <a:r>
                        <a:rPr b="1" lang="el-G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5" descr=""/>
          <p:cNvPicPr/>
          <p:nvPr/>
        </p:nvPicPr>
        <p:blipFill>
          <a:blip r:embed="rId1"/>
          <a:stretch/>
        </p:blipFill>
        <p:spPr>
          <a:xfrm>
            <a:off x="0" y="30481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电流表01-"/>
          <p:cNvPicPr/>
          <p:nvPr/>
        </p:nvPicPr>
        <p:blipFill>
          <a:blip r:embed="rId2"/>
          <a:stretch/>
        </p:blipFill>
        <p:spPr>
          <a:xfrm>
            <a:off x="3200400" y="1828800"/>
            <a:ext cx="1324080" cy="1619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电池盒4"/>
          <p:cNvPicPr/>
          <p:nvPr/>
        </p:nvPicPr>
        <p:blipFill>
          <a:blip r:embed="rId3"/>
          <a:stretch/>
        </p:blipFill>
        <p:spPr>
          <a:xfrm>
            <a:off x="4648320" y="1066680"/>
            <a:ext cx="1828800" cy="596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滑动变阻器-03"/>
          <p:cNvPicPr/>
          <p:nvPr/>
        </p:nvPicPr>
        <p:blipFill>
          <a:blip r:embed="rId4"/>
          <a:stretch/>
        </p:blipFill>
        <p:spPr>
          <a:xfrm>
            <a:off x="6781680" y="3429000"/>
            <a:ext cx="2057400" cy="11746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开关02"/>
          <p:cNvPicPr/>
          <p:nvPr/>
        </p:nvPicPr>
        <p:blipFill>
          <a:blip r:embed="rId5"/>
          <a:stretch/>
        </p:blipFill>
        <p:spPr>
          <a:xfrm>
            <a:off x="7086600" y="1295280"/>
            <a:ext cx="1676520" cy="1101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6" descr=""/>
          <p:cNvPicPr/>
          <p:nvPr/>
        </p:nvPicPr>
        <p:blipFill>
          <a:blip r:embed="rId6"/>
          <a:stretch/>
        </p:blipFill>
        <p:spPr>
          <a:xfrm>
            <a:off x="4419720" y="4038480"/>
            <a:ext cx="1952640" cy="949320"/>
          </a:xfrm>
          <a:prstGeom prst="rect">
            <a:avLst/>
          </a:prstGeom>
          <a:ln w="0">
            <a:noFill/>
          </a:ln>
        </p:spPr>
      </p:pic>
      <p:sp>
        <p:nvSpPr>
          <p:cNvPr id="641" name="Freeform 17"/>
          <p:cNvSpPr/>
          <p:nvPr/>
        </p:nvSpPr>
        <p:spPr>
          <a:xfrm>
            <a:off x="6400800" y="1079640"/>
            <a:ext cx="914400" cy="901440"/>
          </a:xfrm>
          <a:custGeom>
            <a:avLst/>
            <a:gdLst/>
            <a:ahLst/>
            <a:rect l="l" t="t" r="r" b="b"/>
            <a:pathLst>
              <a:path w="576" h="568">
                <a:moveTo>
                  <a:pt x="0" y="40"/>
                </a:moveTo>
                <a:cubicBezTo>
                  <a:pt x="120" y="20"/>
                  <a:pt x="240" y="0"/>
                  <a:pt x="336" y="88"/>
                </a:cubicBezTo>
                <a:cubicBezTo>
                  <a:pt x="432" y="176"/>
                  <a:pt x="528" y="488"/>
                  <a:pt x="576" y="56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Freeform 18"/>
          <p:cNvSpPr/>
          <p:nvPr/>
        </p:nvSpPr>
        <p:spPr>
          <a:xfrm>
            <a:off x="8458200" y="2057400"/>
            <a:ext cx="393840" cy="1676520"/>
          </a:xfrm>
          <a:custGeom>
            <a:avLst/>
            <a:gdLst/>
            <a:ahLst/>
            <a:rect l="l" t="t" r="r" b="b"/>
            <a:pathLst>
              <a:path w="248" h="1056">
                <a:moveTo>
                  <a:pt x="0" y="0"/>
                </a:moveTo>
                <a:cubicBezTo>
                  <a:pt x="76" y="20"/>
                  <a:pt x="152" y="40"/>
                  <a:pt x="192" y="144"/>
                </a:cubicBezTo>
                <a:cubicBezTo>
                  <a:pt x="232" y="248"/>
                  <a:pt x="248" y="472"/>
                  <a:pt x="240" y="624"/>
                </a:cubicBezTo>
                <a:cubicBezTo>
                  <a:pt x="232" y="776"/>
                  <a:pt x="188" y="916"/>
                  <a:pt x="144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Freeform 19"/>
          <p:cNvSpPr/>
          <p:nvPr/>
        </p:nvSpPr>
        <p:spPr>
          <a:xfrm>
            <a:off x="6019920" y="4191120"/>
            <a:ext cx="1295280" cy="799920"/>
          </a:xfrm>
          <a:custGeom>
            <a:avLst/>
            <a:gdLst/>
            <a:ahLst/>
            <a:rect l="l" t="t" r="r" b="b"/>
            <a:pathLst>
              <a:path w="816" h="504">
                <a:moveTo>
                  <a:pt x="816" y="0"/>
                </a:moveTo>
                <a:cubicBezTo>
                  <a:pt x="740" y="228"/>
                  <a:pt x="664" y="456"/>
                  <a:pt x="528" y="480"/>
                </a:cubicBezTo>
                <a:cubicBezTo>
                  <a:pt x="392" y="504"/>
                  <a:pt x="196" y="324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Freeform 20"/>
          <p:cNvSpPr/>
          <p:nvPr/>
        </p:nvSpPr>
        <p:spPr>
          <a:xfrm>
            <a:off x="3809880" y="3048120"/>
            <a:ext cx="990720" cy="1447560"/>
          </a:xfrm>
          <a:custGeom>
            <a:avLst/>
            <a:gdLst/>
            <a:ahLst/>
            <a:rect l="l" t="t" r="r" b="b"/>
            <a:pathLst>
              <a:path w="624" h="912">
                <a:moveTo>
                  <a:pt x="624" y="864"/>
                </a:moveTo>
                <a:cubicBezTo>
                  <a:pt x="460" y="888"/>
                  <a:pt x="296" y="912"/>
                  <a:pt x="192" y="768"/>
                </a:cubicBezTo>
                <a:cubicBezTo>
                  <a:pt x="88" y="624"/>
                  <a:pt x="44" y="312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Freeform 21"/>
          <p:cNvSpPr/>
          <p:nvPr/>
        </p:nvSpPr>
        <p:spPr>
          <a:xfrm>
            <a:off x="2857680" y="1143000"/>
            <a:ext cx="1866600" cy="1905120"/>
          </a:xfrm>
          <a:custGeom>
            <a:avLst/>
            <a:gdLst/>
            <a:ahLst/>
            <a:rect l="l" t="t" r="r" b="b"/>
            <a:pathLst>
              <a:path w="1176" h="1200">
                <a:moveTo>
                  <a:pt x="360" y="1200"/>
                </a:moveTo>
                <a:cubicBezTo>
                  <a:pt x="280" y="1072"/>
                  <a:pt x="200" y="944"/>
                  <a:pt x="168" y="816"/>
                </a:cubicBezTo>
                <a:cubicBezTo>
                  <a:pt x="136" y="688"/>
                  <a:pt x="0" y="568"/>
                  <a:pt x="168" y="432"/>
                </a:cubicBezTo>
                <a:cubicBezTo>
                  <a:pt x="336" y="296"/>
                  <a:pt x="756" y="148"/>
                  <a:pt x="117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6" name="Picture 22" descr="电压表-02"/>
          <p:cNvPicPr/>
          <p:nvPr/>
        </p:nvPicPr>
        <p:blipFill>
          <a:blip r:embed="rId7"/>
          <a:stretch/>
        </p:blipFill>
        <p:spPr>
          <a:xfrm>
            <a:off x="4343400" y="4952880"/>
            <a:ext cx="1484280" cy="1667160"/>
          </a:xfrm>
          <a:prstGeom prst="rect">
            <a:avLst/>
          </a:prstGeom>
          <a:ln w="0">
            <a:noFill/>
          </a:ln>
        </p:spPr>
      </p:pic>
      <p:sp>
        <p:nvSpPr>
          <p:cNvPr id="647" name="Freeform 24"/>
          <p:cNvSpPr/>
          <p:nvPr/>
        </p:nvSpPr>
        <p:spPr>
          <a:xfrm>
            <a:off x="3886200" y="4419720"/>
            <a:ext cx="914400" cy="1752480"/>
          </a:xfrm>
          <a:custGeom>
            <a:avLst/>
            <a:gdLst/>
            <a:ahLst/>
            <a:rect l="l" t="t" r="r" b="b"/>
            <a:pathLst>
              <a:path w="576" h="1104">
                <a:moveTo>
                  <a:pt x="432" y="1104"/>
                </a:moveTo>
                <a:cubicBezTo>
                  <a:pt x="264" y="1084"/>
                  <a:pt x="96" y="1064"/>
                  <a:pt x="48" y="912"/>
                </a:cubicBezTo>
                <a:cubicBezTo>
                  <a:pt x="0" y="760"/>
                  <a:pt x="56" y="344"/>
                  <a:pt x="144" y="192"/>
                </a:cubicBezTo>
                <a:cubicBezTo>
                  <a:pt x="232" y="40"/>
                  <a:pt x="404" y="20"/>
                  <a:pt x="57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8" name="Text Box 25"/>
          <p:cNvSpPr/>
          <p:nvPr/>
        </p:nvSpPr>
        <p:spPr>
          <a:xfrm>
            <a:off x="0" y="1600200"/>
            <a:ext cx="2743200" cy="58140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实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868680" y="60199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测电阻大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欧左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0" name="Freeform 27"/>
          <p:cNvSpPr/>
          <p:nvPr/>
        </p:nvSpPr>
        <p:spPr>
          <a:xfrm>
            <a:off x="5257800" y="4486320"/>
            <a:ext cx="1073160" cy="1814400"/>
          </a:xfrm>
          <a:custGeom>
            <a:avLst/>
            <a:gdLst/>
            <a:ahLst/>
            <a:rect l="l" t="t" r="r" b="b"/>
            <a:pathLst>
              <a:path w="676" h="1143">
                <a:moveTo>
                  <a:pt x="477" y="0"/>
                </a:moveTo>
                <a:cubicBezTo>
                  <a:pt x="487" y="29"/>
                  <a:pt x="522" y="81"/>
                  <a:pt x="522" y="81"/>
                </a:cubicBezTo>
                <a:cubicBezTo>
                  <a:pt x="534" y="128"/>
                  <a:pt x="549" y="175"/>
                  <a:pt x="576" y="216"/>
                </a:cubicBezTo>
                <a:cubicBezTo>
                  <a:pt x="599" y="330"/>
                  <a:pt x="590" y="276"/>
                  <a:pt x="603" y="378"/>
                </a:cubicBezTo>
                <a:cubicBezTo>
                  <a:pt x="612" y="541"/>
                  <a:pt x="676" y="782"/>
                  <a:pt x="549" y="909"/>
                </a:cubicBezTo>
                <a:cubicBezTo>
                  <a:pt x="533" y="958"/>
                  <a:pt x="494" y="982"/>
                  <a:pt x="459" y="1017"/>
                </a:cubicBezTo>
                <a:cubicBezTo>
                  <a:pt x="429" y="1047"/>
                  <a:pt x="401" y="1087"/>
                  <a:pt x="360" y="1107"/>
                </a:cubicBezTo>
                <a:cubicBezTo>
                  <a:pt x="327" y="1123"/>
                  <a:pt x="286" y="1129"/>
                  <a:pt x="252" y="1143"/>
                </a:cubicBezTo>
                <a:cubicBezTo>
                  <a:pt x="201" y="1140"/>
                  <a:pt x="150" y="1141"/>
                  <a:pt x="99" y="1134"/>
                </a:cubicBezTo>
                <a:cubicBezTo>
                  <a:pt x="59" y="1128"/>
                  <a:pt x="27" y="1071"/>
                  <a:pt x="0" y="10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ShockwaveFlash1"/>
          <p:cNvGraphicFramePr/>
          <p:nvPr/>
        </p:nvGraphicFramePr>
        <p:xfrm>
          <a:off x="304920" y="1295280"/>
          <a:ext cx="8280360" cy="49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280360" cy="4929480"/>
                  </a:xfrm>
                  <a:prstGeom prst="rect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380880" y="1219320"/>
            <a:ext cx="3124440" cy="581400"/>
          </a:xfrm>
          <a:prstGeom prst="rect">
            <a:avLst/>
          </a:prstGeom>
          <a:gradFill rotWithShape="0">
            <a:gsLst>
              <a:gs pos="0">
                <a:srgbClr val="d0eaec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据记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33520" y="1905120"/>
          <a:ext cx="7993080" cy="3346200"/>
        </p:xfrm>
        <a:graphic>
          <a:graphicData uri="http://schemas.openxmlformats.org/drawingml/2006/table">
            <a:tbl>
              <a:tblPr/>
              <a:tblGrid>
                <a:gridCol w="1655640"/>
                <a:gridCol w="1468440"/>
                <a:gridCol w="1523880"/>
                <a:gridCol w="1524240"/>
                <a:gridCol w="1820880"/>
              </a:tblGrid>
              <a:tr h="87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验次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U/V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/A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平均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0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88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5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5" name="Text Box 34"/>
          <p:cNvSpPr/>
          <p:nvPr/>
        </p:nvSpPr>
        <p:spPr>
          <a:xfrm>
            <a:off x="533520" y="5486400"/>
            <a:ext cx="8076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次测量求电阻的平均值，是为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减小误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6-02-22T05:03:31Z</dcterms:modified>
  <cp:revision>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