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C6F-E152-4C20-A636-975913E3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920-1EEB-4782-8415-E711E29D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C2B-2AC8-4CF5-841A-17983547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42A-0CE0-4382-B7D4-018B1FF4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064-2532-4986-891A-991ECF26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E99-8A85-4A8B-B1D8-EA9EEAFE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CDA-9AA4-49C2-960A-348E9055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9CD-0799-46FA-AACD-4DD743F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139-B46A-4BD7-996B-9084B246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89C-75BA-4E24-9BF3-C39FD48F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97F-35DA-4B52-AE18-EE1A20D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207-23E3-4C22-80E3-3793799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8AE9-8B70-402C-913B-69C8529E69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771D-DD38-4624-AF42-6D0822DEC1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act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6T02:37:48Z</dcterms:created>
  <dc:creator>Administrator</dc:creator>
  <dc:description/>
  <dc:language>en-US</dc:language>
  <cp:lastModifiedBy>Administrator</cp:lastModifiedBy>
  <dcterms:modified xsi:type="dcterms:W3CDTF">2020-11-16T02:55:1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