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717-E5E2-45B4-B4D1-0900D8C0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433-6FB3-4463-8047-D19D1B5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2B9-5450-4B48-B796-50648373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5E3-E791-4AA9-A34A-C17347E2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7EC-76CA-4A88-926F-95DA7C0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9CC-8AD7-4BD9-B833-9C8A238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3E6-C90F-43E4-A935-A7C5F942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750-7B5C-4378-9738-9C5BDA8C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B8A-6242-4BA8-A90F-1EBB6E1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D08-C9C9-4256-8C48-99C27B0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273-D6CA-4611-87A3-CCECECF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B81-490A-4FD7-890B-122852C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762-D954-4A29-90B9-51DFAC52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dministrator\My Documents\My Pictures\铅笔\2548970_154625052371_2.jpg"/>
          <p:cNvPicPr/>
          <p:nvPr/>
        </p:nvPicPr>
        <p:blipFill>
          <a:blip r:embed="rId1"/>
          <a:srcRect l="0" t="16169" r="0" b="29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877520" y="838080"/>
            <a:ext cx="8506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铅 笔 的 智 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Administrator\My Documents\My Pictures\铅笔\2106702_173141057432_2.jpg"/>
          <p:cNvPicPr/>
          <p:nvPr/>
        </p:nvPicPr>
        <p:blipFill>
          <a:blip r:embed="rId1"/>
          <a:srcRect l="13124" t="0" r="5791" b="90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380880" y="512460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站在高处的时候也就意味着你有倒下来的危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良好的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能让立于不倒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Administrator\My Documents\My Pictures\铅笔\4075160_103700773693_2.jpg"/>
          <p:cNvPicPr/>
          <p:nvPr/>
        </p:nvPicPr>
        <p:blipFill>
          <a:blip r:embed="rId1"/>
          <a:srcRect l="3125" t="6601" r="3125" b="536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Administrator\桌面\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380880" y="139680"/>
            <a:ext cx="8382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珍惜自己，因为你的生命只有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写一个字笔芯都会有消耗而无法回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istrator\My Documents\My Pictures\铅笔\2007121831038309_2.jpg"/>
          <p:cNvPicPr/>
          <p:nvPr/>
        </p:nvPicPr>
        <p:blipFill>
          <a:blip r:embed="rId1"/>
          <a:srcRect l="16706" t="537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0" y="5638680"/>
            <a:ext cx="9144000" cy="83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来自于网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My Documents\My Pictures\铅笔\MP9004333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0" y="4876920"/>
            <a:ext cx="9144000" cy="1523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80880" y="497196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一支铅笔，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一无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不可替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存在一定具备某种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istrator\My Documents\My Pictures\铅笔\4810590_114433538905_2.jpg"/>
          <p:cNvPicPr/>
          <p:nvPr/>
        </p:nvPicPr>
        <p:blipFill>
          <a:blip r:embed="rId1"/>
          <a:srcRect l="0" t="0" r="0" b="4056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380880" y="55260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将来能做很多大事，但是有一个前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你不能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盲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，你要允许自己被一只手握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istrator\My Documents\My Pictures\铅笔\2687531_134436439565_2.jpg"/>
          <p:cNvPicPr/>
          <p:nvPr/>
        </p:nvPicPr>
        <p:blipFill>
          <a:blip r:embed="rId1"/>
          <a:srcRect l="0" t="0" r="0" b="5194"/>
          <a:stretch/>
        </p:blipFill>
        <p:spPr>
          <a:xfrm>
            <a:off x="0" y="0"/>
            <a:ext cx="915840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80880" y="510552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可能经常会感受到刀削般的疼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这些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痛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必须的，它会使你成为一支更好的铅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Administrator\My Documents\My Pictures\铅笔\MP900431118.JPG"/>
          <p:cNvPicPr/>
          <p:nvPr/>
        </p:nvPicPr>
        <p:blipFill>
          <a:blip r:embed="rId1"/>
          <a:srcRect l="9376" t="10937" r="0" b="21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80880" y="909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需要一张白纸，这样的你的工作才可能体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tor\My Documents\My Pictures\铅笔\1433336_175853504511_2.jpg"/>
          <p:cNvPicPr/>
          <p:nvPr/>
        </p:nvPicPr>
        <p:blipFill>
          <a:blip r:embed="rId1"/>
          <a:srcRect l="0" t="0" r="4950" b="4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380880" y="90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过于固执，要承认你所犯的任何错误，并且勇于改正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istrator\My Documents\My Pictures\铅笔\1433336_175849561506_2.jpg"/>
          <p:cNvPicPr/>
          <p:nvPr/>
        </p:nvPicPr>
        <p:blipFill>
          <a:blip r:embed="rId1"/>
          <a:srcRect l="0" t="0" r="0" b="6432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380880" y="51465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想清楚才开始动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你能改正，涂改的痕迹也是很难清除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tor\My Documents\My Pictures\铅笔\1433336_175928322642_2.jpg"/>
          <p:cNvPicPr/>
          <p:nvPr/>
        </p:nvPicPr>
        <p:blipFill>
          <a:blip r:embed="rId1"/>
          <a:srcRect l="14583" t="0" r="0" b="3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380880" y="533520"/>
            <a:ext cx="8077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管穿上什么外衣，你都要清楚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最重要的部分在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里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istrator\My Documents\My Pictures\铅笔\20071111945829_2.jpg"/>
          <p:cNvPicPr/>
          <p:nvPr/>
        </p:nvPicPr>
        <p:blipFill>
          <a:blip r:embed="rId1"/>
          <a:srcRect l="0" t="0" r="0" b="77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304920" y="5029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你走过的任何地方，都必须留下不可磨灭的痕迹，不管是什么状态，你必须写下去。要记住，生活永远不会毫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5T04:07:34Z</dcterms:created>
  <dc:creator>lamp</dc:creator>
  <dc:description/>
  <dc:language>en-US</dc:language>
  <cp:lastModifiedBy>Administrator</cp:lastModifiedBy>
  <dcterms:modified xsi:type="dcterms:W3CDTF">2020-01-15T05:42:14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  <property fmtid="{D5CDD505-2E9C-101B-9397-08002B2CF9AE}" pid="3" name="Version">
    <vt:r8>1</vt:r8>
  </property>
</Properties>
</file>