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4AE9-20D5-450E-9491-43B0E6BB00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slide" Target="../slides/slide10.xml"/><Relationship Id="rId1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n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yuwen/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shuxue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yingyu/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meish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kexue/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wuli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huaxue/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shengw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dili/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www.1ppt.com/kejian/lishi/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A7AF-996B-4ABD-A346-AF24E646C9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0115-B65D-4E68-80EA-C93B250A39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E45E6-9575-4718-9E80-C55A124B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0E88F-E51A-4179-9DE9-0A7E232D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D0A26-CD42-499C-9EB6-F3C33CF0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6DD6D-E2BB-44A6-8B21-7C4A3DE2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86F85-6719-4AA5-99A5-E00496BC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32AF9-494C-4447-A6D0-720BD259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B2FEB-0E6E-44D3-B3D0-34EF27CF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183CF-A5A9-4BC1-BEB4-212BCB28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12E07-64E2-4781-B2D7-21E672471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E1F9A-E1EE-46E3-B1F9-9063F156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65C35-5F15-4EE4-8993-89C5FB42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46A04-EFE5-4B6A-9492-BE10BFB3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B9BDA-0726-4944-B1B9-F2AABD8A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8D3EF-2216-4577-8B56-36EDC046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49185-93E0-48AB-97BD-1C12FE19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D97EA-935C-42BD-8197-501BB730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E128A-D10E-4160-8B6D-2DD113CF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53B2D-5C0F-441A-93D9-BDD24AEF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971C1-1F85-45C0-8472-3AD708AE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CAAA7-440F-487A-8D35-219A83BB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506A4-EB80-474A-B5E8-B32D84A4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D9754-B2EA-48C7-9B90-AA250F9F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B4266-7D44-45E9-B696-AB4ACAA9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021CD-81D4-47C7-B0B4-85F850A2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02680-56A1-423E-BDB5-BE16CB85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813F1-6C82-4B41-986B-AD7B9935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FC991-3758-421B-9CA5-F4895A60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F139E-53E9-4F42-B89D-DE4882A4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E5EC3-D021-47EC-9DC4-D8BF3763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CB2A7-3D63-4004-AC64-D137A2A1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DBF-C60D-41E5-8672-5FF32FA7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5ECBF-8554-4A39-B77E-C1290D3C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F837D-61FD-47BA-961F-E45BCF58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597E5-40FF-4DB2-9CC8-7C4EA519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DE3C6-5F67-40C1-8CDC-6C408F6A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E682F-3B6C-4F72-98B4-69CAF9F8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1657B-38CE-4D3D-B446-09C8A89A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DDDAC-68F3-4447-B5D5-6F7BFB2D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18F71-B8FF-4994-9E49-D219E5A7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0AB8B-C3A7-4A7E-B42C-3C02405A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239C5-284A-47A6-9991-A0B387F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1D7-5B9D-4CBB-ABD0-4E893B86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3A56F-03B8-472A-82F2-1456732F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9E60E-487E-40F2-8DF5-D236BDF1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5E762-9871-4480-B785-CE74CDDA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DE459-92C0-4D76-831F-91CF7E0E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289F04-C857-474A-AB7D-0452B969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9FD57-CA89-424B-A3C3-D4D4716C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A9689-D8A3-4568-B934-65D69078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0F52A-FE5B-4C14-8951-40A26AA0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95490-93A3-4D27-AED6-D0FD1284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3F457-A443-4D5C-994C-8C3F31B8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30CA-DFD0-4B98-AAB8-8EB0A110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6566D-0D24-4601-9F51-C2A8EB42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58DCE-C896-4EFA-94E7-05320930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E61F4-B633-48C6-8443-533EBCD0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9C2E4-4C0E-4ECD-A848-AC86962F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EFFF4-29B4-441B-8465-1789D2B4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36398-7A08-44D3-8862-263C9DD3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8BDBC-95D7-4084-AEA6-8437A1E1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507A5-A36A-4872-8D2B-54F21B16C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3F948-9946-4767-886F-EEFA0F10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B3D3E-BB64-43DD-ABC9-ADA4256B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4DE-3DE8-487E-AE4C-7F7E5F69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38E23-EC45-4DFE-A591-631D5FAD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4B7F2-EE16-4D99-9C0D-B326205A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BE338-16B8-4239-8BBE-523BB9A9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D5487-A8C7-46A4-8A37-319E1E3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0AB92-9FFC-4A2A-9F7C-29D92439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D5425-508E-4AF9-845E-42E5C36E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974E3-3E1B-4067-A806-84BEC020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1F85F-4653-497E-A433-D95E72BF3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D2FFB-5D5F-432A-A49C-07FF2456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720-AAAF-41AB-8F21-85535396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5E3-72B5-4FDE-B82A-0959DEEC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59C-AF89-41EF-B0D1-3EE289E2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991-134C-4D2E-9747-4CD7CABC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D69-5652-434D-9BBB-E33707CD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615-A6DC-4C82-9882-1BAE51C3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8BEE-9824-4DEC-B4CB-EE82212F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BE7-98C9-44E3-9BAB-6BD7AD8F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237A-F7CD-490F-B6E2-EC944E43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8271-1D8A-42C2-B8C2-EAE4A620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07150-5D0F-4F77-9B49-94459C2B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D176-9A0D-479B-87AF-312A654B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7922-140B-4C52-BE04-AB517CC4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0B55-B624-40BA-8EB0-9DA96FD8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435B-FAAC-4890-AC1C-226FFF0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3B45-D70F-4292-A4D6-0346636F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A41E-4E27-4357-B92F-BB117DB8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6AE0-D210-449A-8E37-BA5C80B7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06FC-C6BD-42C2-8DFD-C4F24963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7C2C-5AA3-476F-9841-D24F3E4E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B6FB-2872-41E0-AE62-0062077E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B6309-5EE4-4982-9A9E-3853295C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B098-F7CA-4426-A2F4-3A7DF46C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54FC1-8E40-4622-A702-72B6AA69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7DC2F-6CBA-4A95-911E-7BC6F6A4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5B1F-5515-44C8-8DD4-41D32ECE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6D2B-3D99-439E-AB62-650A69E2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2040-7AA6-499E-A02C-6FF7C0BE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31CA-C8C4-46CA-AA9D-6E75F62C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65B1E-7D03-4353-A35B-3082DD3E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D57DB-F1E2-47CF-8A38-5237FC73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83576-40AB-406C-B1C8-65ABEEDF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9BFD4-E1A0-44BA-BE55-222FB1AC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977EE-1109-4BBA-99F2-D57B88E5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45BD5-ACAE-4149-9A79-B14559F6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1472-6FE2-4234-9629-490C99B5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DEF69-CD98-420A-A02B-31B044DA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2CE6-2DD9-45CC-8E87-BCFEF263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028A4-3122-40A2-AF1B-060D3EC9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AFC06-7C6C-45D5-8AA5-CECF1008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A6F42-4513-4E8B-BDE0-71CBE57D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10F72-69B5-4214-BDF5-F53C1C84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279E3-C44B-49E2-BC49-73D93B2E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C1ECB-78D4-4457-963D-2CCDB12F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65757-4DFE-438D-B791-54AC8213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4E82D-6775-481E-A155-3F16AC8D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DF222-902B-470B-B3BE-10AE80CB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FE3A4-44D7-48C5-9736-9EA0210D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A59C-BF4B-4DD3-AE15-F4398A7F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DAD2B-0348-4034-8D97-066ED1E5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3A2FB-433B-4DBE-AF81-D8FCD1EE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D03DC-019E-4EA2-A015-8CE79721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AFF9B-5F85-41C9-846B-CFF73D7D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2EDC1-0CC6-4162-A725-E2CCBE96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C9AE4-94F0-4024-9E28-2BFB31C7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7F387-E9BA-4DFE-A209-C29E4725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9B2ED-3AD5-4D09-86DC-8D50C0CB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C2F5D-7BD7-43FD-96E9-04C20C40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F669-A4CD-4803-A8C7-ECD8DA36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C19B-E586-4A00-A7B5-DD5EF41C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8A747-2B94-4AE3-996C-2B456294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8DC1F-DC0A-4872-B4A5-49CC55CF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F63F6-7253-4D3E-94A3-5BC0417C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E6FE9-27C1-41A4-836E-EBE530E7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C5DD9-508A-4679-8C9F-5B9F4D3A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977E4-80F2-4236-BE36-56D59BB4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5DB64-A0B2-4F7B-8264-A932EB68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296A9-02B6-45EF-9D3F-27E14CCB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0BB90-2165-4A0F-8C84-453AB0CD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750D8-5403-4856-B143-3B5D9B2E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FC116-442E-4C20-98CD-FC46F52F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CCEB3-3FDF-4EAD-B46D-1981DBD8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EF32E-5AC4-476B-9E1D-021DC8BC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CA72C-CFAD-47B4-BE5C-7B16E50E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425A1-6B54-410E-9743-FB0163DD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D4AE3-B7D9-45D6-8228-88C91677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9B21-2EF5-4AF5-9F3B-AB3BB3A8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DC242-2709-4FD0-979A-317B6446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CEBB8-A083-4B21-B4F1-515CA6B7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1F8EE-3559-4AB2-A6CD-4EAEB1FD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3E078-ECBF-49E1-BBBF-279C3775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28F67-D5ED-4B53-B928-AA7872C7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C56B1-4B36-4DC6-9259-4035BB9C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"/>
          <p:cNvPicPr/>
          <p:nvPr/>
        </p:nvPicPr>
        <p:blipFill>
          <a:blip r:embed="rId2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" descr=""/>
          <p:cNvPicPr/>
          <p:nvPr/>
        </p:nvPicPr>
        <p:blipFill>
          <a:blip r:embed="rId3"/>
          <a:stretch/>
        </p:blipFill>
        <p:spPr>
          <a:xfrm>
            <a:off x="0" y="-22320"/>
            <a:ext cx="3714840" cy="68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5CF7-D1FB-4FF6-B321-D8A919DF88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AB8B-5911-49B1-A855-2650B0F2EB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ABAB-42A2-4925-91EB-EFA7C8D0B7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846-1FB3-466B-984F-B4A1634543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D699-7F53-4404-9708-77E4FED988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0" y="9360"/>
            <a:ext cx="910116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762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3526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705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5CDE-64A4-4548-B711-DE4D89203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-93600" y="-109440"/>
            <a:ext cx="819000" cy="7083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-411840" y="4286160"/>
            <a:ext cx="911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倍速课时学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996F-CF96-4729-9363-12097DBECD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C81F-1C4F-476D-90D7-34E4E6AA89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4F5D-FE6C-47F9-9350-9831BD31AF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2DFD-723B-46D9-8445-C7030E4FC2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EF1B-890F-4A3D-8C3A-36734E6E3F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2909-0F82-4824-A421-9D099B247C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687F-5882-4DE2-9D48-099F0FE7E1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&#27963;&#21160;&#19982;&#25506;&#31350;.flv" TargetMode="External"/><Relationship Id="rId2" Type="http://schemas.openxmlformats.org/officeDocument/2006/relationships/hyperlink" Target="file:///&#27963;&#21160;&#19982;&#25506;&#31350;.flv" TargetMode="External"/><Relationship Id="rId3" Type="http://schemas.openxmlformats.org/officeDocument/2006/relationships/hyperlink" Target="file:///&#27963;&#21160;&#19982;&#25506;&#31350;.flv" TargetMode="External"/><Relationship Id="rId4" Type="http://schemas.openxmlformats.org/officeDocument/2006/relationships/hyperlink" Target="file:///&#27963;&#21160;&#19982;&#25506;&#31350;.flv" TargetMode="External"/><Relationship Id="rId5" Type="http://schemas.openxmlformats.org/officeDocument/2006/relationships/hyperlink" Target="file:///&#27963;&#21160;&#19982;&#25506;&#31350;.flv" TargetMode="External"/><Relationship Id="rId6" Type="http://schemas.openxmlformats.org/officeDocument/2006/relationships/hyperlink" Target="file:///&#27963;&#21160;&#19982;&#25506;&#31350;.flv" TargetMode="External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hyperlink" Target="http://www.1ppt.cn/" TargetMode="External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10-9.flv" TargetMode="External"/><Relationship Id="rId2" Type="http://schemas.openxmlformats.org/officeDocument/2006/relationships/hyperlink" Target="file:///10-9.flv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5"/>
          <p:cNvSpPr/>
          <p:nvPr/>
        </p:nvSpPr>
        <p:spPr>
          <a:xfrm>
            <a:off x="646200" y="183816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1" lang="zh-CN" sz="5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酸和碱的中和反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1"/>
          <p:cNvSpPr/>
          <p:nvPr/>
        </p:nvSpPr>
        <p:spPr>
          <a:xfrm>
            <a:off x="3431520" y="692280"/>
            <a:ext cx="25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第十单元　酸和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"/>
          <p:cNvSpPr/>
          <p:nvPr/>
        </p:nvSpPr>
        <p:spPr>
          <a:xfrm>
            <a:off x="3957840" y="5673600"/>
            <a:ext cx="441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4"/>
          <p:cNvSpPr/>
          <p:nvPr/>
        </p:nvSpPr>
        <p:spPr>
          <a:xfrm>
            <a:off x="1908000" y="4762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科　学　小　知　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1116000" y="1341360"/>
            <a:ext cx="3240000" cy="2083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酸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蛋黄、甜点、白糖、金枪鱼、比目鱼、火腿、鸡肉、猪肉、牛肉、面包、小麦白米、花生、啤酒、海苔、巧克力、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4788000" y="1341360"/>
            <a:ext cx="3744720" cy="2083320"/>
          </a:xfrm>
          <a:prstGeom prst="rect">
            <a:avLst/>
          </a:prstGeom>
          <a:solidFill>
            <a:srgbClr val="99cc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碱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葡萄、海带、柑橘、柿子、黄瓜、胡萝卜、大豆、番茄、香蕉、草莓、蛋白、柠檬、菠菜、红豆、苹果、豆腐、卷心菜、油菜、梨、土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3"/>
          <p:cNvSpPr/>
          <p:nvPr/>
        </p:nvSpPr>
        <p:spPr>
          <a:xfrm>
            <a:off x="541440" y="765000"/>
            <a:ext cx="91440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我国南方一些地区，分布着酸性土壤，不适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些作物生长。为改良作物生长条件，当地的农民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来中和土壤酸性的物质是（       ）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石灰石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熟石灰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烧碱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醋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4643280" y="1844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468360" y="2997360"/>
            <a:ext cx="914400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一次化学实验课上，老师让同学们对下面实验进行探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探究氢氧化钠溶液中是哪一种粒子能使无色酚酞溶液变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第一支试管中加入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蒸馏水，滴入几滴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酚酞溶液。现象：溶液不变色。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第二支试管中加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氯化钠溶液，滴入几滴无色酚酞溶液。现象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            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第三支试管中加入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氢氧化钠溶液，滴入几滴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色酚酞溶液。现象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7742160" y="508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溶液不变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394164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溶液变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8"/>
          <p:cNvSpPr/>
          <p:nvPr/>
        </p:nvSpPr>
        <p:spPr>
          <a:xfrm>
            <a:off x="1187280" y="6400800"/>
            <a:ext cx="61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氢氧根离子使无色酚酞溶液变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3"/>
          <p:cNvSpPr/>
          <p:nvPr/>
        </p:nvSpPr>
        <p:spPr>
          <a:xfrm>
            <a:off x="541440" y="414972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三、溶液酸碱度的表示法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541440" y="476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学们都知道判断溶液是酸性还是碱性一般用酸碱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剂（紫色石蕊溶液、无色酚酞溶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792000" y="357336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碱度：溶液的酸碱性强弱程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865080" y="48690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溶液酸碱度常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来表示，                      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范围通常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1" name=""/>
          <p:cNvGraphicFramePr/>
          <p:nvPr/>
        </p:nvGraphicFramePr>
        <p:xfrm>
          <a:off x="1800360" y="1844640"/>
          <a:ext cx="6095880" cy="137160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酸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碱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石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变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变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酚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变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3" descr="10-16"/>
          <p:cNvPicPr/>
          <p:nvPr/>
        </p:nvPicPr>
        <p:blipFill>
          <a:blip r:embed="rId1"/>
          <a:stretch/>
        </p:blipFill>
        <p:spPr>
          <a:xfrm>
            <a:off x="973080" y="0"/>
            <a:ext cx="7128000" cy="252252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4"/>
          <p:cNvSpPr/>
          <p:nvPr/>
        </p:nvSpPr>
        <p:spPr>
          <a:xfrm>
            <a:off x="828720" y="34146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溶液呈酸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861080" y="341460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值越小酸性越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6"/>
          <p:cNvSpPr/>
          <p:nvPr/>
        </p:nvSpPr>
        <p:spPr>
          <a:xfrm>
            <a:off x="612720" y="692280"/>
            <a:ext cx="3672000" cy="1079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1848960" y="44370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＞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溶液呈碱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6448680" y="4437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值越大碱性越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1260360" y="544500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溶液呈中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10"/>
          <p:cNvSpPr/>
          <p:nvPr/>
        </p:nvSpPr>
        <p:spPr>
          <a:xfrm>
            <a:off x="4789440" y="692280"/>
            <a:ext cx="3672000" cy="1079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1"/>
          <p:cNvSpPr/>
          <p:nvPr/>
        </p:nvSpPr>
        <p:spPr>
          <a:xfrm>
            <a:off x="1403280" y="59342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入</a:t>
            </a:r>
            <a:r>
              <a:rPr b="1" lang="zh-CN" sz="2800" spc="-1" strike="noStrike">
                <a:solidFill>
                  <a:srgbClr val="c0504d"/>
                </a:solidFill>
                <a:latin typeface="宋体"/>
              </a:rPr>
              <a:t>石蕊试液仍紫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滴入无色酚酞仍无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2828880" y="494172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滴入</a:t>
            </a:r>
            <a:r>
              <a:rPr b="1" lang="zh-CN" sz="2800" spc="-1" strike="noStrike">
                <a:solidFill>
                  <a:srgbClr val="c0504d"/>
                </a:solidFill>
                <a:latin typeface="Times New Roman"/>
              </a:rPr>
              <a:t>石蕊试液变蓝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滴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无色酚酞变红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2900520" y="39178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滴入</a:t>
            </a:r>
            <a:r>
              <a:rPr b="1" lang="zh-CN" sz="2800" spc="-1" strike="noStrike">
                <a:solidFill>
                  <a:srgbClr val="c0504d"/>
                </a:solidFill>
                <a:latin typeface="Times New Roman"/>
              </a:rPr>
              <a:t>石蕊试液变红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滴入无色酚酞仍无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4"/>
          <p:cNvSpPr/>
          <p:nvPr/>
        </p:nvSpPr>
        <p:spPr>
          <a:xfrm>
            <a:off x="4357800" y="692280"/>
            <a:ext cx="288720" cy="13683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3" descr=""/>
          <p:cNvPicPr/>
          <p:nvPr/>
        </p:nvPicPr>
        <p:blipFill>
          <a:blip r:embed="rId1"/>
          <a:stretch/>
        </p:blipFill>
        <p:spPr>
          <a:xfrm>
            <a:off x="1042920" y="942840"/>
            <a:ext cx="6913800" cy="183852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4"/>
          <p:cNvSpPr/>
          <p:nvPr/>
        </p:nvSpPr>
        <p:spPr>
          <a:xfrm>
            <a:off x="1710360" y="404640"/>
            <a:ext cx="45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测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简便的方法是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使用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试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1042920" y="285264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定方法：在白瓷板或玻璃片上放一小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纸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用玻璃棒蘸取试液，然后在试纸的中间点一下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试纸显示的颜色与标准比色卡比较，即可得出被测液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900000" y="465300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注意：               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能直接把试纸浸入试液，否则会污染试液。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能先用蒸馏水湿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纸，否则会稀释试液的浓度，测出来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值就不准确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3"/>
          <p:cNvSpPr/>
          <p:nvPr/>
        </p:nvSpPr>
        <p:spPr>
          <a:xfrm>
            <a:off x="541440" y="388800"/>
            <a:ext cx="25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活动与探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1445760" y="822240"/>
            <a:ext cx="4089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测定几种酸或碱的稀溶液的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H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541440" y="1325520"/>
            <a:ext cx="9144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测定生活中一些物质的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H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，说明它们的酸碱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792000" y="1908000"/>
          <a:ext cx="7836120" cy="4937400"/>
        </p:xfrm>
        <a:graphic>
          <a:graphicData uri="http://schemas.openxmlformats.org/drawingml/2006/table">
            <a:tbl>
              <a:tblPr/>
              <a:tblGrid>
                <a:gridCol w="1368720"/>
                <a:gridCol w="1152360"/>
                <a:gridCol w="1513080"/>
                <a:gridCol w="1670040"/>
                <a:gridCol w="1033200"/>
                <a:gridCol w="10987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酸碱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酸碱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橘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~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弱酸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汽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~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弱酸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糖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自来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~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弱酸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牛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~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弱酸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唾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~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弱酸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番茄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~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弱酸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草木灰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~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弱碱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肥皂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~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弱碱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洗洁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~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弱酸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Rectangle 57"/>
          <p:cNvSpPr/>
          <p:nvPr/>
        </p:nvSpPr>
        <p:spPr>
          <a:xfrm>
            <a:off x="3177000" y="52293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了解溶液的酸碱度有重要的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8"/>
          <p:cNvSpPr/>
          <p:nvPr/>
        </p:nvSpPr>
        <p:spPr>
          <a:xfrm>
            <a:off x="1803240" y="5877000"/>
            <a:ext cx="560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化工生产中许多反应必须在一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里才能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3"/>
          <p:cNvSpPr/>
          <p:nvPr/>
        </p:nvSpPr>
        <p:spPr>
          <a:xfrm>
            <a:off x="541440" y="1341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测定雨水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(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因溶解有二氧化碳，正常雨水的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约为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.6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，酸雨的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小于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.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可以了解空气的污染情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539640" y="2565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测定人体内或排出的液体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可以了解人体的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康状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541440" y="404640"/>
            <a:ext cx="90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农业生产中，农作物一般适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接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土壤中生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6"/>
          <p:cNvSpPr/>
          <p:nvPr/>
        </p:nvSpPr>
        <p:spPr>
          <a:xfrm>
            <a:off x="539640" y="3429000"/>
            <a:ext cx="79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活动与探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酸碱度对头发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755640" y="4149720"/>
          <a:ext cx="7920000" cy="1539720"/>
        </p:xfrm>
        <a:graphic>
          <a:graphicData uri="http://schemas.openxmlformats.org/drawingml/2006/table">
            <a:tbl>
              <a:tblPr/>
              <a:tblGrid>
                <a:gridCol w="2808360"/>
                <a:gridCol w="1728720"/>
                <a:gridCol w="1655640"/>
                <a:gridCol w="172728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=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=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=1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察头发光泽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拉断的难易程度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Text Box 29"/>
          <p:cNvSpPr/>
          <p:nvPr/>
        </p:nvSpPr>
        <p:spPr>
          <a:xfrm>
            <a:off x="3995640" y="458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光泽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0"/>
          <p:cNvSpPr/>
          <p:nvPr/>
        </p:nvSpPr>
        <p:spPr>
          <a:xfrm>
            <a:off x="4140360" y="5084640"/>
            <a:ext cx="80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1"/>
          <p:cNvSpPr/>
          <p:nvPr/>
        </p:nvSpPr>
        <p:spPr>
          <a:xfrm>
            <a:off x="5796000" y="4581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2"/>
          <p:cNvSpPr/>
          <p:nvPr/>
        </p:nvSpPr>
        <p:spPr>
          <a:xfrm>
            <a:off x="5796000" y="5229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3"/>
          <p:cNvSpPr/>
          <p:nvPr/>
        </p:nvSpPr>
        <p:spPr>
          <a:xfrm>
            <a:off x="7164360" y="465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很不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4"/>
          <p:cNvSpPr/>
          <p:nvPr/>
        </p:nvSpPr>
        <p:spPr>
          <a:xfrm>
            <a:off x="7451640" y="5157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很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35"/>
          <p:cNvSpPr/>
          <p:nvPr/>
        </p:nvSpPr>
        <p:spPr>
          <a:xfrm>
            <a:off x="900000" y="57340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讨论：溶液的酸碱度对头发有什么影响？对你选择洗发液有什么启示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9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5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5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3"/>
          <p:cNvSpPr/>
          <p:nvPr/>
        </p:nvSpPr>
        <p:spPr>
          <a:xfrm>
            <a:off x="541440" y="3999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碱性物质对头发有损坏作用。所以洗发液应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接近中性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要选碱性大的洗发液。然后再用微酸性的护发素来保护头发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541440" y="16858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学完本课题你应该知道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541440" y="2133720"/>
            <a:ext cx="8964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酸和碱能发生中和反应，生成盐和水。酸碱中和反应在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和生产中有广泛的应用。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溶液的酸碱度可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，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试纸可以测定溶液的酸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度。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液呈酸性；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液呈中性；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溶液呈碱性。                                                                  了解溶液的酸碱度在实际中有重要的意义。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盐是在水溶液中能解离出金属离子和酸根离子的化合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3"/>
          <p:cNvSpPr/>
          <p:nvPr/>
        </p:nvSpPr>
        <p:spPr>
          <a:xfrm>
            <a:off x="468360" y="18900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调查与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46836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简单测定土壤酸碱性的方法：取样，溶解，测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468360" y="1268280"/>
            <a:ext cx="9144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学生练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某学校化学课外活动小组的同学，取刚降到地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雨水水样，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仪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隔几分钟测一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据如下表所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降雨水是否为酸雨？在测定的时间内，雨水的酸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增强还是减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611280" y="2492280"/>
          <a:ext cx="8207280" cy="1279800"/>
        </p:xfrm>
        <a:graphic>
          <a:graphicData uri="http://schemas.openxmlformats.org/drawingml/2006/table">
            <a:tbl>
              <a:tblPr/>
              <a:tblGrid>
                <a:gridCol w="1295280"/>
                <a:gridCol w="1008000"/>
                <a:gridCol w="1008000"/>
                <a:gridCol w="1009800"/>
                <a:gridCol w="1006560"/>
                <a:gridCol w="1081080"/>
                <a:gridCol w="863640"/>
                <a:gridCol w="934920"/>
              </a:tblGrid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测定时间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Text Box 35"/>
          <p:cNvSpPr/>
          <p:nvPr/>
        </p:nvSpPr>
        <p:spPr>
          <a:xfrm>
            <a:off x="1224000" y="479736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值都小于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.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所以是酸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1295280" y="5445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值在减小，所以酸性增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77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770" fill="hold"/>
                                        <p:tgtEl>
                                          <p:spTgt spid="7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9" dur="77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541440" y="404640"/>
            <a:ext cx="9058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调查，这一地区有一个硫酸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产过程中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电镀厂，这些工厂使用的燃料主要是煤。另外，这一地区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燃料主要也是煤，还有液化石油气。试分析造成这一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酸雨水的主要原因，你认为应采取什么措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2233440" y="220500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硫酸厂的废气要经过处理达标后排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1297080" y="26938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减少化石燃料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煤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使用，使用清洁能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6"/>
          <p:cNvSpPr/>
          <p:nvPr/>
        </p:nvSpPr>
        <p:spPr>
          <a:xfrm>
            <a:off x="541440" y="3263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“测土选种”是现代农业生产常用科学方法，取武当山特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村土壤浸出的溶液，加入无色酚酞溶液后显红色。下表为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农作物适宜生长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范围，你认为该村土壤比较适宜种植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农作物是：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865080" y="4941720"/>
          <a:ext cx="7704360" cy="914400"/>
        </p:xfrm>
        <a:graphic>
          <a:graphicData uri="http://schemas.openxmlformats.org/drawingml/2006/table">
            <a:tbl>
              <a:tblPr/>
              <a:tblGrid>
                <a:gridCol w="1541520"/>
                <a:gridCol w="1540080"/>
                <a:gridCol w="1541160"/>
                <a:gridCol w="1540080"/>
                <a:gridCol w="15415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农作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水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茶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马铃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0" name="Rectangle 27"/>
          <p:cNvSpPr/>
          <p:nvPr/>
        </p:nvSpPr>
        <p:spPr>
          <a:xfrm>
            <a:off x="865080" y="6021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玉米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茶数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稻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马铃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8"/>
          <p:cNvSpPr/>
          <p:nvPr/>
        </p:nvSpPr>
        <p:spPr>
          <a:xfrm>
            <a:off x="2484360" y="436572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611280" y="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第一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同学们有这样的经历吗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4DGH6C5B1FAIJHJ247"/>
          <p:cNvPicPr/>
          <p:nvPr/>
        </p:nvPicPr>
        <p:blipFill>
          <a:blip r:embed="rId1"/>
          <a:stretch/>
        </p:blipFill>
        <p:spPr>
          <a:xfrm>
            <a:off x="612720" y="98100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6"/>
          <p:cNvSpPr/>
          <p:nvPr/>
        </p:nvSpPr>
        <p:spPr>
          <a:xfrm>
            <a:off x="4041720" y="1197000"/>
            <a:ext cx="10335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蜜蜂蛰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8"/>
          <p:cNvSpPr/>
          <p:nvPr/>
        </p:nvSpPr>
        <p:spPr>
          <a:xfrm>
            <a:off x="7894440" y="1341360"/>
            <a:ext cx="103356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蚊子叮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1" descr=""/>
          <p:cNvPicPr/>
          <p:nvPr/>
        </p:nvPicPr>
        <p:blipFill>
          <a:blip r:embed="rId2"/>
          <a:stretch/>
        </p:blipFill>
        <p:spPr>
          <a:xfrm>
            <a:off x="5221440" y="981000"/>
            <a:ext cx="3022560" cy="280836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12"/>
          <p:cNvSpPr/>
          <p:nvPr/>
        </p:nvSpPr>
        <p:spPr>
          <a:xfrm>
            <a:off x="612720" y="3933720"/>
            <a:ext cx="914400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蚊虫叮咬时，在蚊子的口器中分泌出一种有机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在家庭中可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浓肥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涂抹可迅速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止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3"/>
          <p:cNvSpPr/>
          <p:nvPr/>
        </p:nvSpPr>
        <p:spPr>
          <a:xfrm>
            <a:off x="3851280" y="501336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3059280" y="57340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显碱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WordArt 15"/>
          <p:cNvSpPr txBox="1"/>
          <p:nvPr/>
        </p:nvSpPr>
        <p:spPr>
          <a:xfrm>
            <a:off x="4824360" y="5157720"/>
            <a:ext cx="273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78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为什么？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图片 9" descr=""/>
          <p:cNvPicPr/>
          <p:nvPr/>
        </p:nvPicPr>
        <p:blipFill>
          <a:blip r:embed="rId21"/>
          <a:srcRect l="0" t="0" r="15793" b="53376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10" descr="png-0644"/>
          <p:cNvPicPr/>
          <p:nvPr/>
        </p:nvPicPr>
        <p:blipFill>
          <a:blip r:embed="rId22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1" descr="png-0652"/>
          <p:cNvPicPr/>
          <p:nvPr/>
        </p:nvPicPr>
        <p:blipFill>
          <a:blip r:embed="rId23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539640" y="3860640"/>
            <a:ext cx="914400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实验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10-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烧杯中加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氢氧化钠溶液，滴入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滴酚酞溶液。再用滴管慢慢滴入稀盐酸，并不断搅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液，至溶液颜色恰好变成无色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6"/>
          <p:cNvSpPr/>
          <p:nvPr/>
        </p:nvSpPr>
        <p:spPr>
          <a:xfrm>
            <a:off x="576360" y="26028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提出问题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2881440" y="260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华文新魏"/>
              </a:rPr>
              <a:t>酸和碱之间会发生什么反应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541440" y="7635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实验验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0"/>
          <p:cNvSpPr/>
          <p:nvPr/>
        </p:nvSpPr>
        <p:spPr>
          <a:xfrm>
            <a:off x="3025800" y="76356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稀盐酸与氢氧化钠溶液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直接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混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1"/>
          <p:cNvSpPr/>
          <p:nvPr/>
        </p:nvSpPr>
        <p:spPr>
          <a:xfrm>
            <a:off x="541440" y="1268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观察现象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2"/>
          <p:cNvSpPr/>
          <p:nvPr/>
        </p:nvSpPr>
        <p:spPr>
          <a:xfrm>
            <a:off x="2449440" y="1268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无明显现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3"/>
          <p:cNvSpPr/>
          <p:nvPr/>
        </p:nvSpPr>
        <p:spPr>
          <a:xfrm>
            <a:off x="898560" y="177156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得出结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2449440" y="17715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结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5"/>
          <p:cNvSpPr/>
          <p:nvPr/>
        </p:nvSpPr>
        <p:spPr>
          <a:xfrm>
            <a:off x="541440" y="2276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设计出可行的方案证明酸和碱之间发生了反应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541440" y="285264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生化学变化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伴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颜色变化、放出气体、生成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淀、能量的变化（放热、吸热、发光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7"/>
          <p:cNvSpPr/>
          <p:nvPr/>
        </p:nvSpPr>
        <p:spPr>
          <a:xfrm>
            <a:off x="96840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实验现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8"/>
          <p:cNvSpPr/>
          <p:nvPr/>
        </p:nvSpPr>
        <p:spPr>
          <a:xfrm>
            <a:off x="2484360" y="55897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溶液由红色变为无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9"/>
          <p:cNvSpPr/>
          <p:nvPr/>
        </p:nvSpPr>
        <p:spPr>
          <a:xfrm>
            <a:off x="968400" y="6021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得出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0"/>
          <p:cNvSpPr/>
          <p:nvPr/>
        </p:nvSpPr>
        <p:spPr>
          <a:xfrm>
            <a:off x="2556000" y="6093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酸和碱能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4859280" y="60213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结论是我们需要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4"/>
          <p:cNvSpPr/>
          <p:nvPr/>
        </p:nvSpPr>
        <p:spPr>
          <a:xfrm>
            <a:off x="539640" y="260280"/>
            <a:ext cx="69487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应前后溶液中离子发生了怎样的变化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6" descr=""/>
          <p:cNvPicPr/>
          <p:nvPr/>
        </p:nvPicPr>
        <p:blipFill>
          <a:blip r:embed="rId1"/>
          <a:stretch/>
        </p:blipFill>
        <p:spPr>
          <a:xfrm>
            <a:off x="5292720" y="2133720"/>
            <a:ext cx="1695600" cy="19429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8" descr=""/>
          <p:cNvPicPr/>
          <p:nvPr/>
        </p:nvPicPr>
        <p:blipFill>
          <a:blip r:embed="rId2"/>
          <a:stretch/>
        </p:blipFill>
        <p:spPr>
          <a:xfrm>
            <a:off x="5364000" y="620640"/>
            <a:ext cx="1252800" cy="201636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9"/>
          <p:cNvSpPr/>
          <p:nvPr/>
        </p:nvSpPr>
        <p:spPr>
          <a:xfrm>
            <a:off x="790560" y="62064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OH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O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1150920" y="1052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Cl =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11" descr=""/>
          <p:cNvPicPr/>
          <p:nvPr/>
        </p:nvPicPr>
        <p:blipFill>
          <a:blip r:embed="rId3"/>
          <a:stretch/>
        </p:blipFill>
        <p:spPr>
          <a:xfrm>
            <a:off x="6948360" y="2060640"/>
            <a:ext cx="2195640" cy="2057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2"/>
          <p:cNvSpPr/>
          <p:nvPr/>
        </p:nvSpPr>
        <p:spPr>
          <a:xfrm>
            <a:off x="539640" y="1484280"/>
            <a:ext cx="464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OH + HCl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539640" y="2060640"/>
            <a:ext cx="51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氢氧化钠与盐酸反应的本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溶液中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离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碱溶液中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氧根离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应生成水的过程。这个反应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和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539640" y="378936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中和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5"/>
          <p:cNvSpPr/>
          <p:nvPr/>
        </p:nvSpPr>
        <p:spPr>
          <a:xfrm>
            <a:off x="539640" y="4221000"/>
            <a:ext cx="22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定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6"/>
          <p:cNvSpPr/>
          <p:nvPr/>
        </p:nvSpPr>
        <p:spPr>
          <a:xfrm>
            <a:off x="2951280" y="429264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酸和碱作用生成盐和水的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7"/>
          <p:cNvSpPr/>
          <p:nvPr/>
        </p:nvSpPr>
        <p:spPr>
          <a:xfrm>
            <a:off x="539640" y="4726080"/>
            <a:ext cx="21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判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8"/>
          <p:cNvSpPr/>
          <p:nvPr/>
        </p:nvSpPr>
        <p:spPr>
          <a:xfrm>
            <a:off x="2951280" y="479736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应物必须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酸和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9"/>
          <p:cNvSpPr/>
          <p:nvPr/>
        </p:nvSpPr>
        <p:spPr>
          <a:xfrm>
            <a:off x="934920" y="515772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HCl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aC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1440000" y="573408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NaOH 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5"/>
          <p:cNvSpPr/>
          <p:nvPr/>
        </p:nvSpPr>
        <p:spPr>
          <a:xfrm>
            <a:off x="541440" y="1125360"/>
            <a:ext cx="914400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反应中属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中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n + 2HCl  =   Zn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+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O + 2HCl  =  CuC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  Ba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↓+ 2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HCl  =  AgCl↓  +H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6121440" y="1125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541440" y="3716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各组物质通常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借助指示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才能证明是否反应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氢氧化铜和稀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石灰石和稀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氢氧化钙与碳酸钠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烧碱和稀硫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720720" y="476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同学们试一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9"/>
          <p:cNvSpPr/>
          <p:nvPr/>
        </p:nvSpPr>
        <p:spPr>
          <a:xfrm>
            <a:off x="1042920" y="414972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6"/>
          <p:cNvSpPr/>
          <p:nvPr/>
        </p:nvSpPr>
        <p:spPr>
          <a:xfrm>
            <a:off x="541440" y="493560"/>
            <a:ext cx="55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中和反应在实际中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541440" y="106992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改变土壤的酸碱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541440" y="164628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植物需要在一定酸碱性的土壤中生长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近年来由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合理使用化肥，或酸雨的形成，破坏土壤的酸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性，不利于植物的生长，</a:t>
            </a: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应怎样去改变酸性土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"/>
          <p:cNvSpPr/>
          <p:nvPr/>
        </p:nvSpPr>
        <p:spPr>
          <a:xfrm>
            <a:off x="2562480" y="3284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用熟石灰中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1"/>
          <p:cNvSpPr/>
          <p:nvPr/>
        </p:nvSpPr>
        <p:spPr>
          <a:xfrm>
            <a:off x="1680840" y="36622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能用生石灰代替熟石灰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2"/>
          <p:cNvSpPr/>
          <p:nvPr/>
        </p:nvSpPr>
        <p:spPr>
          <a:xfrm>
            <a:off x="720720" y="4167360"/>
            <a:ext cx="4572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可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aO + 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 == Ca(OH)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3" descr="pic_21869"/>
          <p:cNvPicPr/>
          <p:nvPr/>
        </p:nvPicPr>
        <p:blipFill>
          <a:blip r:embed="rId1"/>
          <a:stretch/>
        </p:blipFill>
        <p:spPr>
          <a:xfrm>
            <a:off x="5148360" y="4292640"/>
            <a:ext cx="3429000" cy="2286000"/>
          </a:xfrm>
          <a:prstGeom prst="rect">
            <a:avLst/>
          </a:prstGeom>
          <a:ln w="38160">
            <a:solidFill>
              <a:srgbClr val="8ae28a"/>
            </a:solidFill>
            <a:miter/>
          </a:ln>
        </p:spPr>
      </p:pic>
    </p:spTree>
  </p:cSld>
  <p:transition spd="slow"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4"/>
          <p:cNvSpPr/>
          <p:nvPr/>
        </p:nvSpPr>
        <p:spPr>
          <a:xfrm>
            <a:off x="541440" y="40464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处理工厂的废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5"/>
          <p:cNvSpPr/>
          <p:nvPr/>
        </p:nvSpPr>
        <p:spPr>
          <a:xfrm>
            <a:off x="541440" y="836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硫酸厂排出的废水中含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硫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杂质，严重危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地的生态环境，你会怎样处理这些废水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"/>
          <p:cNvSpPr/>
          <p:nvPr/>
        </p:nvSpPr>
        <p:spPr>
          <a:xfrm>
            <a:off x="4302720" y="17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用碱性物质（例如熟石灰）进行中和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1728720" y="213372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"/>
              </a:rPr>
              <a:t>你能写出化学方程式吗？请试一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1640160" y="2565360"/>
            <a:ext cx="626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(OH)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+ 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==  CaSO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+  2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541440" y="306864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用于医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541440" y="3573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胃酸的主要成分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胃药的主要成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氢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化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4321080" y="35002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盐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2987280" y="46530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氢氧化铝能中和胃酸，你能写出化学方程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6"/>
          <p:cNvSpPr/>
          <p:nvPr/>
        </p:nvSpPr>
        <p:spPr>
          <a:xfrm>
            <a:off x="1763640" y="5229360"/>
            <a:ext cx="57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Al(OH)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+ 3HCl = AlCl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+  3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539640" y="5805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被蚊虫叮咬后，涂一些含有碱性的物质的药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8"/>
          <p:cNvSpPr/>
          <p:nvPr/>
        </p:nvSpPr>
        <p:spPr>
          <a:xfrm>
            <a:off x="1116000" y="633888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论：举出生活中利用中和反应的实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4"/>
          <p:cNvSpPr/>
          <p:nvPr/>
        </p:nvSpPr>
        <p:spPr>
          <a:xfrm>
            <a:off x="576360" y="404640"/>
            <a:ext cx="55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同学们回顾本节课的主要内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826920" y="981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中和反应（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碱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1332000" y="155736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无明显现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中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反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常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借助指示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帮助判断反应的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971640" y="256536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中和反应在实际生活中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1476360" y="306864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农业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工业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医药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5"/>
          <p:cNvSpPr/>
          <p:nvPr/>
        </p:nvSpPr>
        <p:spPr>
          <a:xfrm>
            <a:off x="468360" y="115920"/>
            <a:ext cx="9144000" cy="61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人体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酸碱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决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健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是人体最重要、量最多的体液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健康血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值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弱碱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如果血液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值低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人体就处在亚健康状态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有可能得各种严重疾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―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心脑血管病、骨质疏松、肾结石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节炎、痛风、高血压、癌症、高脂血症等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――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体的酸化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百病之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科学表明，食用碱性食物可以使体液趋碱，而酸性食物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使体液变酸。饮食的酸碱</a:t>
            </a:r>
            <a:r>
              <a:rPr b="1" lang="zh-CN" sz="2400" spc="-1" strike="noStrike" u="sng">
                <a:solidFill>
                  <a:srgbClr val="ff3300"/>
                </a:solidFill>
                <a:uFillTx/>
                <a:latin typeface="Arial"/>
              </a:rPr>
              <a:t>不能以口味的酸和涩来区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主要看食物中所含的碱性元素、酸性元素和有机酸在人体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后的结果。比如酸醋，经过人体的吸收代谢之后，对人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液的贡献呈碱性，因此它其实是碱性食品。酸味的水果也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样是碱性食品。通常来讲，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绝大部分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水果、蔬菜都是碱性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品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，绝大多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肉类、精细加工的食品都酸性食品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合理的酸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饮食的摄入比应该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: 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但现代人</a:t>
            </a: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摄入的酸性食品过多，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497d"/>
                </a:solidFill>
                <a:latin typeface="Arial"/>
              </a:rPr>
              <a:t>致了亚健康人群的大量增加。</a:t>
            </a:r>
            <a:r>
              <a:rPr b="0" lang="zh-CN" sz="2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13:00:2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6-03-02T04:06:16Z</dcterms:modified>
  <cp:revision>41</cp:revision>
  <dc:subject>第一PPT模板网-WWW.1PPT.COM</dc:subject>
  <dc:title>第一PPT模板网-WWW.1PPT.COM</dc:title>
</cp:coreProperties>
</file>