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69A-EBFD-42F3-A3F1-E14B7CBA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8BF-4CC2-4DFA-82F8-17CCD2D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AC9-7813-4707-9ED9-4D6FD6AF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C70-B67E-48B3-9E94-F69D5179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0DB7-375E-4BF8-9804-F1E63279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8EEB-EF71-4DFD-8E7C-C8C518F8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33DE-B410-414F-98B2-E7D08AAF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82AA-5A46-417D-A10A-8F550F05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25F6-4736-48C8-85A5-FA9EFA21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1A36-0DD0-4D51-903B-D83F7E30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47BF-300A-47DA-B4FF-B727DE0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872-C922-44D0-B974-D954DDA6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9CA1-13FC-42E3-8EB6-3C7935DC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1181-3B22-4133-9DDD-58E1DA2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2CED-189A-4307-8F88-431C5B3F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60ED-6EBE-4AF9-BD02-06C0BCCD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254F-14D1-4314-A400-FA65FED0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DD3-E046-4205-A8EC-5F90556F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A47-4246-403E-8511-186C3579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57C-30B1-45A2-83D3-E964FBA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03D-3463-4740-9081-72D52891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55C-A802-4620-AE31-0929DE5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3F4-732E-465D-AD29-5D888E4A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2E5-38E4-42C1-AB48-A00D753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DFC4-70D9-463E-958A-DB19D6792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07E3-9451-4AAE-B331-8F2113EB6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网页文档结构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8272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.1  Web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.2  HTML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文档的基本结构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符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3C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标准的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网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.1  Web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标准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.1.1  Web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标准概述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.1.2  Web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标准规定的内容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.2  HTML5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文档的基本结构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.2.1  HTML5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结构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文档类型说明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.2.3  HTML5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记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.2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头标记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head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.2.5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网页的主体标记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body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.2.6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页面注释标记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&lt;!-- --&gt;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符合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W3C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标准的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网页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下面将制作一个简单的符合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W3C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标准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的网页，以巩固前面所学知识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3048120" y="2855880"/>
            <a:ext cx="3330360" cy="320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er</cp:lastModifiedBy>
  <dcterms:modified xsi:type="dcterms:W3CDTF">2017-02-23T04:17:40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