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B10-CE68-4F8A-97F8-C8D50769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55A-894C-4543-89E7-0EC8547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BB0-5EEF-4FC1-A8F6-2E772463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223-D485-4FB3-BFB3-78F13557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7E3C-F46A-4DA4-8F1B-3F222284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EC0C-2113-4622-883E-7706684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1807-900A-4913-944E-A3C8FBD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D9A-2DA6-415F-8D7E-F0ECB5A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59EE-F41C-4AE2-A332-6C79D6C9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4737-DAC3-47F5-9B38-D191C2D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69E5-E952-410E-BA13-4A7D28F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696-F367-4B01-B01E-F0553B47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46E9-2229-4776-B818-FA86E64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23D-B37B-46F8-9C37-5E6EB39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6A0A-DA02-4885-BB01-726CEA88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01E-19C9-4D97-8783-61C03033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9E11-450B-4808-9CAA-167EFD20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674-856A-4AFA-A74E-3F1D58D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439-ACBD-4C41-A106-B6BB3F3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1C2-B495-43AD-9C66-2751A9B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90D-804C-4E04-B07F-9864262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2E9-C4C8-4671-B0B8-FBDED16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263-1AB3-4EB0-9C6B-E950102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3B7-7C20-439A-A812-7D49E0A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8C8B-CCFA-44D0-AAB8-AD4ED23A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0D1B-F7D1-4185-8D1A-0A1D781C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存储和通信技术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8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编写简单的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WebSocket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服务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63904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8196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认识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存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5 Web Storage API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在本地建立数据库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目前浏览器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存储的支持情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跨文档消息传输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6  WebSockets API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7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简单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留言本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8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编写简单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Socke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服务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9.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　认识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存储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1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本地存储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ookie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的区别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9.1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存储方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2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HTML5 Web Storage API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2.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测试浏览器的支持情况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2.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ssionStorage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方法创建对象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2.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localStorage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方法创建对象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2.4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Web Storage API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的其他操作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2.5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对象存取数据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在本地建立数据库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19.3.1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本地数据库概述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19.3.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　用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executeSql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来执行查询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19.3.3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ransaction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方法处理事件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4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目前浏览器对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存储的支持情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752480"/>
          <a:ext cx="8194680" cy="3886200"/>
        </p:xfrm>
        <a:graphic>
          <a:graphicData uri="http://schemas.openxmlformats.org/drawingml/2006/table">
            <a:tbl>
              <a:tblPr/>
              <a:tblGrid>
                <a:gridCol w="2365560"/>
                <a:gridCol w="5829120"/>
              </a:tblGrid>
              <a:tr h="55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浏览器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支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储技术的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net Explo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net Explorer 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ef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efox 3.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era 10.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af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afari 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e 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ctr">
                      <a:noAutofit/>
                    </a:bodyPr>
                    <a:p>
                      <a:pPr marL="17640" indent="26640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ndr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ndroid 2.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跨文档消息传输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5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跨文档消息传输的基本知识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5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跨文档通信应用测试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6  WebSockets API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6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什么是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WebSocket API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6.2  WebSockets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通信基础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6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服务器端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Web Sockets API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9.6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客户机端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WebSockets API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9.7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简单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留言本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40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49:36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