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F7C-7F10-49E3-96E4-865444C0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E66-1D5E-4715-8826-5D0177CD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410-84F7-4863-9B98-B8CBFD1D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89E-DB05-41EC-9F98-EEDC58F7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C787-C3DF-47E8-A3A7-EF694347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7E30-BB40-4344-BCC0-E728DB5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447-F7ED-43F7-B015-1E4E5834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4EC-2FCF-4A16-9C5C-9BC9B5F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F808-46D7-44DB-AF4D-00EBBB5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099F-8AA9-4A1E-95A4-656109E2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EF96-68FA-422E-9301-5BA5799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62E-5409-4D64-9930-03A6D53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E079-1949-4AEF-BB07-BC318DE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1E71-0362-4826-B3A9-B6EAF69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8DD0-7CA2-4F08-B19B-3826F56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688-3FC8-4CDD-9ADD-9A6DF2C9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ED61-CD60-4C5F-BECD-A6B70CA5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DB8-FC28-41B7-B178-C641B146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CB5-AF82-4CF0-9520-BF321C0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983-0D41-4F29-9484-DB57DF0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5DE-573E-447E-87B6-572CA02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C07-7F16-462A-8CED-D89445E4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C52-A307-4A8B-96E2-E5F8CE0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3CC-49E4-41B2-BC09-BC5CE3A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AFB-64DE-4E81-8CE9-944865E5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3B2-15BD-4EF8-91A1-300C0F4D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处理线程和服务器发送事件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8196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 Workers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线 程 嵌 套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服务器发送事件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服务器发送事件的实现过程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创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 Worke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计数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服务器发送事件实战应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20.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Web Workers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1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 Workers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1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线程中常用的变量、函数与类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0.1.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与线程进行数据的交互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0.2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线 程 嵌 套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0.2.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单线程嵌套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0.2.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多个子线程中的数据交互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0.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服务器发送事件概述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在网页客户端更新过程中，如果使用早期技术，网页不得不询问是否有可用的更新，这样将不能很好地实时获取服务器的信息，并且加大了资源的耗费。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中，通过服务器发送事件，可以让网页客户端自动获取来自服务器的更新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服务器发送事件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(Server-Sent Event)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允许网页获得来自服务器的更新，这种数据的传递和前面章节讲述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Web Socke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同。服务器发送事件是单向传递信息，服务器将更新的信息自动发送到客户端，而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Web Socke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是双向通信技术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0.4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服务器发送事件的实现过程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0.4.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检测浏览器是否支持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rver-Sent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事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0.4.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EventSource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对象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0.4.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编写服务器端代码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0.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创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Web Worker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计数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35976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0.6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服务器发送事件实战应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648320" cy="438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57:20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