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EF1D-DCE9-4DA8-81C5-21BE3146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8AFB-9688-407C-9B68-2034715D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E61A-0A18-4773-BF32-C4575D81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DAD1-2DC2-4165-B319-95099D72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CA81-2B30-4E7E-9DE0-E55D39DF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EBB2-38B5-42EF-AABF-DFDFE608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D079-15BA-44C7-83B6-28A31086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A235-B7A6-4328-A10A-F632ACDC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EA9C-29FC-4A6C-A083-4630DF65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886C-FC7E-4631-B971-D5E8910C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2D6B-B5AC-4C3C-B8B5-97C19414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81DC-3BC5-4970-B974-0EAD2B4A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3CDB-55E5-4C8D-9049-1BCBEA0A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99E5-62CE-4F4D-B762-355370DB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8D76-1D56-4437-A8CF-9444DB0C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53ED-C8F7-4308-B5E9-F4554398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0413-139D-492B-A9D2-CF604217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242F-A956-48ED-B278-3D68BC41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06B0-EDBB-46D9-8F62-C754FE1C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B17B-5AF5-455D-AF9E-45FBF8E7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CFA4-BA79-4EEE-A53E-7794985E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340-7C1D-450E-8150-9190E760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229E-CD4A-4DA0-B5E2-9EFACD96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7684-D5FA-40FA-B7D9-B54198A8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B8CB-4D6D-474D-8771-16C9A49B9FEF}" type="slidenum">
              <a:rPr b="0" lang="en-US" sz="12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6416-94A1-446C-8D15-327FF3EC68A9}" type="slidenum">
              <a:rPr b="0" lang="en-US" sz="12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本课内容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2600" y="1752480"/>
            <a:ext cx="78915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7.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　选 择 文 件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7.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　使用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leReader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接口读取文件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7.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　使用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HTML5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实现文件的拖放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7.4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　综合案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在网页中来回拖放图片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7.5 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跟我学上机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在网页中拖放文字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7.1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　选 择 文 件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0912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7.1.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　择单个文件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7.1.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　选择多个文件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7.2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　使用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FileReader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接口读取文件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425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7.2.1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　检测浏览器是否支持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leReader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接口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7.2.2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　 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leReader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接口的方法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7.2.3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　使用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readAsDataURL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方法预览图片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7.2.4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　使用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readAsText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方法读取文本文件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7.3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　使用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HTML5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实现文件的拖放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7.3.1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　认识文件拖放的过程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7.3.2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　浏览器支持情况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7.3.3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　在网页中拖放图片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7.4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　综合案例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在网页中来回拖放图片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5638680" cy="448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7.5 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跟我学上机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在网页中拖放文字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6" name="图片 1" descr=""/>
          <p:cNvPicPr/>
          <p:nvPr/>
        </p:nvPicPr>
        <p:blipFill>
          <a:blip r:embed="rId1"/>
          <a:stretch/>
        </p:blipFill>
        <p:spPr>
          <a:xfrm>
            <a:off x="4776840" y="1752480"/>
            <a:ext cx="4346640" cy="36385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" descr=""/>
          <p:cNvPicPr/>
          <p:nvPr/>
        </p:nvPicPr>
        <p:blipFill>
          <a:blip r:embed="rId2"/>
          <a:stretch/>
        </p:blipFill>
        <p:spPr>
          <a:xfrm>
            <a:off x="93600" y="1692360"/>
            <a:ext cx="4481640" cy="3759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iangukeji</cp:lastModifiedBy>
  <dcterms:modified xsi:type="dcterms:W3CDTF">2018-02-07T10:30:59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