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B26-83FE-4877-8301-141429F6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9C8-EB00-4B47-9B4C-445D14AA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5D6-EF87-4E1F-9BED-6C762D4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EFB-1BD5-47B3-8DAB-71E3744C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8822-BD77-418E-BE42-DDF20775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FA1-3D02-4275-BC2F-7F5314E6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D0E-D947-455B-896F-0CB75CC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0167-8A8B-43FD-A081-C294198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426-D974-4766-B8AD-5877E69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B2E-7AF2-405C-BC33-8D57600E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E2E6-726C-4635-A302-E02AE8E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AFC-8A6D-43F9-A2BA-A4FA2E20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1CAB-D308-460D-86D7-180A409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396-4523-4A78-8211-3584899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103A-6369-4208-A9B3-B2C4F3B9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1424-D300-49B5-8CE2-09BB9A1C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4E6-0057-4C81-894A-591BDC5F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48B-4206-4D43-B3B7-3A04B8B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57D-6F83-4CD2-9739-A254D9D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FC1-4928-4934-895E-FE72DC7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312-1FDD-49F0-BB7F-DFB8143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8A7-60B4-41B7-BF32-698279E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83E-D4A4-49C5-882A-9B4C964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F5A-872C-46E7-96DF-019B768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D9E3-D626-4807-AE28-A96ED743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3F1-6F56-4A1F-9C67-AA728F91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中的多媒体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音频标签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视频标签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3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添加网页音频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4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添加网页视频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5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添加网页滚动文字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6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网页音频标签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audio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1.1   audio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签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1.2   audio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签的属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1.3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音频解码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.1.4   audio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签浏览器的支持情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6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网页视频标签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video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2.1   vide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概述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2.2   vide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的属性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2.3 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视频解码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2.4   vide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浏览器的支持情况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6.3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添加网页音频文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背景音乐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音乐循环播放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6.4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添加网页视频文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640" y="1752480"/>
            <a:ext cx="8501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4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为网页添加视频文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4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自动运行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4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视频文件的循环播放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.4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6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视频窗口的高度与宽度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6.5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添加网页滚动文字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7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文字标签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8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方向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方式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0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速度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1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延迟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2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循环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7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3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范围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8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4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背景颜色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.5.9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滚动空间属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er</cp:lastModifiedBy>
  <dcterms:modified xsi:type="dcterms:W3CDTF">2017-02-23T05:22:33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