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5A8-D5C6-4463-BA9A-16C16621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ABA-F80B-49D7-BCC9-503B95A1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902-B1BA-4ACF-B3B4-15664B95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388-2BC5-4310-AAAB-454A5740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344-8BED-4710-9E28-91394AA5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15E-C290-4A9E-A50E-54F3F4EC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0689-D388-417E-86C2-8E84680D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FBF0-E79F-46F6-B349-8B1EC111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26E6-A15E-4FC2-ACFB-E8FE9C1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8F38-C5B4-4583-A577-6263F99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120A-19FF-4B4C-A215-061975A9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F91-236E-4ED7-9754-60344AF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C187-3994-48EB-A98F-D5482EB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0610-9332-43C3-857B-24F872C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1AA5-6065-4AB4-826C-3321C377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93F2-4C20-4A74-B722-D27917B0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E6C0-D8A8-4537-8165-7C685394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802-2342-46E2-8F15-42525B5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9DC-8868-4844-80CB-CF693B67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2F0-EEDF-454A-8CC5-101E8357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377-39D6-4DC7-B0AC-5D0428F3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A4A-7F48-4BEC-978B-FCC18B2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335-70A4-4197-ADF6-3187269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1A2-E7D0-4E12-A248-1ACE484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441A-B4E8-4B0F-ABB1-85A8D7F67A5F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1B3D-40E1-447B-9568-D5A12CC6D6EA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课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891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6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了解过渡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6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添加过渡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6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了解动画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6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添加动画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6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了解过渡效果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SS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中，过渡效果主要指网页元素从一种样式逐渐改变为另一种样式的效果。能实现过渡效果的属性如下：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⑴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ransition :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过渡属性的简写版，用于在一个属性中设置下面四个过渡属性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⑵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ransition-delay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用于规定过渡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属性的名称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⑶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ransition-duratio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用于定义过渡效果话费到时间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⑷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ransition-property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用于规定过渡效果的时间曲线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⑸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ransition-timing-function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规定过渡效果何时开始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6.2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添加过渡效果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57520" cy="3124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76920" y="2035080"/>
            <a:ext cx="4133880" cy="3451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30492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770360" y="37411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16.3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了解动画效果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在添加动画效果之前，用户需要了解有关动画的属性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⑴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@keyfram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的规则。包括一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样式和动画将逐步从目前的样式更改为新的样式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⑵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除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play-stat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属性以外，其它所有动画属性的简写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⑶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name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定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@keyframes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动画的名称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⑷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durat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完成一个周期所花费的秒或毫秒。默认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⑸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timing-funct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的速度曲线。默认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"ease"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⑹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delay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z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何时开始。默认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⑺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iteration-cou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被播放的次数。默认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⑻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direct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是否在下一周期逆向地播放。默认是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"normal"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⑼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animation-play-stat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：规定动画是否正在运行或暂停。默认是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"running"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6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添加动画效果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35780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581280" cy="305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04:40:08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