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38F-6A69-451D-8ECF-C9ECA9DA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7476-AEC7-45A7-A690-272A91AE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7D46-C5C1-43EA-98D4-8AC437A7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9052-FE0A-4163-8D67-48BCCF5F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F8BF-C2B7-48E2-A1C7-8556B50E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2243-1425-42E4-8D86-608007D2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4889-730E-4CC9-ADA7-13E00434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C66C-7B9C-48DA-8679-1CA2EA9E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9963-7E38-425C-AA16-3C5FA1E6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E0C9-F4F8-47F7-847A-9CA4BA98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8457-642B-435B-B393-28FEE765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E49-30A1-4128-B083-6C90AD69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54C9-A7DC-4328-8DA9-5BDC944A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8E70-9BEE-4D33-AF5C-0F3A3768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E16F-D2E2-4BF4-9ABC-9FF074AE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AE9D-E33E-423F-AA0A-2AE64CFB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ED91-D9D4-4052-A861-DCA19853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FD2-9550-446F-A563-D70ACBCA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76F-E577-4EFB-899D-9C581D45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E7A-34C3-4E49-A79F-56D5B2FA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87B7-1B27-421A-BE7F-60334F95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9626-DF7C-44FB-B8A3-06C02C4A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0F3-BA61-430A-B03F-B7717658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1EC4-70FF-4A69-BBCF-D4628FD1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F0AF-3E3E-45FC-A816-24694E234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E3BF-41A9-4665-B021-B26DCE634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1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章 使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CSS 3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美化网页背景与边框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章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960" y="1752120"/>
            <a:ext cx="85010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1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使用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SS 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美化背景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1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使用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SS 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美化边框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1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设置边框的圆角效果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1.4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制作简单的公司主页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1.5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跟我学上机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制作简单的生活资讯主页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11.1  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使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CSS 3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美化背景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980720"/>
            <a:ext cx="7586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1.1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设置背景颜色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1.1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设置背景图片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1.1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背景图片重复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1.1.4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背景图片显示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1.1.5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背景图片的位置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1.1.6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背景图片的大小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1.1.7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背景的显示区域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1.1.8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背景图像的裁剪区域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1.1.9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背景复合属性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1.2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使用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SS 3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美化边框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1.2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边框的样式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1.2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边框的颜色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1.2.3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边框的线宽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1.2.4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边框的复合属性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1.3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设置边框的圆角效果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480"/>
            <a:ext cx="8348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1.3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圆角边框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1.3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指定两个圆角半径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1.3.3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绘制四个不同角的圆角边框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1.3.4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绘制不同种类的边框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60" y="304920"/>
            <a:ext cx="9026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1.4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制作简单的公司主页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324480" cy="422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1.5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跟我学上机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制作简单的生活资讯主页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7" name="图片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477120" cy="4560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iangukeji</cp:lastModifiedBy>
  <dcterms:modified xsi:type="dcterms:W3CDTF">2018-02-07T10:07:16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