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890-6AD5-4E23-9D0F-91324AEB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AF1-BE3A-485F-B741-9F98B108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AB8-9DD7-4C99-99A0-F76B0838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C79-1289-4EF7-9D92-B937D0FE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D13A-6F5B-4955-9FE1-77012009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0650-32C3-4EA8-ACF5-5C34B88B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CFA6-38DE-4097-9C28-3AED59CC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75EB-0499-4ED7-91C2-49F108A7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8162-47D5-4F5E-B464-7A5735FD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B7C5-603D-4D69-83F4-7232F479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2D8C-6F30-4730-8D57-5B9527DD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92F-115B-41AC-8402-0A20F984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E9BE-8BD2-40F7-8D10-6D1768C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C29B-9472-49FA-BF00-7C8D2306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7405-EE9A-4194-BEB0-D182F710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74D4-5694-400C-A02C-699FAD53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8A65-BB1A-4DBA-8274-DAF0D5BD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BFF-7179-4290-AE6D-12F257F5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1E8-6F38-4854-B80B-04337DD3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5F6-96F7-495B-A73D-BE8A0B94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020-808B-4B79-9F55-1CC57717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F99-D4BD-4D1F-8E6E-795A520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756-DF84-4352-A6E5-FA95C608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835-D48B-48EA-861F-56AD826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64B6-7EAD-476E-B6BE-C8D7C356C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D16E-8113-43B7-A246-59A3A1935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使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美化网页字体与段落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7891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美化网页文字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文本的高级样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美化网页中的段落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网页标题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新闻页面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9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美化网页文字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828800"/>
            <a:ext cx="7586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1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文字的字体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文字的字号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1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字体风格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1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加粗字体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1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将小写字母转为大写字母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1.6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字体的复合属性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9.1.7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字体颜色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9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设置文本的高级样式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425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2.1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置文本阴影效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2.2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置文本的溢出效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2.3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置文本的控制换行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2.4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保持字体尺寸不变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9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美化网页中的段落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3.1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置单词之间的间隔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3.2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置字符之间的间隔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3.3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置文字的修饰效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3.4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置垂直对齐方式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3.5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转换文本的大小写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3.6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置文本的水平对齐方式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3.7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置文本的缩进效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3.8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置文本的行高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3.9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文本的空白处理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.3.10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文本的反排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763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9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设置网页标题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019920" cy="420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9.5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新闻页面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812880" y="1752480"/>
            <a:ext cx="77580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09:48:41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