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DB9-234E-4BF1-8C93-30DCD47C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7E2-0E2B-4ECC-9CDE-F362075A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5D3-0166-47A0-939C-1E240A12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2F4-78D4-48E2-8229-2F858C43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A8B1-BDFF-4630-93B6-3C62A916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BE49-1AA4-4177-90D5-27DCC5AA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DFA5-20C4-4065-B35D-16D663D5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8E85-0BC5-4855-926E-6726C7ED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E7C5-4287-4F4B-B697-694C66BC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2638-217C-45F8-88F6-C147A343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8CE2-8481-4A6F-907B-41D13316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4E2-D9EC-42CB-A2F7-B7939D95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F9C8-278F-4497-8F4A-200C1C27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9A0F-2863-48DD-BD3C-662821A7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B60D-8FF3-4E3C-AAF3-0882B6AC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043D-7C00-4CD7-9D60-3811809D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8201-9AE1-4CAA-BACE-9429A46C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A94-336D-458B-9CAD-B93A8AFF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208-FA7E-4639-89EE-6FD67528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FC1-E0CC-47FF-B390-3B752111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AAD-C005-4A88-A2D2-3EDB8DE7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505-8455-45BE-846E-F67905EE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CAF-DE5D-4453-9537-3D176759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B7F-6CAA-4194-B34A-B7BF3BC3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284C-344F-42FB-A608-D34DF7C27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875D-CF03-42CE-86F0-325103835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 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概述与基本语法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8.5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选择器声明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.5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集体声明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.5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多重嵌套声明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4931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8.6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制作炫彩网站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Logo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下面通过制作一个五彩标题来体会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的使用方法。使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，可以给网页标题设置不同的字体样式。即建立一个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规则，将样式应用到页面中出现的所有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&lt;h1&gt;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标记（或者是整个站点、当使用一个外部样式表的时候）。随后，如果我们想改变整个站点上所有出现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&lt;h1&gt;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标记的颜色、尺寸、字体，只需要修改一些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规则。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8.7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制作学生信息统计表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1019160" y="2286000"/>
            <a:ext cx="7112160" cy="297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752120"/>
            <a:ext cx="7891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8.1  CSS 3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概 述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8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编辑和浏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SS 3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8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HTML 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中使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的方法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8.4  CSS 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的常用选择器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8.5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选择器声明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8.6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制作炫彩网站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8.7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制作学生信息统计表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8.1  CSS 3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概 述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980720"/>
            <a:ext cx="7586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8.1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为什么要使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SS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8.1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浏览器与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SS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8.1.3  CSS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的注释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8.1.1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为什么要使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CSS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⑴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维护困难，为了修改某个特殊标记格式，需要花费很多时间，尤其对整个网站而言，后期修改和维护成本较高。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⑵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标记不足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HTM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本身标记十分的少，很多标记都是为网页内容服务，而关于内容样式标记，例如文字间距、段落缩进很难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HTM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中找到。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⑶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网页过于臃肿，由于没有同意对各种风格样式进行控制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HTM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页面往往体积过大，占用掉很多宝贵的宽度。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⑷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定位困难，在整体布局页面时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HTM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对于各个模块的位置调整显得捉襟见肘，过多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abl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标记将会导致页面的复杂和后期维护的困难。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8.1.2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浏览器与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CSS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制定完成之后，具有了很多新功能，即新样式。但这些新样式在浏览器中不能获得完全支持。主要在于各个浏览器对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很多细节处理上存在差异，例如一种标记某个属性一种浏览器支持，而另外一种浏览器不支持，或者两者浏览器都支持，但其显示效果不一样。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如果所有浏览器都支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样式，那么网页设计者只需要使用一种统一标记，就会在不同浏览器上，显示统一样式效果。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8.1.3  CSS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的注释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注释可以帮助用户对自己写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件进行说明，如说明某段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代码所作用的地方、功能、样式等，以便以后维护具有一看即懂的方便性，同时在团队开发网页的时候，合理适当的注释有利于团队看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样式是对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htm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哪里的，以便顺利快速开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div cs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网页。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的注释样式如下。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./* bod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定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.body{ text-align:center; margin:0 auto;} 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/*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头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定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.#header{ width:960px; height:120px;}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8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编辑和浏览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SS3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.2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手工编写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SS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.2.2  Dreamweaver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编写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SS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8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在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HTML 5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中使用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的方法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.3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行内样式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.3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内嵌样式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.3.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链接样式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.3.4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导入样式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.3.5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优先级问题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8.4  CSS 3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的常用选择器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.4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标签选择器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.4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类选择器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.4.3  ID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选择器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.4.4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全局选择器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.4.5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组合选择器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.4.6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选择器继承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.4.7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伪类选择器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09:33:52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