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46F-A8D8-49DD-8E24-EDE56EA3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CB2-F6F3-4E3A-8A0F-9B7F9437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BC95-438D-48C1-89D3-9FC72BAD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94A-73B8-4572-AF79-965026A9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6D62-172C-4709-9DE8-58B3B2CE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A885-B87A-4733-AE51-207D9D34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0157-E65B-4CB4-BFCE-14A4390B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5D0C-B43C-478C-A47C-794D3308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1652-5492-47B8-B106-FD286202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C4E8-A606-4E55-AA09-317F5C83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519E-5BAC-4630-804C-13455A64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CCF-FFB5-4FCC-A5EE-DFC3650C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1E1D-AFBE-4A26-8137-B39BBBE7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EC5E-8591-4E1C-8E70-EB635669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8F6E-7320-4BA3-BB9D-1120C905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0283-5213-4D17-B314-1EF45D9D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FFC1-A7B9-4189-9DD3-D12A8FAA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983-785E-4B32-96CF-029071CA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6E7-7371-40D6-9991-8FD538E8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33B-CC28-4C9F-951A-8A6234D2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FEE-7949-4B45-856B-4068C24B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CE1-85F8-4B39-91CE-1E998FD1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709-BF90-42C7-9071-553A08A6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222-8F5A-46FF-9BF0-676192AE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5D35-C83E-4F4D-8392-526A47322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5AD4-BC98-4C89-A645-008BBAF13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22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 网页布局经典案例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752120"/>
            <a:ext cx="8196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2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固定宽度网页剖析与布局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2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自动缩放网页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-2-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型布局模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2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自动缩放网页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-3-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型布局模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2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分列布局背景色的使用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2.5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多列等比例宽度变化布局的列背景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2.6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“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-3-1”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中列和左侧列宽度固定的变宽布局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9503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22.1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固定宽度网页剖析与布局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980720"/>
            <a:ext cx="85773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2.1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网页单列布局模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2.1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网页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-2-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型布局模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2.1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网页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-3-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型布局模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2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自动缩放网页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-2-1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型布局模式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2.2.1  “1-2-1”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等比例变宽布局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2.2.2  “1-2-1”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单列变宽布局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417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2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自动缩放网页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-3-1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型布局模式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480"/>
            <a:ext cx="8425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2.3.1  “1-3-1”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三列宽度等比例布局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2.3.2  “1-3-1”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单侧列宽度固定的变宽布局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2.3.3  “1-3-1”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中间列宽度固定的变宽布局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2.3.4  “1-3-1”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双侧列宽度固定的变宽布局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2.4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分列布局背景色的使用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2.4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固定宽度布局的列背景色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2.4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特殊宽度变化布局的列背景色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2.4.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单列宽度变化布局的列背景色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2.5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设置多列等比例宽度变化布局的列背景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523280" cy="41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2.6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“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-3-1”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中列和左侧列宽度固定的变宽布局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574560" y="1828800"/>
            <a:ext cx="754236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11:06:29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