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D1E-5A93-4078-B1CA-71234FC7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0D04-1697-439D-BAED-2DFD3ED2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1024-374D-4249-8DE6-C6CA79E7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48F2-004D-4D0F-8A82-30E0F25A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7BB6-1274-4E61-AE88-81A8A7D7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7B8A-9C00-4ADF-BE9E-7C8AC2E1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2FA0-B7D0-4DD5-AB14-D3C4AEDA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C656-5287-4B9A-B70F-381BB376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CD14-287D-490E-976A-8ADB9644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6C8A-FCB0-4DEA-97A5-DB00135D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CED9-6604-4368-B9FD-37A45C6E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3A9-5B0B-4E42-A74C-9764AE27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10AE-AE8E-4DE9-B7FC-8F5BF97F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EC84-7A85-4E00-BC9C-F38E22F7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1B0B-3AFB-49CC-B584-1884EBCB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907C-9BF2-43CB-B09A-C86EA60E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D35E-7AF6-462E-8893-630E6C65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5BE-40C3-46BB-888B-21F3B34D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C9F-5552-4181-84A4-A52668FC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4C7-1FB2-4862-A203-01CC7E17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CDC-3F33-4FE3-AD3F-F8E3AB0E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EBB-AF5A-482D-AB22-3C887BF1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0BEB-6297-42EB-A71E-654E0B1D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AB0-5CF6-4E61-9ECC-9CBE448A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D922-7EA8-467C-A9CB-B72B02121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0B80-BD08-4AB5-9F4B-650BF88F9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章  网页表格的设计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本章内容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600" y="1752120"/>
            <a:ext cx="78915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4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表格基本结构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4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创建表格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4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设置表格属性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4.4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综合实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制作计算机报价表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4.1  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表格基本结构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980720"/>
            <a:ext cx="7586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4.1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表格概述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4.1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用于创建表格的标记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4.2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创建表格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4.2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创建普通表格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4.2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创建带有标题的表格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4.2.3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创建完整的表格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4.3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设置表格属性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4.3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定义表格的边框类型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4.3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定义表格的表头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4.3.3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设置表格背景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4.3.4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设置单元格背景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4.3.5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合并单元格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4.3.4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排列单元格中的内容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4.3.7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设置单元格的行高与列宽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4.3.8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设置横跨列与行的表格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4.4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综合实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制作计算机报价表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利用所学的表格知识，制作计算机报价表。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iangukeji</cp:lastModifiedBy>
  <dcterms:modified xsi:type="dcterms:W3CDTF">2018-02-07T06:08:56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