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EF54-9534-47CD-9A17-BA66CDC0B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330C-4F14-4DF0-8D7F-19571F00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DC6B-F7F9-46AD-B723-365D0BEC5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32CA-C950-4FA3-A957-0F5C691AC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25C2-0480-4298-9C0F-1D3555AC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7995-4219-44A4-A7C6-D73349D9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AC34-F234-4CF2-9C0A-9E762276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A0EB-8042-49F9-8FEF-7E9608FA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4A08D-08C2-4962-82B2-3C884806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FE04-263E-4A99-8B30-A2174A70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34B8-0C06-4C75-A67E-58C1AB02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E1C6-7DFA-46BB-890D-451335AA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E7E7-12DB-4935-A5EF-10338D1A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4D62-CB48-43F2-B66F-05DEEF2C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1D7D-29E9-484A-AE08-01C8F921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84E4-F696-4B1C-A533-9BC468A3F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B9F1-36F8-4711-9298-A4083E152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1C0C-E641-43EF-988C-A51E534A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8430-4758-482C-99E9-332723D9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7E19-1039-4557-ADB1-546CAED2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692F-A973-4B25-BEB3-8FEDC675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461E-A9B3-44EF-9A2E-321276F3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715A-3226-45E5-AE23-CB34492E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458C-BCC5-4B16-9500-0332DB1D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B61C-2810-44B5-8390-5ABFFBC28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5FF8-F883-493C-91D5-8340FB752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7732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24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章  设计在线购物类网页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24.2.4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页脚区域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9500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例的页脚使用一个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DIV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标签放置一个版权信息图片，比较简洁，如图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24-7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所示。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7" name="图片 1" descr=""/>
          <p:cNvPicPr/>
          <p:nvPr/>
        </p:nvPicPr>
        <p:blipFill>
          <a:blip r:embed="rId1">
            <a:grayscl/>
            <a:lum bright="-6000"/>
          </a:blip>
          <a:stretch/>
        </p:blipFill>
        <p:spPr>
          <a:xfrm>
            <a:off x="762120" y="3200400"/>
            <a:ext cx="7468920" cy="1523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408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24.3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设 置 链 接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本例中的链接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标签定义如下：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a{text-decoration:none;}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a:visited{text-decoration:none;}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a:hover{text-decoration:underline;}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本章内容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2600" y="1752480"/>
            <a:ext cx="86533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24.1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整体布 局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24.2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模块分割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24.3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设 置 链 接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1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24.1  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整体布 局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66640" y="1752480"/>
            <a:ext cx="8577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24.1.1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设计分析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24.1.2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排版架构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24.1.1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设计分析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购物网站一个重要的特点，就是突出产品、突出购物流程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优惠活动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促销活动等信息。首先，要用逼真的产品图片来吸引用户，结合各种吸引人的优惠活动、促销活动来增强用户的购买欲望，最后，在购物流程上要方便快捷，比如货款支付情况，要给用户多种选择的可能，让各种情况的用户都能在网上顺利支付。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在线购物类网站的主要特性体现在如下几个方面。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商品检索方便：要有商品搜索功能，有详细的商品分类。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有产品推广功能：增加广告活动位，帮助特色产品推广。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热门产品推荐：消费者的搜索很多带有盲目性，所以可以设置热门产品推荐位。对于产品要有简单、准确的展示信息。页面整体布局要清晰、有条理，让浏览者知道在网页中如何快速地找到自己需要的信息。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24.1.2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排版架构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93" name="图片 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028880" y="1676520"/>
            <a:ext cx="7092720" cy="426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24.2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模 块 分 割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24.2.1  Logo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与导航区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24.2.2  Banner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与资讯区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24.2.3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产品类别区域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24.2.4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页脚区域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24.2.1  Logo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与导航区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导航使用水平结构，与其他类别网站相比，是前边有一个购物车显示情况的功能，把购物车功能放到这里，用户更能方便快捷地查看购物情况。本示例中网页头部的效果如图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24-3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98" name="图片 1" descr=""/>
          <p:cNvPicPr/>
          <p:nvPr/>
        </p:nvPicPr>
        <p:blipFill>
          <a:blip r:embed="rId1">
            <a:grayscl/>
            <a:lum bright="-6000"/>
          </a:blip>
          <a:stretch/>
        </p:blipFill>
        <p:spPr>
          <a:xfrm>
            <a:off x="685800" y="3594240"/>
            <a:ext cx="7599240" cy="1663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24.2.2  Banner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与资讯区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66280" y="1752480"/>
            <a:ext cx="8425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购物网站的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Banner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区域与企业型比较起来差别很大，企业型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Banner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区多是突出企业文化，而购物网站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Banner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区主要放置主推产品、优惠活动、促销活动等。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1" name="图片 1" descr=""/>
          <p:cNvPicPr/>
          <p:nvPr/>
        </p:nvPicPr>
        <p:blipFill>
          <a:blip r:embed="rId1">
            <a:grayscl/>
            <a:lum bright="-6000"/>
          </a:blip>
          <a:stretch/>
        </p:blipFill>
        <p:spPr>
          <a:xfrm>
            <a:off x="838080" y="3124080"/>
            <a:ext cx="7926480" cy="2895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24.2.3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产品类别区域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产品类别也是图文混排的效果，购物网站中大量运用图文混排方式，如图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24-5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所示为化妆品类别区域，如图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24-6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所示为女包类别区域。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4" name="图片 1" descr=""/>
          <p:cNvPicPr/>
          <p:nvPr/>
        </p:nvPicPr>
        <p:blipFill>
          <a:blip r:embed="rId1">
            <a:grayscl/>
            <a:lum bright="-6000"/>
          </a:blip>
          <a:stretch/>
        </p:blipFill>
        <p:spPr>
          <a:xfrm>
            <a:off x="762120" y="3048120"/>
            <a:ext cx="7543800" cy="3524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qiangukeji</cp:lastModifiedBy>
  <dcterms:modified xsi:type="dcterms:W3CDTF">2018-03-03T04:06:48Z</dcterms:modified>
  <cp:revision>1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