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6C1B-0CDF-42D1-8A98-C505A3232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41E6-8BA8-471E-9527-2B280E59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4F0B-7912-45E3-8EAC-6AEDC6EF4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EFB1-3B4B-4329-97FF-6578C9F4A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B9A9-C514-4FFC-867A-B07C3A92F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0C3CA-8B8B-4816-A3F8-97771A9E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9BE5-6124-41CB-B616-0473CFE2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8B9D-1BF5-437C-8892-F2513AA1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2E9E1-F332-4707-9928-7A8985BD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7976-528D-44E7-9D57-661DDBE9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97A0-95D1-4C03-A22D-800D75C4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4860-3574-4927-A7BB-7419141A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CF9D-2E39-4767-8E44-BFDBD025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E8A1-B24E-4675-A4AF-C9B63354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E0D0-E198-4B55-80CA-073F3730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D69F8-435D-4157-AA29-BC612A018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F524-AFFC-4B9C-8D81-328634AAC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EDEE-E22C-47D1-A301-587EE4DF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5143-2885-4F01-B92C-E5F7A243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C5C1-EEDD-4A4B-857E-8841CB11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2DAD-7EDF-4DA1-84D6-BC255893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930A-813D-479F-9C78-2446E6BA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13E5-FE1C-4940-A7D6-EE7D9F51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EB54-EE59-4F29-89CF-125F1660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D811-908E-43CD-85C5-0C1B0F55C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D6A8-D145-44BF-9534-B3F3535CB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838224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第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</a:rPr>
              <a:t>13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章  使用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</a:rPr>
              <a:t>CSS 3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美化表格和表单的样式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本章内容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2600" y="1752120"/>
            <a:ext cx="78915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3.1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表格基本样式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3.2  CSS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与表单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3.3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综合实例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隔行变色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3.4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综合实例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2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表格图文网页布局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3.5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综合实例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3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变色表格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3.6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综合实例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4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登录表单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3.7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综合实例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5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注册表单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1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</a:rPr>
              <a:t>13.1  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表格基本样式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640" y="1980720"/>
            <a:ext cx="758664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3.1.1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表格边框样式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3.1.2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表格边框宽度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3.1.3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表格边框颜色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13.2  CSS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与表单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13.2.1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美化表单中元素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13.2.2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美化提交按钮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13.2.3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美化下拉菜单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13.3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综合实例</a:t>
            </a: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1——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隔行变色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66280" y="1752480"/>
            <a:ext cx="78915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当使用表格显示大量数据的时候，由于表格的行和列比较多，此时单元格再采用相同的背景色，用户在查看数据时会感到非常凌乱，并且容易读数据出错。通常的解决办法就是采用隔行变色，使得奇数行和偶数行的背景色不一样，从而达到数据的一目了然。本节将结合前面学习的知识，创建一个隔行变色实例。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5694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13.4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综合实例</a:t>
            </a: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2——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表格图文网页布局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316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文字和图片等对象的定位是网页设计中的难点，用表格布局网页结构是一种非常重要，也是最为常用的方法，同时也是网页设计的重点。通过单元格可以对文本或图片进行定位，以达到布局整齐。本实例将结合前面学习的知识，实现通过表格对图片和文字进行布局。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13.5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综合实例</a:t>
            </a: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3——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变色表格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如果长时间浏览大量数据和浏览表格，即使使用了隔行变色的表格，阅读时间长了仍然会感到疲劳。如果数据行能动态根据鼠标悬浮来改变颜色，就会使页面充满动态效果，会大大减少用户疲倦。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13.6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综合实例</a:t>
            </a: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4——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登录表单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66280" y="1752480"/>
            <a:ext cx="8425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在网页设计时，构建一个登录表单是非常常见的事情。登录表单在验证用户时扮演着重要的角色，可以保护一些敏感数据不被非法用户访问。设计和构建登录表单时，尽量使其简单，并且避免将一个表单用于多个任务。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13.7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综合实例</a:t>
            </a: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5——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注册表单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66280" y="1752480"/>
            <a:ext cx="83487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在网页设计时，构建一个登录表单是非常常见的事情。登录表单在验证用户时扮演着重要的角色，可以保护一些敏感数据不被非法用户访问。设计和构建登录表单时，尽量使其简单，并且避免将一个表单用于多个任务。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qiangukeji</cp:lastModifiedBy>
  <dcterms:modified xsi:type="dcterms:W3CDTF">2018-02-07T10:17:30Z</dcterms:modified>
  <cp:revision>1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