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706-DBC8-4F4E-89DD-E8E3FB78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E8A-B74B-4746-BE26-C049527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B71-A652-4AF3-A3C6-183B5344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D1E-276A-40B5-8442-3989EF6E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B202-E726-4F0D-B3C5-AE324FB6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0BF3-EBC0-4CE4-A1DA-3F262BF9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CAA1-16B4-49A7-8A6A-30990620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BA53-E8F0-4665-8170-36A5A37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CB38-8525-4713-91FA-3BED96F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54D7-3188-4708-BFBD-0C668AD3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A25B-DCEE-48D9-A2C3-73BC8F2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AA0-782C-49A9-9302-05B103BE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5F9B-998B-485D-B59E-EF5356AE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CAF-BC80-49DB-AFD4-7044077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BD6B-B2C8-4976-B7A1-CD9FFEC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96B6-4A08-46A2-A68E-A3A0B845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4433-3D21-4B98-873F-4F99DC41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2B9-7D21-4986-8D17-CAD7CACE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8AB-CBF5-47A9-B8A1-042EA99D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CAD-82BD-40D6-8742-EDFDED38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4CA-60A4-4441-A12A-A74B2F2F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D9A-C9A7-4DB3-BE02-01AADD4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AFE-D9BA-4FB8-8E6B-296DE34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707-936B-4411-A0FE-1347CC1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CF8A-E213-4D6E-979F-FA9BBD196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82B9-95E8-4150-9BCC-74C986D6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设计企业门户类网页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2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版权信息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版权信息一般放置到页面底部，用于介绍页面的作者、地址信息等，是页脚的一部分。页脚部分与其他网页部分一样，需要保持简单、清晰的风格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IE 11.0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中浏览，效果如图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3-6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所示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4495680"/>
            <a:ext cx="7818480" cy="99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 置 链 接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本例中的链接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标签样式定义如下：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a:link,a:visited,a:active{text-decoration:none; color:#343434;}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a:hover{text-decoration:underline; color:#5F5F5F;}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8653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3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构 思 布 局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3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内 容 设 计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3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 置 链 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构 思 布 局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3.1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设计分析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3.1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排版架构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1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计分析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作为一个电子科技公司网站的首页，其页面需要简单、明了，给人以清晰的感觉。页头部分主要放置导航菜单和公司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信息等，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可以是一张图片或者文本信息等。页面主体左侧是新闻、产品等信息，其中产品的链接信息以列表形式对重要信息进行介绍，也可以通过页面顶部的导航菜单进入相应的介绍页面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对于网站的其他子页面，篇幅可以比较短，其重点是介绍软件公司的业务、联系方式、产品信息等，页面需要与首页风格相同。总之，科技类型企业的网站重点就是要突出企业文化、企业服务特点，通常具有稳重厚实的色彩风格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1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排版架构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752480"/>
            <a:ext cx="5597280" cy="437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内 容 设 计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3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JavaScript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技术实现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与导航菜单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3.2.2  Banner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区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3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资讯区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3.2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版权信息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2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JavaScript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技术实现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与导航菜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一般情况下，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信息和导航菜单都是放在页面顶部，作为页头部分。其中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信息作为公司标志，通常放在页面的左上角或右上角；导航菜单放在页头部分和页面主体二者之间，用于链接其他的页面。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IE 11.0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中浏览，效果如图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3-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所示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4572000"/>
            <a:ext cx="8567640" cy="119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2.2  Banner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区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Banne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区中显示了一个图片，用于显示公司的相关信息，如公司最新活动、新产品信息等。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Banne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区的重点在于调节宽度，使不同浏览器之间能够效果一致，并且颜色上配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和上面的导航菜单，使整个网站和谐、大气。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IE 11.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中浏览，效果如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23-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所示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>
            <a:grayscl/>
          </a:blip>
          <a:srcRect l="0" t="0" r="0" b="7846"/>
          <a:stretch/>
        </p:blipFill>
        <p:spPr>
          <a:xfrm>
            <a:off x="685800" y="2971800"/>
            <a:ext cx="763128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3.2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资讯区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在资讯区内包括三个小部分，该区域的文本信息不是太多，但非常重要。是首页用于链接其他页面的导航链接，例如公司最新的活动消息、新闻信息等。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IE 11.0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中浏览，页面效果如图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3-5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所示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41440" y="4419720"/>
            <a:ext cx="776592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3-03T04:05:56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