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BED-7E65-42C8-A9BF-C592B32E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93D-7661-4388-AA01-2C5BB0F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284-7B4B-4CDB-9D69-8414B0B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9A3-8E64-476D-B525-6FAD6574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35C-E0B3-4856-B08D-B409681E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B33-954B-4880-8396-75AEF55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D249-4500-4875-8E84-0A65650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8338-08E9-46F4-AF12-BDB96A6E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DDA6-1F54-4DA6-A00C-0A8E3A4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8E3-735B-482F-AFE9-4517628C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8B8-1DB4-4FB5-AF3D-AFDC26B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F13-E332-4FEB-826E-5AB81AF5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7989-C96A-4965-A323-BB3E77A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6AE3-F40E-4FE9-911F-8761A73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37F-EEF9-4FB1-A8EB-E495A1C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E92-3F30-4E74-B1FB-0749EC4C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958-3B73-45DD-9818-8B2FB4CD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F65-24EC-41F1-BD68-E8EA1C6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4F7-3CDA-4DA6-8C3C-017732CE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32D-A89D-4F03-9E91-34698334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70E-A0F2-4684-A29C-A2413F5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5ED-D5A2-4688-B255-5D25289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1D5-B317-4A9F-B6FD-E193594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2F1-280B-4B15-BE50-8290E43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13B-989E-4F1B-ACFF-4AD4AAA98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2B90-181F-41E9-98BE-F0EA6A7E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章  使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美化网页图片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本章内容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960" y="1752120"/>
            <a:ext cx="8424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图 片 缩 放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设置图片的对齐方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图 文 混 排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4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学校宣传单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5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制作简单的图文混排网页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</a:rPr>
              <a:t>10.1  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图 片 缩 放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980720"/>
            <a:ext cx="8348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1.1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通过描述标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idth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eigh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缩放图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1.2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中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max-width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max-heigh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缩放图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10.1.3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使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SS 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中的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width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heigh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缩放图片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0.2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设置图片的对齐方式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0.2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图片的横向对齐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0.2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图片纵向对齐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0.3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图 文 混 排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文字环绕效果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微软雅黑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设置图片与文字的间距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0.4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综合案例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学校宣传单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</a:rPr>
              <a:t>每年暑假时，学校招收就铺天盖地，大量的宣传单页到处都是。本实例模仿一个学校宣传单，进行图文混排，从而加深前面学习的知识。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10.5  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跟我学上机</a:t>
            </a:r>
            <a:r>
              <a:rPr b="0" lang="en-US" sz="3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3800" spc="-1" strike="noStrike">
                <a:solidFill>
                  <a:srgbClr val="000000"/>
                </a:solidFill>
                <a:latin typeface="微软雅黑"/>
              </a:rPr>
              <a:t>制作简单的图文混排网页</a:t>
            </a:r>
            <a:endParaRPr b="0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1546200" y="2057400"/>
            <a:ext cx="60580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iangukeji</cp:lastModifiedBy>
  <dcterms:modified xsi:type="dcterms:W3CDTF">2018-02-07T10:03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