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062-7FF2-42E9-ABB8-E72AF32D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DDE-3F42-48A9-BD59-29131B99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0E8-0461-4240-802C-EC542622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2A9-53C6-429E-878B-2B06D90D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6D12-E0C7-4986-ADA7-D7AA134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DF4A-DDD5-4B68-8BB5-4E773983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3DCC-6334-466B-A800-DA0C50EA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4D09-E910-4E92-8DBE-07EA37BF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73E5-80B7-4855-9A3C-5DE6F00F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C9EE-A61A-4D75-A2DA-8921014A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91E4-296A-4F71-A94E-EAABC5B7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0CE-A94A-4F45-AB41-5ACB7A1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96A5-9100-49CF-97AD-9B9DEA8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485E-643B-4D74-8381-720FAB9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3C6-A517-41F1-BCE2-5A544791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5FBF-EBA4-400D-A624-3A432CE4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A3F0-031F-4133-BA78-21870C2F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28F-D67E-442C-B3D2-F00C23E3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5FE-968B-4A7D-960C-87462B02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E6B-D00E-4FCE-8F32-6208D76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72D-3C84-48A0-BAE7-889FAC8B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ECD-75AB-41B2-97B8-C762B1E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088-7000-4F72-A43A-9878A50F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1F5-D8E5-485A-B504-9DAD458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FB2E-478F-40F7-ABEA-FCAE1544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0F6-E6DC-45E7-A49C-D288DE7B9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章  新一代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前端技术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7891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.1  HTML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的基本概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.2  HTML 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的优势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.3  HTML 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网页的开发环境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浏览器查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TML 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文件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.1  HTML5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的基本概念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.1.1  HTML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的发展历程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什么是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.1.3  HTML 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文件的基本结构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.2  HTML5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文件的编写方法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解决了跨浏览器问题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.2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新增了多个新特性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.2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用户优先的原则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.2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化繁为简的优势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.3  HTML 5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网页的开发环境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6761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.3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使用记事本手工编写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HTML 5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.3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Dreamweaver CC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编写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HTML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文件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使用浏览器查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HTML 5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文件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.4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查看页面效果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.4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查看源文件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05:31:47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