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624-0911-4682-A269-758030FA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04B-1AB5-4C23-BA08-BFDD981F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E82-9B47-4735-A07A-1E1409E0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041-77FB-4367-A7DC-139DB354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A4E4-4E46-48FC-A4AD-48AE5B88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CA34-F213-489E-A315-5099C2F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2D08-C021-42F8-95A7-94E7BC25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CC99-6539-4B48-92EF-9AFF98F0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9496-6664-4483-8E11-568B1C5C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ADA7-3383-4DA1-AFBC-63E2D395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3D86-1D68-4C49-B99B-9963068D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6E0-C9F6-4A55-9169-323C979C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A617-2597-4437-95C8-7AF550B1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EBF6-F385-4704-907D-8D311BA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62AF-507F-423A-8CC1-DCDD7613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072D-587B-4123-929F-C0E11D50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D2F-B11E-4472-AA2A-98EA5905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248-40F4-4C88-9EF9-B2F53B88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083-DAD9-4913-B23B-20657271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A4A-79A4-467D-ADE7-C091646E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8F1-B67E-468A-BF1A-BEFC51C9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C38-198D-41A3-A0DE-5494C769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A92-C83C-4FC3-92FC-E3049CDC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5D0-0338-4252-A133-78E00E7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0AF0-E241-4355-A2F6-97D7B905B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862D-CDBC-47FB-B366-F673CB495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网页表单的设计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7891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5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单简介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5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单基本元素的应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5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实战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淘宝注册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5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表单简介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表单是页面中用来提供用户交互的主要方法。一个表单有三个基本组成部分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表单标签：这里面包含了处理表单数据所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GI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程序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URL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以及数据提交到服务器的方法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表单域：包含了文本框、密码框、隐藏域、多行文本框、复选框、单选框、下拉选择框和文件上传框等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表单按钮：包括提交按钮、复位按钮和一般按钮；用于将数据传送到服务器上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GI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脚本或者取消输入，还可以用表单按钮来控制其他定义了处理脚本的处理工作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5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表单基本元素的应用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1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表单标签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2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文字字段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3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密码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4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单选按钮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5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复选框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6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下拉菜单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5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列表项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8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普通按钮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9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提交按钮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.2.10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重置按钮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5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实战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淘宝注册页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本实例中，将使用一个表单内的各种元素来开发一个简单网站的用户注册页面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08:39:23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