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E2C5-2D24-4A4D-B46B-05A5CA67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16D7-E23A-435A-B815-6096D7C3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1B98-FDB8-4619-9A9D-9F6F7563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76D8-2116-4A5F-B7B3-7B8F5EB0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719C-00B6-43BA-842B-2A2352BB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2AF0-3251-4526-87C7-B7C7C616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C9F0-469A-47E5-B6AA-711F4380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F66C-4250-4FD9-A933-4250E7BD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7651-681A-43C4-A4C0-B6671FBF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7AB4-B079-4519-9028-64E60825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E4D9-A08A-4B73-B196-8B1CB0A8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7977-8370-4EDA-BDA2-A0D05C00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5F90-4B30-4A0A-9ADE-2AAA8A14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B26B-2AF0-49FB-AD9D-A11C6894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BF45-C1B9-4FB6-BB81-2F9369FA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5B23-9DA8-45F7-BD58-029BECA5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53FB-B766-4249-A7DC-6B76E8B7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6783-A83E-4606-B9F4-08071A3C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7B24-EC32-417D-BEC2-17347D34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5727-3850-44A3-9C80-212D278B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0685-980A-445E-9DE9-36F5D163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B749-FA52-47E3-AC67-3DC100E0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1427-6758-40B6-B6CA-10F73186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5698-EF95-4C7A-942F-AC5A3351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DB52-8BE0-4F85-90C4-0111CC0D4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21FD-3240-4CEC-A5B0-A87DDCFF6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18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章  定位地理位置技术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本章内容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2600" y="1752120"/>
            <a:ext cx="8196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8.1  Geolocation API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获取地理位置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8.2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目前浏览器对地理定位的支持情况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8.3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综合实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在网页中调用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Google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地图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9503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18.1  Geolocation API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获取地理位置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980720"/>
            <a:ext cx="85773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8.1.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　地理地位的原理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8.1.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　获取定位信息的方法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8.1.3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　常用地理定位方法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8.1.4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　判断浏览器是否支持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HTML5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获取地理位置信息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8.1.5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　指定纬度和经度坐标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8.1.6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　获取当前位置的经度与纬度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8.1.7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　处理错误和拒绝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8.2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目前浏览器对地理定位的支持情况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74560" y="1828800"/>
          <a:ext cx="7502760" cy="3733920"/>
        </p:xfrm>
        <a:graphic>
          <a:graphicData uri="http://schemas.openxmlformats.org/drawingml/2006/table">
            <a:tbl>
              <a:tblPr/>
              <a:tblGrid>
                <a:gridCol w="1963800"/>
                <a:gridCol w="5538960"/>
              </a:tblGrid>
              <a:tr h="533520">
                <a:tc>
                  <a:txBody>
                    <a:bodyPr lIns="68760" rIns="68760" tIns="10800" bIns="17640" anchor="t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浏览器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0800" bIns="17640" anchor="t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支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Web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存储技术的版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68760" rIns="68760" tIns="10800" bIns="17640" anchor="t">
                      <a:noAutofit/>
                    </a:bodyPr>
                    <a:p>
                      <a:pPr marL="17640" algn="just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ternet Explor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0800" bIns="17640" anchor="t">
                      <a:noAutofit/>
                    </a:bodyPr>
                    <a:p>
                      <a:pPr marL="17640" algn="just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ternet Explorer 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及更高版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760" rIns="68760" tIns="10800" bIns="17640" anchor="t">
                      <a:noAutofit/>
                    </a:bodyPr>
                    <a:p>
                      <a:pPr marL="17640" algn="just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iref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0800" bIns="17640" anchor="t">
                      <a:noAutofit/>
                    </a:bodyPr>
                    <a:p>
                      <a:pPr marL="17640" algn="just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irefox 3.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及更高版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760" rIns="68760" tIns="10800" bIns="17640" anchor="t">
                      <a:noAutofit/>
                    </a:bodyPr>
                    <a:p>
                      <a:pPr marL="17640" algn="just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p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0800" bIns="17640" anchor="t">
                      <a:noAutofit/>
                    </a:bodyPr>
                    <a:p>
                      <a:pPr marL="17640" algn="just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pera 10.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及更高版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68760" rIns="68760" tIns="10800" bIns="17640" anchor="t">
                      <a:noAutofit/>
                    </a:bodyPr>
                    <a:p>
                      <a:pPr marL="17640" algn="just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af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0800" bIns="17640" anchor="t">
                      <a:noAutofit/>
                    </a:bodyPr>
                    <a:p>
                      <a:pPr marL="17640" algn="just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afari 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及更高版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760" rIns="68760" tIns="10800" bIns="17640" anchor="t">
                      <a:noAutofit/>
                    </a:bodyPr>
                    <a:p>
                      <a:pPr marL="17640" algn="just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hr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0800" bIns="17640" anchor="t">
                      <a:noAutofit/>
                    </a:bodyPr>
                    <a:p>
                      <a:pPr marL="17640" algn="just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hrome 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及更高版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760" rIns="68760" tIns="10800" bIns="17640" anchor="t">
                      <a:noAutofit/>
                    </a:bodyPr>
                    <a:p>
                      <a:pPr marL="17640" indent="266400" algn="just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ndro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0800" bIns="17640" anchor="t">
                      <a:noAutofit/>
                    </a:bodyPr>
                    <a:p>
                      <a:pPr marL="17640" algn="just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ndroid 2.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及更高版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8.3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综合实例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在网页中调用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Google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地图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4454280" cy="4200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8.3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综合实例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在网页中调用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Google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地图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5" name="图片 1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400800" cy="378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iangukeji</cp:lastModifiedBy>
  <dcterms:modified xsi:type="dcterms:W3CDTF">2018-02-07T10:42:54Z</dcterms:modified>
  <cp:revision>1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