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60F-A589-44AD-B63C-343FFBA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CB0-AAC2-4BB0-8A08-700E1A2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DF3-AF42-44C9-B259-CED41F52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F71-A9F2-45AC-A4D5-C8270EC9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10D-B7D3-4252-A887-453ECF97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B4A0-7E54-4862-BCDA-16873247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3A47-2FDC-4490-99D4-6E2AC651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3D6B-6A12-4F45-BB08-7511C12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683C-28A0-45FB-8B65-F56FE17C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20C5-527A-4886-892E-BBC296CE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32BE-718B-4F8F-AC44-09EA974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388-EEF6-445F-B7BA-CAF1ADE7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24BB-A47B-4241-A240-02B5EE3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C45-2EBB-48B2-95A4-DF19CD8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5D56-CA69-4A57-9833-9B1BB45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E44C-C166-4DC3-98EF-1FD6B02D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07DB-23BB-4987-8A0F-A835FCA2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3E9-795E-4223-97D6-E02E2F5E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6E2-A155-407E-8628-B06E84C5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9F4-8B4E-4742-BD52-0131D1B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5A5-3457-44D3-8963-9997E1B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A3E-9216-4234-9CC4-B283A2F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17C-264F-4D43-BDED-38EE74C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BF1-336A-4C0A-A2FE-B2C9F6E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8EE-AE4F-43FE-816B-262225FB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13D-D79F-475B-9A4E-66AD2055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超级链接和鼠标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752120"/>
            <a:ext cx="7891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来美化超链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鼠标特效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图片版本的超级链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关于鼠标特效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一个简单的导航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2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来美化超链接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改变超级链接的基本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带有提示信息的超级链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超级链接的背景图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2.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超级链接的按钮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2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美化鼠标特效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2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控制鼠标箭头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2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鼠标变幻式超链接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2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网页页面滚动条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2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图片版本的超级链接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291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240" y="304920"/>
            <a:ext cx="86454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2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2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关于鼠标特效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07376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4440240" y="2209680"/>
            <a:ext cx="470376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2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一个简单的导航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120"/>
            <a:ext cx="385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网站的每个页面中，基本都存放着一个导航栏，作为浏览者跳转的入口。导航栏一般是由超级链接创建的，对于导航栏的样式，可以采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来设置。导航栏样式变化的基础是在文字、背景图片和边框方面的变化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341600" cy="400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16:23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