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171-9744-4255-886C-2424455C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C08-B37D-4777-8064-EBD29C2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888-71F7-4008-8347-466AA675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FFF-1729-4475-B804-E54F74C4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3FF6-AF31-453B-8D76-B721775A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5AE-5FB6-4060-9635-045EAD1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252-276A-4A88-B99C-18CB6A6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1D2A-D1AD-4510-B6FC-91CC94E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2143-D638-4CF1-97FA-570A154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EBFB-6008-4AAF-9B5A-08C2B3E7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232-4E32-49A5-B01F-82D956D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F9E-D8FB-4EE9-8C06-454BEB9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937F-3149-4CBC-BC62-346CC4B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61BE-E357-4F62-8D76-B707E84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E7C-505A-42E8-9581-ADE46F5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EDF1-B824-4502-BB4A-3E8B0273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FCAF-D65E-48B9-98A7-3242B95C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51C-ADCB-4641-9F3E-95BEFB5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94E-D00F-4524-9F35-8C0779C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FB6-97B2-4647-986A-24C856F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0D0-AEEF-44E1-8E14-619C847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6A4-29B3-4A07-843B-5F25A71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2A9-37B4-4111-AC06-82AF389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FF1-6187-4DBA-A07B-1E55634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8649-B8AC-4248-AFCF-A5059F12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5E27-BDCF-4778-A3DD-A4187CD4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章 使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美化网页菜单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4200" y="2057400"/>
            <a:ext cx="7891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项目列表的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网页菜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模拟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oso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导航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将段落转变成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4.1 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项目列表的样式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586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无序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有序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自定义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图片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缩进图片列表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4.1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列表复合属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4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网页菜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4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7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制作无需表格的菜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4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案例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8——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制作水平和垂直菜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4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模拟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soso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导航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755640" y="2057400"/>
            <a:ext cx="77914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4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将段落转变成列表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5156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20:34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