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9C86C-324B-4C10-9AE5-F1AAD6BB6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08AE6-98BA-4B76-AC38-3F71E55FB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379BA-D89A-43B8-ABAC-E3692884B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4C9A0-E9F9-428A-9A0C-F9DE760DB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4C25E-162C-4ED0-B5E9-081ED50B7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8F815-898E-44F1-9134-CBE74317B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AB164-41F6-4F30-A721-3D9A90433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509ED-D94E-4E88-ADA8-4903A24DD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E0D0E-33A1-491D-BBB5-E69CB8D46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FA2B8-1E25-4B7D-B377-55F7F3055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5D01F-8CD1-4E36-8FE1-A3DB53B6C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20B38-636E-4AAA-8876-92C7E461E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9E1AD-C412-4E87-B976-A1407BC56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D2C24-18DF-4435-A9DD-B706E8D0D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1A21E-DFF8-46E7-9DAB-8AB86859A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DC588-7BC2-4FCE-A68F-FAF8CFB4B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14141-201A-41A2-8414-49AA06B6A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02146-3442-4D2B-B070-62FD3383C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B0398-5230-4C27-A35F-8C4C41BF9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B3475-FEF3-4192-A1B2-1181E04DF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81B08-879C-4DA6-AD6D-C96A9710F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703C2-73F5-4689-8563-4B576653F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95F29-DBB2-4A94-AFBF-75014E792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47845-D67B-48CE-A332-D72FAC561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微软雅黑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5B484-F650-4AB7-BD90-D5599C44E337}" type="slidenum">
              <a:rPr b="0" lang="en-US" sz="1200" spc="-1" strike="noStrike">
                <a:solidFill>
                  <a:srgbClr val="000000"/>
                </a:solidFill>
                <a:latin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微软雅黑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0B22A-DE27-4AFE-A377-ECFCC67963BF}" type="slidenum">
              <a:rPr b="0" lang="en-US" sz="1200" spc="-1" strike="noStrike">
                <a:solidFill>
                  <a:srgbClr val="000000"/>
                </a:solidFill>
                <a:latin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微软雅黑"/>
              </a:rPr>
              <a:t>本课内容</a:t>
            </a: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42600" y="1752480"/>
            <a:ext cx="789156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15.1  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</a:rPr>
              <a:t>滤镜概述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marL="571680" indent="-57168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15.2  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</a:rPr>
              <a:t>设置基本滤镜效果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marL="571680" indent="-57168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15.3  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</a:rPr>
              <a:t>使用复合滤镜效果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marL="57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微软雅黑"/>
              </a:rPr>
              <a:t>15.1  </a:t>
            </a:r>
            <a:r>
              <a:rPr b="0" lang="zh-CN" sz="3800" spc="-1" strike="noStrike">
                <a:solidFill>
                  <a:srgbClr val="000000"/>
                </a:solidFill>
                <a:latin typeface="微软雅黑"/>
              </a:rPr>
              <a:t>滤镜概述</a:t>
            </a: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609120" y="1676160"/>
            <a:ext cx="815364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CSS3 Filter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</a:rPr>
              <a:t>（滤镜）属性提供了提供模糊和改变元素颜色的功能。特别是对于图像，能产生很多绚丽的效果。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CSS3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</a:rPr>
              <a:t>的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Fitler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</a:rPr>
              <a:t>常用于调整图像的渲染、背景或边框显示效果。例如灰度，模糊，饱和，老照片等。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pic>
        <p:nvPicPr>
          <p:cNvPr id="89" name="图片 1" descr=""/>
          <p:cNvPicPr/>
          <p:nvPr/>
        </p:nvPicPr>
        <p:blipFill>
          <a:blip r:embed="rId1"/>
          <a:stretch/>
        </p:blipFill>
        <p:spPr>
          <a:xfrm>
            <a:off x="2362320" y="2819520"/>
            <a:ext cx="4800600" cy="38275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5716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微软雅黑"/>
              </a:rPr>
              <a:t>15.2  </a:t>
            </a:r>
            <a:r>
              <a:rPr b="0" lang="zh-CN" sz="4000" spc="-1" strike="noStrike">
                <a:solidFill>
                  <a:srgbClr val="000000"/>
                </a:solidFill>
                <a:latin typeface="微软雅黑"/>
              </a:rPr>
              <a:t>设置基本滤镜效果</a:t>
            </a:r>
            <a:endParaRPr b="0" lang="en-US" sz="4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66640" y="1980720"/>
            <a:ext cx="758664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</a:rPr>
              <a:t>15.2.1  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</a:rPr>
              <a:t>案例</a:t>
            </a:r>
            <a:r>
              <a:rPr b="0" lang="en-US" sz="2400" spc="-1" strike="noStrike">
                <a:solidFill>
                  <a:srgbClr val="000000"/>
                </a:solidFill>
                <a:latin typeface="微软雅黑"/>
              </a:rPr>
              <a:t>1——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</a:rPr>
              <a:t>高斯模糊（</a:t>
            </a:r>
            <a:r>
              <a:rPr b="0" lang="en-US" sz="2400" spc="-1" strike="noStrike">
                <a:solidFill>
                  <a:srgbClr val="000000"/>
                </a:solidFill>
                <a:latin typeface="微软雅黑"/>
              </a:rPr>
              <a:t>blur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</a:rPr>
              <a:t>）滤镜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marL="571680" indent="-57168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</a:rPr>
              <a:t>15.2.2  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</a:rPr>
              <a:t>案例</a:t>
            </a:r>
            <a:r>
              <a:rPr b="0" lang="en-US" sz="2400" spc="-1" strike="noStrike">
                <a:solidFill>
                  <a:srgbClr val="000000"/>
                </a:solidFill>
                <a:latin typeface="微软雅黑"/>
              </a:rPr>
              <a:t>2——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</a:rPr>
              <a:t>明暗度（</a:t>
            </a:r>
            <a:r>
              <a:rPr b="0" lang="en-US" sz="2400" spc="-1" strike="noStrike">
                <a:solidFill>
                  <a:srgbClr val="000000"/>
                </a:solidFill>
                <a:latin typeface="微软雅黑"/>
              </a:rPr>
              <a:t>brightness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</a:rPr>
              <a:t>）滤镜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marL="571680" indent="-57168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</a:rPr>
              <a:t>15.2.3  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</a:rPr>
              <a:t>案例</a:t>
            </a:r>
            <a:r>
              <a:rPr b="0" lang="en-US" sz="2400" spc="-1" strike="noStrike">
                <a:solidFill>
                  <a:srgbClr val="000000"/>
                </a:solidFill>
                <a:latin typeface="微软雅黑"/>
              </a:rPr>
              <a:t>3——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</a:rPr>
              <a:t>对比度（</a:t>
            </a:r>
            <a:r>
              <a:rPr b="0" lang="en-US" sz="2400" spc="-1" strike="noStrike">
                <a:solidFill>
                  <a:srgbClr val="000000"/>
                </a:solidFill>
                <a:latin typeface="微软雅黑"/>
              </a:rPr>
              <a:t>contrast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</a:rPr>
              <a:t>）滤镜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marL="571680" indent="-57168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</a:rPr>
              <a:t>15.2.4  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</a:rPr>
              <a:t>案例</a:t>
            </a:r>
            <a:r>
              <a:rPr b="0" lang="en-US" sz="2400" spc="-1" strike="noStrike">
                <a:solidFill>
                  <a:srgbClr val="000000"/>
                </a:solidFill>
                <a:latin typeface="微软雅黑"/>
              </a:rPr>
              <a:t>4——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</a:rPr>
              <a:t>阴影（</a:t>
            </a:r>
            <a:r>
              <a:rPr b="0" lang="en-US" sz="2400" spc="-1" strike="noStrike">
                <a:solidFill>
                  <a:srgbClr val="000000"/>
                </a:solidFill>
                <a:latin typeface="微软雅黑"/>
              </a:rPr>
              <a:t>drop-shadow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</a:rPr>
              <a:t>）滤镜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marL="571680" indent="-57168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</a:rPr>
              <a:t>15.2.5  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</a:rPr>
              <a:t>案例</a:t>
            </a:r>
            <a:r>
              <a:rPr b="0" lang="en-US" sz="2400" spc="-1" strike="noStrike">
                <a:solidFill>
                  <a:srgbClr val="000000"/>
                </a:solidFill>
                <a:latin typeface="微软雅黑"/>
              </a:rPr>
              <a:t>5——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</a:rPr>
              <a:t>灰度（</a:t>
            </a:r>
            <a:r>
              <a:rPr b="0" lang="en-US" sz="2400" spc="-1" strike="noStrike">
                <a:solidFill>
                  <a:srgbClr val="000000"/>
                </a:solidFill>
                <a:latin typeface="微软雅黑"/>
              </a:rPr>
              <a:t>grayscale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</a:rPr>
              <a:t>）滤镜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marL="571680" indent="-57168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</a:rPr>
              <a:t>15.2.6  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</a:rPr>
              <a:t>案例</a:t>
            </a:r>
            <a:r>
              <a:rPr b="0" lang="en-US" sz="2400" spc="-1" strike="noStrike">
                <a:solidFill>
                  <a:srgbClr val="000000"/>
                </a:solidFill>
                <a:latin typeface="微软雅黑"/>
              </a:rPr>
              <a:t>6——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</a:rPr>
              <a:t>反相（</a:t>
            </a:r>
            <a:r>
              <a:rPr b="0" lang="en-US" sz="2400" spc="-1" strike="noStrike">
                <a:solidFill>
                  <a:srgbClr val="000000"/>
                </a:solidFill>
                <a:latin typeface="微软雅黑"/>
              </a:rPr>
              <a:t>invert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</a:rPr>
              <a:t>）滤镜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marL="571680" indent="-57168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</a:rPr>
              <a:t>15.2.7  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</a:rPr>
              <a:t>案例</a:t>
            </a:r>
            <a:r>
              <a:rPr b="0" lang="en-US" sz="2400" spc="-1" strike="noStrike">
                <a:solidFill>
                  <a:srgbClr val="000000"/>
                </a:solidFill>
                <a:latin typeface="微软雅黑"/>
              </a:rPr>
              <a:t>7——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</a:rPr>
              <a:t>透明度（</a:t>
            </a:r>
            <a:r>
              <a:rPr b="0" lang="en-US" sz="2400" spc="-1" strike="noStrike">
                <a:solidFill>
                  <a:srgbClr val="000000"/>
                </a:solidFill>
                <a:latin typeface="微软雅黑"/>
              </a:rPr>
              <a:t>opacity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</a:rPr>
              <a:t>）滤镜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marL="571680" indent="-57168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</a:rPr>
              <a:t>15.2.8  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</a:rPr>
              <a:t>案例</a:t>
            </a:r>
            <a:r>
              <a:rPr b="0" lang="en-US" sz="2400" spc="-1" strike="noStrike">
                <a:solidFill>
                  <a:srgbClr val="000000"/>
                </a:solidFill>
                <a:latin typeface="微软雅黑"/>
              </a:rPr>
              <a:t>8——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</a:rPr>
              <a:t>饱和度（</a:t>
            </a:r>
            <a:r>
              <a:rPr b="0" lang="en-US" sz="2400" spc="-1" strike="noStrike">
                <a:solidFill>
                  <a:srgbClr val="000000"/>
                </a:solidFill>
                <a:latin typeface="微软雅黑"/>
              </a:rPr>
              <a:t>saturate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</a:rPr>
              <a:t>）滤镜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marL="571680" indent="-57168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</a:rPr>
              <a:t>15.2.9  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</a:rPr>
              <a:t>案例</a:t>
            </a:r>
            <a:r>
              <a:rPr b="0" lang="en-US" sz="2400" spc="-1" strike="noStrike">
                <a:solidFill>
                  <a:srgbClr val="000000"/>
                </a:solidFill>
                <a:latin typeface="微软雅黑"/>
              </a:rPr>
              <a:t>9——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</a:rPr>
              <a:t>深褐色（</a:t>
            </a:r>
            <a:r>
              <a:rPr b="0" lang="en-US" sz="2400" spc="-1" strike="noStrike">
                <a:solidFill>
                  <a:srgbClr val="000000"/>
                </a:solidFill>
                <a:latin typeface="微软雅黑"/>
              </a:rPr>
              <a:t>sepia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</a:rPr>
              <a:t>）滤镜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marL="57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微软雅黑"/>
              </a:rPr>
              <a:t>15.3  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</a:rPr>
              <a:t>使用复合滤镜效果</a:t>
            </a:r>
            <a:endParaRPr b="0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pic>
        <p:nvPicPr>
          <p:cNvPr id="93" name="图片 1" descr=""/>
          <p:cNvPicPr/>
          <p:nvPr/>
        </p:nvPicPr>
        <p:blipFill>
          <a:blip r:embed="rId1"/>
          <a:stretch/>
        </p:blipFill>
        <p:spPr>
          <a:xfrm>
            <a:off x="590400" y="2209680"/>
            <a:ext cx="7659720" cy="32004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qiangukeji</cp:lastModifiedBy>
  <dcterms:modified xsi:type="dcterms:W3CDTF">2018-02-07T10:21:21Z</dcterms:modified>
  <cp:revision>10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