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87C-9D58-4640-AA9C-505EB947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4ED2-1F27-41B7-AF1F-B0481A01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9E2-9CB2-4A10-A0DC-3657C55A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671F-F9F7-4028-A9D9-03A18F95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3108-7448-45BD-B956-D1C982CC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B582-6386-43FB-8F5C-632BE8B9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86C4-8BDD-4322-981E-C9842692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28FE-31AA-45C1-97D9-C391F2D1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4068-980A-46A7-91DF-693711D5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8FA5-E218-4BE8-813B-A8B6A41B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0A1C-BD5A-4A5C-B533-DAF0684C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C5E-AD01-4D7B-A752-6C5F437C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9681-1C29-446D-ACC0-26936C54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B23E-B29B-4034-A28D-6F434E2C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9AC0-3238-4D28-B86C-E4846967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84A9-C91E-4117-A94F-33142750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EA75-19C3-4AF0-B4AA-02CE15CC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EA0-1DF6-451A-9C30-CEF32837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7328-D859-4765-91A2-87E678CA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B50-FDFA-49D6-B187-48CE1EC9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B8CF-6D21-4B1B-91C2-7EDEAE68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C1A-0365-4E2E-876C-58AB6FC9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049-66E0-484B-A578-64DC1E9E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B9A-8E7E-4C0C-95AA-8E65F349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C0C5-7954-4A4B-9934-14FCD717406A}" type="slidenum">
              <a:rPr b="0" lang="en-US" sz="12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6802-AC3D-4F16-9D3A-0A6462FBCAE3}" type="slidenum">
              <a:rPr b="0" lang="en-US" sz="12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课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2600" y="1752480"/>
            <a:ext cx="78915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1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了解块级元素和行内级元素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1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盒子模型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1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弹性盒模型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1.4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图文排版效果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1.5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淘宝导购菜单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1.1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了解块级元素和行内级元素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" y="1676160"/>
            <a:ext cx="9067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1.1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——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块级元素和行内级元素的应用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1.1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——div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元素和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pan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元素的区别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21.2  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盒子模型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640" y="1980720"/>
            <a:ext cx="7586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1.2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盒子模型的概念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1.2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3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定义网页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border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区域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1.2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4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定义网页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paddin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区域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1.2.4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5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定义网页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margin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区域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</a:rPr>
              <a:t>21.3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弹性盒模型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1.3.1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6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定义盒子布局方向（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box-orient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1.3.2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7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定义盒子布局顺序（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box-direction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1.3.3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8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定义盒子布局位置（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box-ordinal-group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1.3.4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9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定义盒子弹性空间（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box-flex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1.3.5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10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管理盒子空间（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box-pack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box-align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1.3.6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1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盒子空间的溢出管理（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box-line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21.4  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1——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图文排版效果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4876920" cy="409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1.5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淘宝导购菜单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4952880" cy="411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iangukeji</cp:lastModifiedBy>
  <dcterms:modified xsi:type="dcterms:W3CDTF">2018-02-07T10:57:53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