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D4A-5B29-4D58-B6AE-F482175E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474-FEB1-49A4-AA7F-C2FD8A7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E3C-C9A0-4F31-A0BC-A0FF3CCF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CE4-545B-445F-9D58-1B0A0B7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F7A2-D68C-4181-9806-8E8EDFCF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ED2F-4EC6-40D6-A25B-1409AB09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251-741D-42C3-8ABB-7B2A602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644B-7312-4747-803D-8476CC4D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62E6-BA2A-4343-9A62-AEC368A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4BC9-DE99-43D0-BB1E-FD3FC3FD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993-5DFB-462A-8A7E-BFC41F7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B81-6E8F-462A-BADF-5C7206C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271A-F5E4-43D1-A016-EAB3FBBF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E178-46A9-41B9-9953-FE33D93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868-FC5B-48DE-BEFF-D9B43E4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7DF-9978-479B-9CCE-B492B8ED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D80A-8855-4A0B-B947-756981A4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9AF-F090-4B79-A707-C5FBD58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EBA-47AE-4216-8825-A8EE406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9CD-F3CE-484E-97DF-0AADCA3F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552-4EC1-429B-8E24-ECB67010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DDD-E549-4110-8E69-BF3A8AC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5BC-E2B3-4DFB-B457-B1E1D6D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F2D-6213-4BBA-BDFD-14C547A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9E0D-0D68-42BD-826A-B6C93B3D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789D-2944-4616-B383-D8E5F31C3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绘制图形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6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图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6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图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6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图像平铺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6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图像裁剪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6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像素处理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7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图形的保存与恢复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7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保存与恢复状态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7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保存文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7.3 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图形综合应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8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火柴棒人物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漫画中最常见的一种图形，就是火柴棒人，通过简单的几个笔画，就可以绘制一个传神的动漫人物。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anva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JavaScript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同样可以绘制一个火柴棒人物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32040" y="3800520"/>
            <a:ext cx="3745080" cy="230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9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商标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574560" y="1981080"/>
            <a:ext cx="7012080" cy="38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什么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anvas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基本形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渐变图形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变形图形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其他样式的图形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图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图形的保存与恢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8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火柴棒人物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9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商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7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什么是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anvas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是一个新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元素，这个元素可以被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cri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语言（通常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）用来绘制图形。例如可以用它来画图、合成图像、或做简单的动画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基本形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矩形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圆形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moveT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与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lineT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直线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bezierCurveT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贝济埃曲线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渐变图形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3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线性渐变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7.3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绘制径向渐变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变形图形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4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变换原点坐标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4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图形缩放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.4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旋转图形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493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5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其他样式的图形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在介绍前面知识里面，可以将一个图形画在另一个之上，大多数情况下，这样是不够的。例如说，它这样受制于图形的绘制顺序。不过，我们可以利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globalCompositeOperation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属性来改变这些做法。不仅可以在已有图形后面再画新图形，还可以用来遮盖，清除（比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earRect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方法强劲得多）某些区域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其语法格式如下所示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globalCompositeOperation = type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5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带阴影的图形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在画布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上绘制带有阴影效果的图形非常简单，只需要设置几个属性即可。这几个属性分别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Offset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OffsetY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Blu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Colo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，其属性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Colo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示阴影颜色，其值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颜色值一致。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Blu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示设置阴影模糊程度。此值越大，阴影越模糊。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Offset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hadowOffsetY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属性表示阴影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偏移量，单位是像素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7.5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绘制文字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640" y="1752480"/>
            <a:ext cx="8653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在画布中绘制字符串（文字）的方式，操作其他路径对象的方式相同，可以描绘文本轮廓和填充文本内部，同时，所有能够应用于其他图形的变换和样式都能用于文本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er</cp:lastModifiedBy>
  <dcterms:modified xsi:type="dcterms:W3CDTF">2017-02-23T05:35:49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