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138A-7D2A-4D73-866F-CFAE8D08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4748-4F28-4735-8F0A-B19821DF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96AE-5DB4-4AFF-9E8D-EA3DF1A8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08FF-80B4-4E32-80FB-080B055A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F0D5-635A-4C32-A1D5-308B1EA7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931-63E3-40DA-93CC-B3CEEF65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EAFE-408C-4428-BDFB-68F0D5D2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FDFA-55F3-48AF-993A-B1F66302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C779-03B8-4747-BE82-3E3D012C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CBBF-E384-48A0-B525-C8688862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9F5D-D54D-41B0-AB83-D61F2569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5352-CA6A-49B6-8323-F2B2B1C2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05CC-53A3-4492-9B25-3620FCCC9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mailto:grimpil@gmail.com" TargetMode="External"/><Relationship Id="rId5" Type="http://schemas.openxmlformats.org/officeDocument/2006/relationships/hyperlink" Target="mailto:zhangzhifs@gmail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200832213948268_2"/>
          <p:cNvPicPr/>
          <p:nvPr/>
        </p:nvPicPr>
        <p:blipFill>
          <a:blip r:embed="rId1"/>
          <a:srcRect l="0" t="0" r="11131" b="0"/>
          <a:stretch/>
        </p:blipFill>
        <p:spPr>
          <a:xfrm>
            <a:off x="0" y="-38160"/>
            <a:ext cx="9215280" cy="6896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run"/>
          <p:cNvPicPr/>
          <p:nvPr/>
        </p:nvPicPr>
        <p:blipFill>
          <a:blip r:embed="rId2"/>
          <a:stretch/>
        </p:blipFill>
        <p:spPr>
          <a:xfrm>
            <a:off x="1332000" y="1197000"/>
            <a:ext cx="3076560" cy="4537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run"/>
          <p:cNvPicPr/>
          <p:nvPr/>
        </p:nvPicPr>
        <p:blipFill>
          <a:blip r:embed="rId3"/>
          <a:stretch/>
        </p:blipFill>
        <p:spPr>
          <a:xfrm>
            <a:off x="-252360" y="1700280"/>
            <a:ext cx="2585880" cy="3816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7"/>
          <p:cNvSpPr/>
          <p:nvPr/>
        </p:nvSpPr>
        <p:spPr>
          <a:xfrm>
            <a:off x="0" y="-71280"/>
            <a:ext cx="4857840" cy="642600"/>
          </a:xfrm>
          <a:prstGeom prst="rect">
            <a:avLst/>
          </a:prstGeom>
          <a:gradFill rotWithShape="0">
            <a:gsLst>
              <a:gs pos="0">
                <a:srgbClr val="262673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微软雅黑"/>
                <a:ea typeface="微软雅黑"/>
              </a:rPr>
              <a:t>给跑步新手的十条建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http://my.inmagine.com/600wmz/30486c2a2e3e755f68/tetraimages/tt072/tt070229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0" y="142920"/>
            <a:ext cx="914400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全身心的爱去迎接每一天，每一个人，每一件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http://my.inmagine.com/600wmz/5963383e7970564d3e/ojoimages/oj066/pe0061091.jpg"/>
          <p:cNvPicPr/>
          <p:nvPr/>
        </p:nvPicPr>
        <p:blipFill>
          <a:blip r:embed="rId1"/>
          <a:srcRect l="0" t="0" r="600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0" y="6215040"/>
            <a:ext cx="914400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生中总要做几件有趣的事，试着去跑一次马拉松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200832213948268_2"/>
          <p:cNvPicPr/>
          <p:nvPr/>
        </p:nvPicPr>
        <p:blipFill>
          <a:blip r:embed="rId1"/>
          <a:srcRect l="0" t="0" r="11131" b="0"/>
          <a:stretch/>
        </p:blipFill>
        <p:spPr>
          <a:xfrm>
            <a:off x="0" y="-38160"/>
            <a:ext cx="9215280" cy="6896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run"/>
          <p:cNvPicPr/>
          <p:nvPr/>
        </p:nvPicPr>
        <p:blipFill>
          <a:blip r:embed="rId2"/>
          <a:stretch/>
        </p:blipFill>
        <p:spPr>
          <a:xfrm>
            <a:off x="1332000" y="1197000"/>
            <a:ext cx="3076560" cy="4537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run"/>
          <p:cNvPicPr/>
          <p:nvPr/>
        </p:nvPicPr>
        <p:blipFill>
          <a:blip r:embed="rId3"/>
          <a:stretch/>
        </p:blipFill>
        <p:spPr>
          <a:xfrm>
            <a:off x="-252360" y="1700280"/>
            <a:ext cx="2585880" cy="3816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9"/>
          <p:cNvSpPr/>
          <p:nvPr/>
        </p:nvSpPr>
        <p:spPr>
          <a:xfrm>
            <a:off x="0" y="6000840"/>
            <a:ext cx="9144000" cy="785520"/>
          </a:xfrm>
          <a:prstGeom prst="rect">
            <a:avLst/>
          </a:prstGeom>
          <a:solidFill>
            <a:srgbClr val="92d05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be0e3"/>
                </a:solidFill>
                <a:latin typeface="Arial"/>
              </a:rPr>
              <a:t>制作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:grimpil </a:t>
            </a:r>
            <a:r>
              <a:rPr b="0" lang="zh-CN" sz="1800" spc="-1" strike="noStrike">
                <a:solidFill>
                  <a:srgbClr val="bbe0e3"/>
                </a:solidFill>
                <a:latin typeface="Arial"/>
              </a:rPr>
              <a:t>（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grimpil@gmail.com</a:t>
            </a:r>
            <a:r>
              <a:rPr b="0" lang="zh-CN" sz="1800" spc="-1" strike="noStrike">
                <a:solidFill>
                  <a:srgbClr val="bbe0e3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be0e3"/>
                </a:solidFill>
                <a:latin typeface="Arial"/>
              </a:rPr>
              <a:t>修改：秋叶（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zhangzhifs@gmail.com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bbe0e3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0" y="-71280"/>
            <a:ext cx="4857840" cy="642600"/>
          </a:xfrm>
          <a:prstGeom prst="rect">
            <a:avLst/>
          </a:prstGeom>
          <a:gradFill rotWithShape="0">
            <a:gsLst>
              <a:gs pos="0">
                <a:srgbClr val="262673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微软雅黑"/>
                <a:ea typeface="微软雅黑"/>
              </a:rPr>
              <a:t>给跑步新手的十条建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0" y="64166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图片来自互联网，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仅供学习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Peace__Love__and_Running_by_FuzzyYellowDuckl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2"/>
          <p:cNvSpPr/>
          <p:nvPr/>
        </p:nvSpPr>
        <p:spPr>
          <a:xfrm>
            <a:off x="0" y="6191280"/>
            <a:ext cx="914400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记得买双合适的鞋子，一定要呵护好你的双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8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http://my.inmagine.com/600wmz/30486c767542252a29/tetraimages/tt071/tt0138455.jpg"/>
          <p:cNvPicPr/>
          <p:nvPr/>
        </p:nvPicPr>
        <p:blipFill>
          <a:blip r:embed="rId1"/>
          <a:stretch/>
        </p:blipFill>
        <p:spPr>
          <a:xfrm>
            <a:off x="107172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0" y="142920"/>
            <a:ext cx="914400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不是运动员，别跑那么快，让身体决定速度和强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2393474195_451bdbc4fe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0" y="142920"/>
            <a:ext cx="932508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必须要有明确的目标，然后制定计划，并严格地去执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http://my.inmagine.com/600wmz/30486c2a2e3e753560/tetraimages/tt072/tt070227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0" y="142920"/>
            <a:ext cx="914400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自己找一个坚持的理由，用它来击败所有放弃的念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http://my.inmagine.com/600wmz/3b5a615a265075556a7b/cultura/culs035/culs035024.jpg"/>
          <p:cNvPicPr/>
          <p:nvPr/>
        </p:nvPicPr>
        <p:blipFill>
          <a:blip r:embed="rId1"/>
          <a:srcRect l="668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0" y="142920"/>
            <a:ext cx="914400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会调整自己的身体，合理地补充营养、水分和电解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http://my.inmagine.com/600wmz/5963383e793620573a/ojoimages/oj078/pe0063198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0" y="6215040"/>
            <a:ext cx="914400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心感受跑步的快乐，分享给自己的家人和朋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http://my.inmagine.com/600wmz/3b5a615a26642e313356/cultura/culs056/culs056080.jpg"/>
          <p:cNvPicPr/>
          <p:nvPr/>
        </p:nvPicPr>
        <p:blipFill>
          <a:blip r:embed="rId1"/>
          <a:srcRect l="0" t="0" r="622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0" y="142920"/>
            <a:ext cx="914400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偶尔改变一次跑步路线，可以看到不同的人，还有风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6" descr="http://my.inmagine.com/600wmz/3b5a615a263e4a7b3163/cultura/culs048/culs048158.jpg"/>
          <p:cNvPicPr/>
          <p:nvPr/>
        </p:nvPicPr>
        <p:blipFill>
          <a:blip r:embed="rId1"/>
          <a:srcRect l="0" t="0" r="44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1"/>
          <p:cNvSpPr/>
          <p:nvPr/>
        </p:nvSpPr>
        <p:spPr>
          <a:xfrm>
            <a:off x="0" y="6195960"/>
            <a:ext cx="914400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跑步日记，和其他的跑步者交流经验，相互鼓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07:59:51Z</dcterms:created>
  <dc:creator>j</dc:creator>
  <dc:description/>
  <dc:language>en-US</dc:language>
  <cp:lastModifiedBy>Administrator</cp:lastModifiedBy>
  <dcterms:modified xsi:type="dcterms:W3CDTF">2020-01-04T01:51:39Z</dcterms:modified>
  <cp:revision>14</cp:revision>
  <dc:subject/>
  <dc:title>爱护你的脚，买一双合适的鞋子，它们是你最大的支持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