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49F-DDD0-4B81-AE95-CFB45AE0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A8C0-D496-417E-A4B7-4825AE28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EEF-CD21-463D-86DD-C2761ABE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0E4B-38C1-423F-9F3E-D0BCC36C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93FC-E7D4-4AA8-B071-366D7D86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5847-0281-46CC-97E0-6086A982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1370-95C1-41A0-9E80-CC29B6ED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613A-E173-40BE-A46A-347F6C0C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9291-9C49-4272-9F31-E3C2EC1D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0225-5BB6-4626-9202-6CF8F15C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733E-5130-48FB-84E2-E67EB9C3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43D-C0A3-4FDE-84F9-C8D372BE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09D8-9CAB-4F3F-8DD2-F244C006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AAC1-C13E-4C2C-910E-166B21D7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F224-27F1-490B-8F78-5C046069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27E0-F586-49A5-8F0F-A2454E0B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4199-704C-4218-84B5-5BE60A89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44A7-CAF0-44F2-8C0F-2D80E52B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0BB1-2D9A-4CB1-A005-644821AF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2CC5-7609-40B6-AB46-24FC1A61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38CB-A3AB-481B-B7E9-9A3FBC46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E46A-5384-4932-88C6-BF49C3B0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856F-B983-4D98-806B-14183870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E0F-AE26-48B1-AD6C-CBE3DB33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8944-7349-4E21-A540-B9BAE4636C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676F-1493-43B7-B459-A62E7F3D6F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地球商务幻灯片模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5:49:49Z</dcterms:created>
  <dc:creator>Administrator</dc:creator>
  <dc:description/>
  <dc:language>en-US</dc:language>
  <cp:lastModifiedBy>yanchen</cp:lastModifiedBy>
  <dcterms:modified xsi:type="dcterms:W3CDTF">2020-03-02T14:44:44Z</dcterms:modified>
  <cp:revision>2</cp:revision>
  <dc:subject/>
  <dc:title>地球商务幻灯片模板下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13</vt:lpwstr>
  </property>
</Properties>
</file>