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5DC-8EEE-46D0-9127-DF78F79E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902F-B262-4270-9DF0-6BA5464D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B5B-639D-440F-96FA-FDC7F5CE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EE3A-0D42-4B2B-AB0B-F4F4993D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202-A07F-40C9-981F-7A6ED48C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9BCE-9E30-478C-A0C1-7E3DFFB3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12F-B5E7-4678-A939-5B985FDB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146-FD00-4CF6-82D5-BA6FAD4A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88D-444C-4A63-98F5-C35E5E89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8DD-9698-40DC-9BE1-55858478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E73-8D31-4663-AC7F-7B47B924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A72-04BF-4E91-AAED-8D77AD61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5744-FD1F-47E2-9045-3D39F6123B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悟空分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57146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执教人：苏彬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3195360" cy="2880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648320" y="1066680"/>
            <a:ext cx="3195360" cy="2880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666880" y="38098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286000" y="44197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2895480" y="44197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981080" y="51055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2590920" y="5105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200400" y="51055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5638680" y="38098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6172200" y="38098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6705720" y="380988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5867280" y="44956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6400800" y="44956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5"/>
          <a:stretch/>
        </p:blipFill>
        <p:spPr>
          <a:xfrm>
            <a:off x="6172200" y="51055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6"/>
          <a:stretch/>
        </p:blipFill>
        <p:spPr>
          <a:xfrm>
            <a:off x="7238880" y="38098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7010280" y="44956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8"/>
          <a:stretch/>
        </p:blipFill>
        <p:spPr>
          <a:xfrm>
            <a:off x="6781680" y="51055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9"/>
          <a:stretch/>
        </p:blipFill>
        <p:spPr>
          <a:xfrm>
            <a:off x="1828800" y="571500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0"/>
          <a:stretch/>
        </p:blipFill>
        <p:spPr>
          <a:xfrm>
            <a:off x="2438280" y="571500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1"/>
          <a:stretch/>
        </p:blipFill>
        <p:spPr>
          <a:xfrm>
            <a:off x="3048120" y="571500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2"/>
          <a:stretch/>
        </p:blipFill>
        <p:spPr>
          <a:xfrm>
            <a:off x="3657600" y="571500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3"/>
          <a:stretch/>
        </p:blipFill>
        <p:spPr>
          <a:xfrm>
            <a:off x="6477120" y="5638680"/>
            <a:ext cx="676080" cy="685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43200" y="18288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18288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676080" cy="685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495680" y="15238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76720" y="2209680"/>
            <a:ext cx="137160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2209680"/>
            <a:ext cx="129528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676440" cy="685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8120" y="3429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5791320" y="3429000"/>
            <a:ext cx="676080" cy="68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67280" y="3429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2971800" y="4191120"/>
            <a:ext cx="676440" cy="685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8120" y="4191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867280" y="4191120"/>
            <a:ext cx="676440" cy="685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943600" y="4191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2971800" y="4952880"/>
            <a:ext cx="676440" cy="685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8120" y="49528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5867280" y="4876920"/>
            <a:ext cx="67644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943600" y="48769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5867280" y="56386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0"/>
          <a:stretch/>
        </p:blipFill>
        <p:spPr>
          <a:xfrm>
            <a:off x="2971800" y="5715000"/>
            <a:ext cx="67644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048120" y="5715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56386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182880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47920" y="914400"/>
            <a:ext cx="3195360" cy="2879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00200" y="3733920"/>
            <a:ext cx="319572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876920" y="228600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876920" y="297180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876920" y="358128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876920" y="4267080"/>
            <a:ext cx="676080" cy="685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743200" y="1600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4495680"/>
            <a:ext cx="60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200400" y="51055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0" y="44197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590920" y="510552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981080" y="51055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2895480" y="44197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867280" y="44956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6172200" y="51055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6400800" y="44956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6705720" y="380988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6172200" y="38098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2"/>
          <a:stretch/>
        </p:blipFill>
        <p:spPr>
          <a:xfrm>
            <a:off x="5638680" y="38098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3"/>
          <a:stretch/>
        </p:blipFill>
        <p:spPr>
          <a:xfrm>
            <a:off x="2666880" y="38098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4"/>
          <a:stretch/>
        </p:blipFill>
        <p:spPr>
          <a:xfrm>
            <a:off x="1447920" y="1066680"/>
            <a:ext cx="3195360" cy="288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5"/>
          <a:stretch/>
        </p:blipFill>
        <p:spPr>
          <a:xfrm>
            <a:off x="4648320" y="1066680"/>
            <a:ext cx="3195360" cy="28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743200" y="18288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8288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419720" y="1523880"/>
            <a:ext cx="67608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495680" y="15238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276720" y="2209680"/>
            <a:ext cx="137160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2209680"/>
            <a:ext cx="1295280" cy="12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971800" y="342900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5791320" y="342900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2895480" y="41911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867280" y="426708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2895480" y="51055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943600" y="5029200"/>
            <a:ext cx="676440" cy="685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8120" y="3429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4290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41911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426708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51055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50292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19920" y="1066680"/>
            <a:ext cx="1828800" cy="1819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47920" y="914400"/>
            <a:ext cx="3195360" cy="287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600200" y="3733920"/>
            <a:ext cx="3195720" cy="287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876920" y="228600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4876920" y="289548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4876920" y="358128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4876920" y="4267080"/>
            <a:ext cx="67608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4876920" y="4952880"/>
            <a:ext cx="676080" cy="685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43200" y="1600200"/>
            <a:ext cx="609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4495680"/>
            <a:ext cx="60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2-05T09:54:1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