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BF13-D22D-4474-90E6-255D9EBF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9BEE-D745-4473-8758-CB91E74D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5493-FBD4-4B47-8398-658DBBAD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EB7-5AC1-456E-AD44-F215A642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E98-812C-4D4F-BF90-5869034D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D53-6020-4BE5-98F8-C7072F9A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089-424B-4818-85BA-839D1348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284-2C09-42C0-8626-22228C93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4D7-6459-47B6-9BBB-B87BC070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97A-2F9D-407E-895B-D0484FE6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6D3-CC0A-4797-BE52-D6C0EB4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B2E-12FC-40C3-9BAB-2995765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C9A0-A6E3-4817-A426-6D1AE1F72A6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C1DB-8F11-41AA-BF56-4E55DD97D0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68520" y="1274760"/>
            <a:ext cx="18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58800" y="307008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联系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574640" y="2470320"/>
            <a:ext cx="18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自我评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73200" y="1854360"/>
            <a:ext cx="20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工作经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 flipH="1">
            <a:off x="1219320" y="1438200"/>
            <a:ext cx="241200" cy="2541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7"/>
          <p:cNvSpPr/>
          <p:nvPr/>
        </p:nvSpPr>
        <p:spPr>
          <a:xfrm flipH="1">
            <a:off x="1216080" y="2003400"/>
            <a:ext cx="239760" cy="25416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8"/>
          <p:cNvSpPr/>
          <p:nvPr/>
        </p:nvSpPr>
        <p:spPr>
          <a:xfrm flipH="1">
            <a:off x="1216080" y="2587680"/>
            <a:ext cx="239760" cy="25380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9"/>
          <p:cNvSpPr/>
          <p:nvPr/>
        </p:nvSpPr>
        <p:spPr>
          <a:xfrm flipH="1">
            <a:off x="1216080" y="3171960"/>
            <a:ext cx="239760" cy="253800"/>
          </a:xfrm>
          <a:prstGeom prst="diamond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55920" y="364968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获奖情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565280" y="4245120"/>
            <a:ext cx="193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性特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12"/>
          <p:cNvSpPr/>
          <p:nvPr/>
        </p:nvSpPr>
        <p:spPr>
          <a:xfrm flipH="1">
            <a:off x="1210680" y="3824280"/>
            <a:ext cx="239400" cy="25560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3"/>
          <p:cNvSpPr/>
          <p:nvPr/>
        </p:nvSpPr>
        <p:spPr>
          <a:xfrm flipH="1">
            <a:off x="1225440" y="4394160"/>
            <a:ext cx="239760" cy="254160"/>
          </a:xfrm>
          <a:prstGeom prst="diamond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43240" y="889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时尚中黑简体"/>
              </a:rPr>
              <a:t>过渡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17280" y="390600"/>
            <a:ext cx="91152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  <a:ea typeface="时尚中黑简体"/>
              </a:rPr>
              <a:t>个人爱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127240" y="1409760"/>
            <a:ext cx="45720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355840" y="2611440"/>
            <a:ext cx="4572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19320" y="1486080"/>
            <a:ext cx="8043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    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4d4d4d"/>
                </a:solidFill>
                <a:latin typeface="Calibri"/>
                <a:ea typeface="微软雅黑"/>
              </a:rPr>
              <a:t>我性格活泼开朗，微笑是我的招牌。我爱唱歌、弹吉他、跳舞。幼年时曾作过许多色彩斑斓的梦，当个播音员、或者当一名电视节目主持人是我最大的梦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5T01:26:02Z</dcterms:created>
  <dc:creator/>
  <dc:description/>
  <dc:language>en-US</dc:language>
  <cp:lastModifiedBy>Administrator</cp:lastModifiedBy>
  <dcterms:modified xsi:type="dcterms:W3CDTF">2020-04-15T01:26:0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84</vt:lpwstr>
  </property>
</Properties>
</file>