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C99-E108-4F37-B5DC-B5EE1955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B78-D6C2-46BC-8B95-C3C3CAE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6EF-222A-42D3-8C5A-4BAC9D4E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FA9-EABA-49A2-BAF8-3E55C51D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A5F-59EA-4898-8DF4-0A3310DB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1FB-EF8E-4762-BDD2-1BAD38AA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012-680F-4F12-8341-E266ECE0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FDF-B135-4B43-841F-04DEA7EA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02E-B92F-4C89-9DA8-5BA4CA8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CD8-8B41-4263-A7D1-3A1A2949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A26-05AD-4784-A48E-1E5E286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476-BF17-4FF5-A399-C925B4C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84715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05E-A755-4E19-8B90-27AEC189F71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A49E-199B-4AE5-969D-133C912EB92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0,-1,FIRS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科技幻灯片模板下载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994-F35B-4509-AA41-4807A3C7A60D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00E-9132-4FDB-8D4D-780E73AE853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7BC-807A-4FB0-898B-F58623F828A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8C7-9CFD-4CC6-88E8-8A57EC9705A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47" name=""/>
            <p:cNvSpPr txBox="1"/>
            <p:nvPr/>
          </p:nvSpPr>
          <p:spPr>
            <a:xfrm>
              <a:off x="676800" y="1631880"/>
              <a:ext cx="4841640" cy="186264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049640" y="2203920"/>
              <a:ext cx="558720" cy="57060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80960" y="2618280"/>
              <a:ext cx="1681200" cy="176292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627360" y="3769200"/>
              <a:ext cx="1011600" cy="69408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547600" y="1708920"/>
              <a:ext cx="3273840" cy="315972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59520" y="2083320"/>
              <a:ext cx="299520" cy="22788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951200" y="3810600"/>
              <a:ext cx="187200" cy="32760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203280" y="3378240"/>
              <a:ext cx="785160" cy="40968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547440" y="3351600"/>
              <a:ext cx="416880" cy="31716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957840" y="3463560"/>
              <a:ext cx="671400" cy="32760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737880" y="3051720"/>
              <a:ext cx="238680" cy="34128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404240" y="4481280"/>
              <a:ext cx="112320" cy="10116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920480" y="4347360"/>
              <a:ext cx="318240" cy="31536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583040" y="2955240"/>
              <a:ext cx="456480" cy="151920"/>
            </a:xfrm>
            <a:prstGeom prst="rect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1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3d3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7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8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9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2"/>
          <p:cNvSpPr/>
          <p:nvPr/>
        </p:nvSpPr>
        <p:spPr>
          <a:xfrm>
            <a:off x="2871000" y="325908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3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5C3-7481-4B12-BC22-14A0B439D17B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0D42-F7F9-49BB-99F7-53CC8465A8F8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3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a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5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3d3b"/>
          </a:solidFill>
          <a:ln w="9360">
            <a:solidFill>
              <a:srgbClr val="001e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589a"/>
          </a:solidFill>
          <a:ln w="9360">
            <a:solidFill>
              <a:srgbClr val="002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2544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353440" cy="4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FC6-1BBD-4075-9607-75192569C656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6D4-1FFA-49E3-B26E-FFA6EBDCF2A0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87A-7DF3-4CDC-8664-93D26EF93DBE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75F1-6058-4163-9599-356BFB798FC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50C3-E818-4972-BB61-630A490DE85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AB3C-404E-4EAC-9D23-3DDF077E0FE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D38-2E65-4FD6-BE61-EA92D3CC950E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311-CCA6-49F8-8DAD-24432589BB3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FBB-CEBF-4AF5-9908-94C2F17D91AC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9BB-94F7-492D-9822-1C46AACB74E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BEF-8C5B-4ECC-BE7F-850BA9D70AFE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D00-C259-4526-98EB-B60DEA38991B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ilovePPT.ORG</dc:creator>
  <dc:description/>
  <cp:keywords>我爱PPT中文网; 4.3; 深青色; 静态; L</cp:keywords>
  <dc:language>en-US</dc:language>
  <cp:lastModifiedBy>yanchen</cp:lastModifiedBy>
  <dcterms:modified xsi:type="dcterms:W3CDTF">2020-03-02T14:38:53Z</dcterms:modified>
  <cp:revision>8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