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38.jpeg" ContentType="image/jpeg"/>
  <Override PartName="/ppt/media/image27.png" ContentType="image/png"/>
  <Override PartName="/ppt/media/image3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36.wmf" ContentType="image/x-wmf"/>
  <Override PartName="/ppt/media/image6.wmf" ContentType="image/x-wmf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5929-6545-4646-8E43-6E75CCA9BA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beijing/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tubiao/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xiazai/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powerpoint/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ziliao/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fanwen/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shiti/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jiaoan/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n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kejian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kejian/yuwen/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kejian/shuxue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kejian/yingyu/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kejian/meishu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kejian/kexue/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kejian/wuli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kejian/huaxue/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kejian/shengwu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kejian/dili/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ww.1ppt.com/kejian/lishi/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FC82-E498-4D21-B9C8-9A0448540F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D997-984D-47B8-9F1F-726F0036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217D-109E-4F55-8956-B5A5E44E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78FC2-D346-49DF-95D7-A8253C0B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78D7E-E978-4A4D-BDFA-576706EC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FBB03-28C4-4674-9A78-D0B53083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0D164-AD97-4B0E-B647-20708A75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B398D-4325-40A4-989C-76BE83D7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12A8F-AA2A-4CA5-8DF4-FA0ADD56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1F19D-2553-46E6-82A1-8D92B554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5F253-6E62-42DE-A960-C4A1A655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E14F5-0F0B-4DE1-934A-D0DE5731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BFA2E-EC6E-4AFF-9C8B-5BE9CE82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4FD-6FFF-4B58-8065-D7CEB01F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17022-A599-4DA0-8FBD-3CB32B60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F1E20-238C-403E-A215-C77F6E29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937B1-7A68-4C5C-82B8-C306DEE4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879F0-6C69-475A-B854-B938EA55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8F32A-CB3E-4483-A340-EB59A99A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9A793-CD2F-496D-855B-979608FB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F6D7B-60C7-4B50-854D-520F53AD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6C8AB-988B-493C-A325-967A4F2A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2BF72-15E4-41FA-AEE2-532FEC30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1A175-572B-4507-98D7-67E5F342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A4A-2419-4B3C-9FA5-9569A540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D21CE-C884-4460-8276-C30389F1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65CAC-CE88-44DF-ADBB-B33328CE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75DAF-42BA-425D-8992-46C34012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75755-3AF5-45B0-AD90-8184ECFB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6D10D-486D-46DF-876E-FAEACB62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D2CB9-C92F-4667-A0F8-5BD81F42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1FBE1-52E4-4298-9193-1A759F77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65B33-0DFD-4576-8EEE-6EF874BE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D9457-FB00-4E59-BE81-D70A5090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8607D-A31A-49F2-A6B2-EE01CDB7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3B91-2473-4FF4-8B58-8AE29D31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95FCA-0B9F-4CB3-87B8-14113315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FA5DE-CEFD-48B3-AAD2-81EC9DD2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46160-2479-402F-9E4D-AB7482C4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73D70-D5A3-4859-84A4-2C0ADF5D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2E625-1B6B-4AB4-AF2F-B6278B49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E9425-2DF1-4BDA-8E7D-9F8C3A81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19A96-D492-43E5-B631-AE2AFF4E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D0FE8-C277-4923-A5E5-9D6112C5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B80AB-EEBF-45D4-9D1D-E0029BD1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C8D69-0AD1-48CE-AA6B-DD5C49A6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2E68-6F07-4D89-9D9D-AD753346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B48AE-D39E-4124-88B6-44D1B8D1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A2AC3-7134-4021-94A6-E27175A4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4F9BF-6E94-4B9F-A0AB-CB353FC8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1B7AA-84C9-4954-8E1B-ADDBF845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04DC1-FA37-4C50-9A4F-423B2DDA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F048A-17F4-453A-99B7-667CC67A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9BE2E-5743-4FEE-A762-23216A26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8A86BE-D841-466C-A5C4-37427787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7B920-5ED9-4F92-8CE4-A01D98A2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43CEF-00A2-44E0-936E-1C7CE275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86C5-AFA6-4F93-A181-5CA82442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36250-3977-4221-A626-F1E534E1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5E2D5-4E2C-43C8-A117-100497FE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017AEF-F8ED-41E4-87B5-7450CD5D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D69A4-CC71-4237-BD64-3F2BA847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22F2C1-F477-4647-AC06-1D109484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48BB9-C0B1-4079-8F23-FAA33AA8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39AF12-1EE5-4A04-8B4F-9E1CA829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7352-106B-4569-ABDD-C994E2B9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8384-FCB1-4D51-9C6E-3276A626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9337-EAC6-49D3-932D-54F2172B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C008-667C-4DF3-AADF-B6EF1408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6EAE-FB30-4F6D-BB95-C334E18D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62CF-CB54-46E5-864D-E029CEFE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CE93-6348-43E6-AEC6-8F6212A1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75B7-24B6-4463-B636-7B4BB8A8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85B1-E943-4C05-BF0D-5007C401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9296-920B-4D09-993A-D48EC8EA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64FDB-5B2D-4A06-B45B-E0129406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D5D25-A9F7-4673-B690-1AE1062F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8C9A2-7074-4DC4-9EE7-27C2E813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FA0F8-13DE-45AC-A0A5-8E699818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FBFE3-61AA-4BF0-8C86-B3655769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1C9-FE11-4104-A4EA-276D66DC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9B3EC-BEED-4437-9377-934E363F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C9573-9F8D-4185-9367-6267C6DC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12370-C4A2-47B5-AA58-DBE8AA7A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96FA4-1DFE-42EF-A5D5-519140D5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695F3-555B-46FF-B5D1-DFCCF08F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F45B6-8143-4959-9EA1-1DE05EF8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129AB-3122-469A-AE38-20FA76FC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519D9-C769-4D29-A0D5-BA8DABF8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05873-3EC3-4A58-8CAA-BBA2B9F8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DCB75-4FBE-45D1-81E1-4DEC29D9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EB0-B0C6-4F70-84A4-1411534C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739C8-D1BD-4D14-A1F0-44E63238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52013-5A19-4C5F-A1D5-259D80F3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30058-D29C-45A3-AD84-A02DF7DF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41F77-57B5-41F9-9BAE-23D20E62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5CC94-9663-430E-8509-B6C5D3B2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BDB43-EDC9-4A54-BB90-98392A76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A4A26-E016-426D-ACED-8472B7A3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10A3B-3A70-4DBA-B601-827049F3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C18D8-AAD6-4E10-982D-18E5A1F0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4945E-22FC-4616-83D9-ABF8E9F0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9E6-4B15-49A9-A312-367C72DD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8F6DB-D119-4D50-99CD-8811E3CF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6E7B1-978C-4E40-8DBE-8FD31CC2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158ED-67F9-426B-B437-CB877A7C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75EE2-177C-4526-82FC-C4BBC036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FBA9B-EDA2-4546-8FC8-3FAA532C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DB30B-D6DA-4072-A436-FA2B6BD7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C658B-F7E5-478B-9E0B-DC2D4DB6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DD242-6917-403C-920C-508672DD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116AE-E91B-4802-BF70-C99829AB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6125C-F78D-4541-869E-20E03613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85C8-A10C-4E46-8D50-07FACF3C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3364C-25EF-49E8-82FD-AEBDD013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2DB1C-DC6D-4FA0-94F9-060B3950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D679C-02F1-49FB-B339-B6C0E131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A8A7A-5004-4DA3-BF53-41C44B0F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0C061-3B27-4804-AF9A-06B266B7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E7807-06C9-4559-9859-3024E9B8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DC957-090F-4E90-913A-E8A5C17F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1F0DD-64B1-49E5-AA05-508DBFD7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19AAB-E152-46B3-AAE3-87C2431D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1D26B-9606-4FC0-A5EA-ACD69E5F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A309-74F1-495D-A92A-060C27E5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46E04-6015-4035-A344-2C56BBF2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685F1-C70F-43B8-AF85-203E4C2C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56AE4-7BD1-418A-BC5B-814323C4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FF2CF-8A1F-4532-A934-F72ECF64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2FDFA-2C64-477C-A9C4-BA577F37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2A2F2-3DA0-49E8-A4F9-D23EF19D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FCD3E-6202-401A-B31E-04E0E51E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0F697-846B-44C9-8859-1588BB7B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01432-23D7-4F73-8056-65CAB27F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785E8-2117-4668-8D80-F77FB13D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5E7-D64B-4600-8CD2-8FB92FF8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E580A-C52D-4743-84C3-0A098FB2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38A95-49B5-4229-85CE-043EAB13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E697F-14C6-4AC8-A55C-ACC3737C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9C7C0-307F-41E4-804C-6ED77874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03F6A-9D5B-4185-92DA-F4AB8102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710BA-FB0F-49B1-99DF-E2902F47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0A566-CFF4-46E6-9881-936EC546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AD0F1-F1F4-4B7A-B7B4-5E3C368E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E666C-D879-4CAE-B0FC-DEAB65F5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A2225-FB61-4A1A-8382-80062CA8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CDD-643D-4810-81F9-72B24708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B8F12-E0F6-4252-AE8C-8CF70C9C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644F0-5939-4C21-B6DD-8BF17636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B4AFA-CDDB-42F6-8786-4EFA3BE4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EA054-BFC6-413F-84D7-99530E0B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B12EC-36C8-433E-AB3D-D57995F7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EF102-2B40-4BA5-A951-761BE828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E10AB-3C01-43CB-9EBB-51265C2F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1FEC2-B7B2-457E-90E4-AC895148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B8D02-DAB1-44C5-9D47-E88DE63E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5303C-5E32-416B-8476-167FD238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EC7A-638E-43B3-A595-719A108D07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2C0A-FBBD-4389-85BC-60362C9A36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1D60-461E-4BFF-A1AA-87DAF93CC4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14B0-0804-4B9F-8A35-4CB5F4BB9F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7EF0-0F4E-46D3-B880-795EB3C19B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9FC7-C0E4-4FB1-963A-2E3F2E7AAB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77E3-F123-4273-A45C-BF421E25F0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6B17-D399-4E58-9B47-F734666932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8223-44C4-4935-B088-5A4BA17E81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B87A-6612-4CF5-A912-1C0FD00FDF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5637-96EA-45B8-9E5A-53F8100524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0010-30F1-4494-A7D3-957E8834F9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996F-07E4-48E4-AD26-770A4F8187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&#21021;&#20013;&#29289;&#29702;&#35838;&#20214;&#38598;/&#30005;&#23398;/&#23616;&#37096;&#30701;&#36335;.swf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hyperlink" Target="http://www.1ppt.cn/" TargetMode="External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image" Target="../media/image41.png"/><Relationship Id="rId2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1"/>
          <p:cNvSpPr/>
          <p:nvPr/>
        </p:nvSpPr>
        <p:spPr>
          <a:xfrm>
            <a:off x="0" y="23050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 安全用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2"/>
          <p:cNvSpPr/>
          <p:nvPr/>
        </p:nvSpPr>
        <p:spPr>
          <a:xfrm>
            <a:off x="0" y="846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十九章 生活用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4"/>
          <p:cNvSpPr/>
          <p:nvPr/>
        </p:nvSpPr>
        <p:spPr>
          <a:xfrm>
            <a:off x="0" y="5516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4"/>
          <p:cNvSpPr/>
          <p:nvPr/>
        </p:nvSpPr>
        <p:spPr>
          <a:xfrm>
            <a:off x="2366280" y="5516640"/>
            <a:ext cx="441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324000" y="40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问题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阅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材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分组讨论：①触电是怎么回事？对比两种触电的情况，仔细观察两图中造成触电事故的相同点，总结低压触电事故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9" descr="BU2$%0)JV7`X8[E$49H0~AO"/>
          <p:cNvPicPr/>
          <p:nvPr/>
        </p:nvPicPr>
        <p:blipFill>
          <a:blip r:embed="rId1"/>
          <a:stretch/>
        </p:blipFill>
        <p:spPr>
          <a:xfrm>
            <a:off x="2411280" y="2421000"/>
            <a:ext cx="2703600" cy="3738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0" descr="BU2$%0)JV7`X8[E$49H0~AO"/>
          <p:cNvPicPr/>
          <p:nvPr/>
        </p:nvPicPr>
        <p:blipFill>
          <a:blip r:embed="rId2"/>
          <a:stretch/>
        </p:blipFill>
        <p:spPr>
          <a:xfrm>
            <a:off x="5148360" y="2492280"/>
            <a:ext cx="2870280" cy="3645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4"/>
          <p:cNvSpPr/>
          <p:nvPr/>
        </p:nvSpPr>
        <p:spPr>
          <a:xfrm>
            <a:off x="576360" y="620640"/>
            <a:ext cx="856764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触电是怎么回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②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低压触电有哪几种方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2237760" y="134136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过大电流通过人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1511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低压触电的原因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1528920" y="2708280"/>
            <a:ext cx="60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体接触火线并构成了通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2324160" y="4365720"/>
            <a:ext cx="24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线触电和双线触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4"/>
          <p:cNvSpPr/>
          <p:nvPr/>
        </p:nvSpPr>
        <p:spPr>
          <a:xfrm>
            <a:off x="539640" y="192888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电弧触电：人与高压带电体距离到一定值时，高压带电体与人体之间会发生放电现象，导致触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324000" y="3929040"/>
            <a:ext cx="54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跨步电压触电：高压电线落在地面上时，在距高压线不同距离的点之间存在电压。人的两脚间存在足够大的电压时，就会发生跨步电压触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1116000" y="1052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高压触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1116000" y="260280"/>
            <a:ext cx="671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常见的触电事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6" descr="`6624ACYH89H[3_G[FR[1RD"/>
          <p:cNvPicPr/>
          <p:nvPr/>
        </p:nvPicPr>
        <p:blipFill>
          <a:blip r:embed="rId1"/>
          <a:stretch/>
        </p:blipFill>
        <p:spPr>
          <a:xfrm>
            <a:off x="5867280" y="981000"/>
            <a:ext cx="2563920" cy="27734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H{14L1CN(}UKR]NDK)(J2_W"/>
          <p:cNvPicPr/>
          <p:nvPr/>
        </p:nvPicPr>
        <p:blipFill>
          <a:blip r:embed="rId2"/>
          <a:stretch/>
        </p:blipFill>
        <p:spPr>
          <a:xfrm>
            <a:off x="6084720" y="3860640"/>
            <a:ext cx="2664000" cy="2619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3"/>
          <p:cNvSpPr/>
          <p:nvPr/>
        </p:nvSpPr>
        <p:spPr>
          <a:xfrm>
            <a:off x="322200" y="62064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除了图示的几种情况外，还有哪些情况可能引起触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12"/>
          <p:cNvGrpSpPr/>
          <p:nvPr/>
        </p:nvGrpSpPr>
        <p:grpSpPr>
          <a:xfrm>
            <a:off x="1835280" y="1268280"/>
            <a:ext cx="6840360" cy="4733640"/>
            <a:chOff x="1835280" y="1268280"/>
            <a:chExt cx="6840360" cy="4733640"/>
          </a:xfrm>
        </p:grpSpPr>
        <p:pic>
          <p:nvPicPr>
            <p:cNvPr id="598" name="Picture 2" descr=""/>
            <p:cNvPicPr/>
            <p:nvPr/>
          </p:nvPicPr>
          <p:blipFill>
            <a:blip r:embed="rId1"/>
            <a:srcRect l="4735" t="0" r="2454" b="0"/>
            <a:stretch/>
          </p:blipFill>
          <p:spPr>
            <a:xfrm>
              <a:off x="1835280" y="1268280"/>
              <a:ext cx="6840360" cy="47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Rectangle 6"/>
            <p:cNvSpPr/>
            <p:nvPr/>
          </p:nvSpPr>
          <p:spPr>
            <a:xfrm>
              <a:off x="4759560" y="3187440"/>
              <a:ext cx="1036440" cy="610200"/>
            </a:xfrm>
            <a:prstGeom prst="rect">
              <a:avLst/>
            </a:prstGeom>
            <a:solidFill>
              <a:srgbClr val="ffe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几种容易引起触电的情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324000" y="476280"/>
            <a:ext cx="784836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10800" bIns="10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755640" y="2997360"/>
            <a:ext cx="360036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10800" bIns="10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03" name="Picture 5" descr="32"/>
          <p:cNvPicPr/>
          <p:nvPr/>
        </p:nvPicPr>
        <p:blipFill>
          <a:blip r:embed="rId1"/>
          <a:stretch/>
        </p:blipFill>
        <p:spPr>
          <a:xfrm>
            <a:off x="1116000" y="333360"/>
            <a:ext cx="6696000" cy="434664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2"/>
          <p:cNvSpPr/>
          <p:nvPr/>
        </p:nvSpPr>
        <p:spPr>
          <a:xfrm>
            <a:off x="1403280" y="4653000"/>
            <a:ext cx="647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不接触低压带电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1403280" y="5373720"/>
            <a:ext cx="705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不靠近高压带电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牛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332000" y="1341360"/>
            <a:ext cx="6121440" cy="435132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3"/>
          <p:cNvSpPr/>
          <p:nvPr/>
        </p:nvSpPr>
        <p:spPr>
          <a:xfrm>
            <a:off x="3348000" y="692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怎  么  了 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1332000" y="476280"/>
            <a:ext cx="242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想一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TMP35"/>
          <p:cNvPicPr/>
          <p:nvPr/>
        </p:nvPicPr>
        <p:blipFill>
          <a:blip r:embed="rId1"/>
          <a:stretch/>
        </p:blipFill>
        <p:spPr>
          <a:xfrm>
            <a:off x="2771640" y="1916280"/>
            <a:ext cx="4716720" cy="360036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6"/>
          <p:cNvSpPr/>
          <p:nvPr/>
        </p:nvSpPr>
        <p:spPr>
          <a:xfrm>
            <a:off x="1619280" y="5493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想一想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4140360" y="1844640"/>
            <a:ext cx="4348080" cy="3914280"/>
            <a:chOff x="4140360" y="1844640"/>
            <a:chExt cx="4348080" cy="3914280"/>
          </a:xfrm>
        </p:grpSpPr>
        <p:sp>
          <p:nvSpPr>
            <p:cNvPr id="612" name="Line 5"/>
            <p:cNvSpPr/>
            <p:nvPr/>
          </p:nvSpPr>
          <p:spPr>
            <a:xfrm>
              <a:off x="4707360" y="1919880"/>
              <a:ext cx="3465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13" name="Object 6"/>
            <p:cNvGraphicFramePr/>
            <p:nvPr/>
          </p:nvGraphicFramePr>
          <p:xfrm>
            <a:off x="4140360" y="4552560"/>
            <a:ext cx="4348080" cy="1206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40360" y="4552560"/>
                      <a:ext cx="4348080" cy="120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15" name="Object 7" descr=""/>
            <p:cNvPicPr/>
            <p:nvPr/>
          </p:nvPicPr>
          <p:blipFill>
            <a:blip r:embed="rId3"/>
            <a:stretch/>
          </p:blipFill>
          <p:spPr>
            <a:xfrm>
              <a:off x="5148720" y="1844640"/>
              <a:ext cx="2268360" cy="33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未知"/>
            <p:cNvSpPr/>
            <p:nvPr/>
          </p:nvSpPr>
          <p:spPr>
            <a:xfrm>
              <a:off x="6282720" y="1919880"/>
              <a:ext cx="62640" cy="30060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48" h="192">
                  <a:moveTo>
                    <a:pt x="48" y="0"/>
                  </a:moveTo>
                  <a:cubicBezTo>
                    <a:pt x="28" y="84"/>
                    <a:pt x="8" y="168"/>
                    <a:pt x="0" y="19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5820480" y="2446200"/>
              <a:ext cx="462240" cy="270792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2707920"/>
                <a:gd name="textAreaBottom" fmla="*/ 2708280 h 2707920"/>
              </a:gdLst>
              <a:ahLst/>
              <a:rect l="textAreaLeft" t="textAreaTop" r="textAreaRight" b="textAreaBottom"/>
              <a:pathLst>
                <a:path w="352" h="1728">
                  <a:moveTo>
                    <a:pt x="352" y="0"/>
                  </a:moveTo>
                  <a:cubicBezTo>
                    <a:pt x="336" y="44"/>
                    <a:pt x="320" y="88"/>
                    <a:pt x="304" y="144"/>
                  </a:cubicBezTo>
                  <a:cubicBezTo>
                    <a:pt x="288" y="200"/>
                    <a:pt x="272" y="280"/>
                    <a:pt x="256" y="336"/>
                  </a:cubicBezTo>
                  <a:cubicBezTo>
                    <a:pt x="240" y="392"/>
                    <a:pt x="232" y="440"/>
                    <a:pt x="208" y="480"/>
                  </a:cubicBezTo>
                  <a:cubicBezTo>
                    <a:pt x="184" y="520"/>
                    <a:pt x="128" y="528"/>
                    <a:pt x="112" y="576"/>
                  </a:cubicBezTo>
                  <a:cubicBezTo>
                    <a:pt x="96" y="624"/>
                    <a:pt x="128" y="688"/>
                    <a:pt x="112" y="768"/>
                  </a:cubicBezTo>
                  <a:cubicBezTo>
                    <a:pt x="96" y="848"/>
                    <a:pt x="0" y="976"/>
                    <a:pt x="16" y="1056"/>
                  </a:cubicBezTo>
                  <a:cubicBezTo>
                    <a:pt x="32" y="1136"/>
                    <a:pt x="176" y="1192"/>
                    <a:pt x="208" y="1248"/>
                  </a:cubicBezTo>
                  <a:cubicBezTo>
                    <a:pt x="240" y="1304"/>
                    <a:pt x="216" y="1352"/>
                    <a:pt x="208" y="1392"/>
                  </a:cubicBezTo>
                  <a:cubicBezTo>
                    <a:pt x="200" y="1432"/>
                    <a:pt x="184" y="1456"/>
                    <a:pt x="160" y="1488"/>
                  </a:cubicBezTo>
                  <a:cubicBezTo>
                    <a:pt x="136" y="1520"/>
                    <a:pt x="72" y="1552"/>
                    <a:pt x="64" y="1584"/>
                  </a:cubicBezTo>
                  <a:cubicBezTo>
                    <a:pt x="56" y="1616"/>
                    <a:pt x="96" y="1656"/>
                    <a:pt x="112" y="1680"/>
                  </a:cubicBezTo>
                  <a:cubicBezTo>
                    <a:pt x="128" y="1704"/>
                    <a:pt x="144" y="1720"/>
                    <a:pt x="160" y="17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5589360" y="4101120"/>
              <a:ext cx="252000" cy="9777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192" h="624">
                  <a:moveTo>
                    <a:pt x="192" y="0"/>
                  </a:moveTo>
                  <a:cubicBezTo>
                    <a:pt x="136" y="20"/>
                    <a:pt x="80" y="40"/>
                    <a:pt x="48" y="96"/>
                  </a:cubicBezTo>
                  <a:cubicBezTo>
                    <a:pt x="16" y="152"/>
                    <a:pt x="0" y="280"/>
                    <a:pt x="0" y="336"/>
                  </a:cubicBezTo>
                  <a:cubicBezTo>
                    <a:pt x="0" y="392"/>
                    <a:pt x="40" y="384"/>
                    <a:pt x="48" y="432"/>
                  </a:cubicBezTo>
                  <a:cubicBezTo>
                    <a:pt x="56" y="480"/>
                    <a:pt x="48" y="592"/>
                    <a:pt x="48" y="62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Text Box 11"/>
          <p:cNvSpPr/>
          <p:nvPr/>
        </p:nvSpPr>
        <p:spPr>
          <a:xfrm>
            <a:off x="539640" y="1844640"/>
            <a:ext cx="39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方法行吗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2"/>
          <p:cNvSpPr/>
          <p:nvPr/>
        </p:nvSpPr>
        <p:spPr>
          <a:xfrm>
            <a:off x="468360" y="2492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怎么办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3"/>
          <p:cNvSpPr/>
          <p:nvPr/>
        </p:nvSpPr>
        <p:spPr>
          <a:xfrm>
            <a:off x="2052000" y="476280"/>
            <a:ext cx="40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有人触电时又应该怎么办呢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4"/>
          <p:cNvSpPr/>
          <p:nvPr/>
        </p:nvSpPr>
        <p:spPr>
          <a:xfrm>
            <a:off x="900000" y="3933720"/>
            <a:ext cx="3529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首先切断电源，然后进行抢救。绝对不能用手直接拉触电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676440" y="901800"/>
            <a:ext cx="7772400" cy="5102280"/>
            <a:chOff x="676440" y="901800"/>
            <a:chExt cx="7772400" cy="5102280"/>
          </a:xfrm>
        </p:grpSpPr>
        <p:pic>
          <p:nvPicPr>
            <p:cNvPr id="624" name="Text Box 2" descr=""/>
            <p:cNvPicPr/>
            <p:nvPr/>
          </p:nvPicPr>
          <p:blipFill>
            <a:blip r:embed="rId1"/>
            <a:stretch/>
          </p:blipFill>
          <p:spPr>
            <a:xfrm>
              <a:off x="676440" y="901800"/>
              <a:ext cx="77724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Text Box 4"/>
            <p:cNvSpPr/>
            <p:nvPr/>
          </p:nvSpPr>
          <p:spPr>
            <a:xfrm rot="10800000">
              <a:off x="684000" y="907920"/>
              <a:ext cx="7761240" cy="509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6" name="Picture 6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754440" cy="29163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"/>
          <p:cNvPicPr/>
          <p:nvPr/>
        </p:nvPicPr>
        <p:blipFill>
          <a:blip r:embed="rId3"/>
          <a:stretch/>
        </p:blipFill>
        <p:spPr>
          <a:xfrm>
            <a:off x="4788000" y="1557360"/>
            <a:ext cx="3887640" cy="296388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9"/>
          <p:cNvSpPr/>
          <p:nvPr/>
        </p:nvSpPr>
        <p:spPr>
          <a:xfrm>
            <a:off x="826920" y="4581360"/>
            <a:ext cx="7777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结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触电的急救方法，首先切断电源或用绝缘棒挑开电线，绝对不能用手直接拉触电者，必要时进行人工呼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1"/>
          <p:cNvSpPr/>
          <p:nvPr/>
        </p:nvSpPr>
        <p:spPr>
          <a:xfrm>
            <a:off x="2843280" y="404640"/>
            <a:ext cx="309564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触电的急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9"/>
          <p:cNvSpPr/>
          <p:nvPr/>
        </p:nvSpPr>
        <p:spPr>
          <a:xfrm>
            <a:off x="468360" y="1700280"/>
            <a:ext cx="63720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关必须接在火线上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螺丝口灯泡，尾部接火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金属外壳的电器，外壳要接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6" descr=""/>
          <p:cNvPicPr/>
          <p:nvPr/>
        </p:nvPicPr>
        <p:blipFill>
          <a:blip r:embed="rId1"/>
          <a:stretch/>
        </p:blipFill>
        <p:spPr>
          <a:xfrm>
            <a:off x="5364000" y="1268280"/>
            <a:ext cx="3330720" cy="330516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4"/>
          <p:cNvSpPr/>
          <p:nvPr/>
        </p:nvSpPr>
        <p:spPr>
          <a:xfrm>
            <a:off x="395280" y="907920"/>
            <a:ext cx="46800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家庭电路中防止触电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5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1833840" cy="24289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"/>
          <p:cNvPicPr/>
          <p:nvPr/>
        </p:nvPicPr>
        <p:blipFill>
          <a:blip r:embed="rId4"/>
          <a:stretch/>
        </p:blipFill>
        <p:spPr>
          <a:xfrm>
            <a:off x="3780000" y="3284640"/>
            <a:ext cx="1368360" cy="2386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20076229102443826"/>
          <p:cNvPicPr/>
          <p:nvPr/>
        </p:nvPicPr>
        <p:blipFill>
          <a:blip r:embed="rId1"/>
          <a:stretch/>
        </p:blipFill>
        <p:spPr>
          <a:xfrm>
            <a:off x="1187280" y="3716280"/>
            <a:ext cx="6912000" cy="15368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" descr="07844"/>
          <p:cNvPicPr/>
          <p:nvPr/>
        </p:nvPicPr>
        <p:blipFill>
          <a:blip r:embed="rId2"/>
          <a:stretch/>
        </p:blipFill>
        <p:spPr>
          <a:xfrm>
            <a:off x="3419640" y="1916280"/>
            <a:ext cx="2286000" cy="15033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3213780_154523018024_2"/>
          <p:cNvPicPr/>
          <p:nvPr/>
        </p:nvPicPr>
        <p:blipFill>
          <a:blip r:embed="rId3"/>
          <a:stretch/>
        </p:blipFill>
        <p:spPr>
          <a:xfrm>
            <a:off x="5724360" y="1484280"/>
            <a:ext cx="2714760" cy="18273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2009040747514125"/>
          <p:cNvPicPr/>
          <p:nvPr/>
        </p:nvPicPr>
        <p:blipFill>
          <a:blip r:embed="rId4"/>
          <a:stretch/>
        </p:blipFill>
        <p:spPr>
          <a:xfrm>
            <a:off x="900000" y="1557360"/>
            <a:ext cx="2210040" cy="176688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8"/>
          <p:cNvSpPr/>
          <p:nvPr/>
        </p:nvSpPr>
        <p:spPr>
          <a:xfrm>
            <a:off x="684360" y="404640"/>
            <a:ext cx="81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们见过这些标志吗？你知道这些标志的意思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49636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防止触电事故的发生，你认为家庭用电过程中应注意哪些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324000" y="2708280"/>
            <a:ext cx="8569080" cy="2226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接触低压带电体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靠近高压带电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更换灯泡，搬动电器前应断开电源开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弄湿用电器，不损坏绝缘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险装置、插座、导线、家用电器等达到使用寿命应及时更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3030120" y="1773360"/>
            <a:ext cx="251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安全用电原则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4"/>
          <p:cNvSpPr/>
          <p:nvPr/>
        </p:nvSpPr>
        <p:spPr>
          <a:xfrm>
            <a:off x="539640" y="1484280"/>
            <a:ext cx="820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谈谈自己家庭或学校有没有违反安全用电的地方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6"/>
          <p:cNvSpPr/>
          <p:nvPr/>
        </p:nvSpPr>
        <p:spPr>
          <a:xfrm>
            <a:off x="468360" y="33577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因电线短路而失火，能否立即用水灭火？为什么？应该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2"/>
          <p:cNvGrpSpPr/>
          <p:nvPr/>
        </p:nvGrpSpPr>
        <p:grpSpPr>
          <a:xfrm>
            <a:off x="92160" y="2778120"/>
            <a:ext cx="8961480" cy="1295280"/>
            <a:chOff x="92160" y="2778120"/>
            <a:chExt cx="8961480" cy="1295280"/>
          </a:xfrm>
        </p:grpSpPr>
        <p:sp>
          <p:nvSpPr>
            <p:cNvPr id="641" name="Rectangle 5"/>
            <p:cNvSpPr/>
            <p:nvPr/>
          </p:nvSpPr>
          <p:spPr>
            <a:xfrm>
              <a:off x="92160" y="2778120"/>
              <a:ext cx="4351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6"/>
            <p:cNvSpPr/>
            <p:nvPr/>
          </p:nvSpPr>
          <p:spPr>
            <a:xfrm>
              <a:off x="92160" y="2778120"/>
              <a:ext cx="89614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1" lang="zh-CN" sz="7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Text Box 10"/>
          <p:cNvSpPr/>
          <p:nvPr/>
        </p:nvSpPr>
        <p:spPr>
          <a:xfrm>
            <a:off x="395280" y="83664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思考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雷雨天气，你在家里看电视，大人会要求你把电视关掉，特别是有室外天线的电视机，还特意要提醒你将室外天线拔掉，这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9" descr="f21e375343b9e3ba"/>
          <p:cNvPicPr/>
          <p:nvPr/>
        </p:nvPicPr>
        <p:blipFill>
          <a:blip r:embed="rId2"/>
          <a:stretch/>
        </p:blipFill>
        <p:spPr>
          <a:xfrm>
            <a:off x="5724360" y="1989000"/>
            <a:ext cx="2670480" cy="400536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12"/>
          <p:cNvSpPr/>
          <p:nvPr/>
        </p:nvSpPr>
        <p:spPr>
          <a:xfrm>
            <a:off x="826920" y="18900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三、注意防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395280" y="2708280"/>
            <a:ext cx="5040360" cy="45972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雷电是大气中一种剧烈的放电现象。云层之间、云层和大地之间的电压可达几百万伏至几亿伏，放电时的电流可达几万安至十几万安，产生很强的光和声。云层和大地之间的放电如果通过人体，能够立即致人死亡，如果通过树木、建筑物，巨大的热量和空气的振动都会使它们受到严重的破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3"/>
          <p:cNvSpPr/>
          <p:nvPr/>
        </p:nvSpPr>
        <p:spPr>
          <a:xfrm>
            <a:off x="719280" y="17208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该留在室内，关好门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792000" y="23623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减少使用电话和手提电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271440" y="29718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切勿游泳或从事水上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609480" y="36576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站在山顶及空旷场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7"/>
          <p:cNvSpPr/>
          <p:nvPr/>
        </p:nvSpPr>
        <p:spPr>
          <a:xfrm>
            <a:off x="1871640" y="4221000"/>
            <a:ext cx="727236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远离高大树木和桅杆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空旷场地不宜打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8"/>
          <p:cNvSpPr/>
          <p:nvPr/>
        </p:nvSpPr>
        <p:spPr>
          <a:xfrm>
            <a:off x="487440" y="533412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宜开摩托车、骑自行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0"/>
          <p:cNvSpPr/>
          <p:nvPr/>
        </p:nvSpPr>
        <p:spPr>
          <a:xfrm>
            <a:off x="971640" y="549360"/>
            <a:ext cx="57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在生活中如何防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6"/>
          <p:cNvSpPr/>
          <p:nvPr/>
        </p:nvSpPr>
        <p:spPr>
          <a:xfrm>
            <a:off x="468360" y="1268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大建筑物的顶部都有针状的金属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很粗的金属线与大地相连，可以防雷，叫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避雷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" descr="2008829573974983"/>
          <p:cNvPicPr/>
          <p:nvPr/>
        </p:nvPicPr>
        <p:blipFill>
          <a:blip r:embed="rId1"/>
          <a:stretch/>
        </p:blipFill>
        <p:spPr>
          <a:xfrm>
            <a:off x="0" y="3357720"/>
            <a:ext cx="2971800" cy="27590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cp08b"/>
          <p:cNvPicPr/>
          <p:nvPr/>
        </p:nvPicPr>
        <p:blipFill>
          <a:blip r:embed="rId2"/>
          <a:stretch/>
        </p:blipFill>
        <p:spPr>
          <a:xfrm>
            <a:off x="6659640" y="3500280"/>
            <a:ext cx="1962000" cy="28576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" descr="201198104170"/>
          <p:cNvPicPr/>
          <p:nvPr/>
        </p:nvPicPr>
        <p:blipFill>
          <a:blip r:embed="rId3"/>
          <a:stretch/>
        </p:blipFill>
        <p:spPr>
          <a:xfrm>
            <a:off x="3132000" y="3141720"/>
            <a:ext cx="2743200" cy="289548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7"/>
          <p:cNvSpPr/>
          <p:nvPr/>
        </p:nvSpPr>
        <p:spPr>
          <a:xfrm>
            <a:off x="2627280" y="26028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四、注意防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5"/>
          <p:cNvSpPr/>
          <p:nvPr/>
        </p:nvSpPr>
        <p:spPr>
          <a:xfrm>
            <a:off x="395280" y="476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国古代建筑上的龙角形铁制装饰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9" descr="807421673133"/>
          <p:cNvPicPr/>
          <p:nvPr/>
        </p:nvPicPr>
        <p:blipFill>
          <a:blip r:embed="rId1"/>
          <a:stretch/>
        </p:blipFill>
        <p:spPr>
          <a:xfrm>
            <a:off x="971640" y="1916280"/>
            <a:ext cx="3166920" cy="25351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1" descr="图片1"/>
          <p:cNvPicPr/>
          <p:nvPr/>
        </p:nvPicPr>
        <p:blipFill>
          <a:blip r:embed="rId2"/>
          <a:stretch/>
        </p:blipFill>
        <p:spPr>
          <a:xfrm>
            <a:off x="4932360" y="836640"/>
            <a:ext cx="3332160" cy="500544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4"/>
          <p:cNvSpPr/>
          <p:nvPr/>
        </p:nvSpPr>
        <p:spPr>
          <a:xfrm>
            <a:off x="5832360" y="3333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代建筑上的避雷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10" descr="图片2"/>
          <p:cNvPicPr/>
          <p:nvPr/>
        </p:nvPicPr>
        <p:blipFill>
          <a:blip r:embed="rId1"/>
          <a:stretch/>
        </p:blipFill>
        <p:spPr>
          <a:xfrm>
            <a:off x="1403280" y="1197000"/>
            <a:ext cx="6843960" cy="456408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5"/>
          <p:cNvSpPr/>
          <p:nvPr/>
        </p:nvSpPr>
        <p:spPr>
          <a:xfrm>
            <a:off x="1042920" y="7650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压输电铁塔最上面的两条防雷的导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9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45720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666" name="Group 3"/>
          <p:cNvGrpSpPr/>
          <p:nvPr/>
        </p:nvGrpSpPr>
        <p:grpSpPr>
          <a:xfrm>
            <a:off x="395280" y="1341360"/>
            <a:ext cx="7991640" cy="4748040"/>
            <a:chOff x="395280" y="1341360"/>
            <a:chExt cx="7991640" cy="4748040"/>
          </a:xfrm>
        </p:grpSpPr>
        <p:pic>
          <p:nvPicPr>
            <p:cNvPr id="667" name="Picture 12" descr=""/>
            <p:cNvPicPr/>
            <p:nvPr/>
          </p:nvPicPr>
          <p:blipFill>
            <a:blip r:embed="rId2"/>
            <a:stretch/>
          </p:blipFill>
          <p:spPr>
            <a:xfrm>
              <a:off x="395280" y="1341360"/>
              <a:ext cx="7991640" cy="38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Text Box 13"/>
            <p:cNvSpPr/>
            <p:nvPr/>
          </p:nvSpPr>
          <p:spPr>
            <a:xfrm>
              <a:off x="3249720" y="5398200"/>
              <a:ext cx="281016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74640" indent="-674640"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HY헤드라인M"/>
                  <a:ea typeface="HY헤드라인M"/>
                </a:rPr>
                <a:t>新式的避雷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1187280" y="836640"/>
            <a:ext cx="7237440" cy="170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4640" indent="-6746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生命起源的过程中，雷电起到了重要的作用。洪荒时期，火山喷发的大量气体，在紫外线、宇宙空间辐射的作用和强烈的雷击下，产生了氨基酸，而使具有复制和繁殖能力的原始生命终于慢慢产生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雷电给人类带来了火。由于雷击造成森林起火，启发了我们的祖先学会用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，雷电能净化环境。雷电发生时，强烈的电、光化学作用，会使部分氧气发生化学反应，生成具有杀菌作用的臭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，雷电能治病。研究人员测试表明对气喘、烧伤、溃疡以及其他外伤的治疗有促进作用；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826920" y="260280"/>
            <a:ext cx="25495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4640" indent="-6746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知识拓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4"/>
          <p:cNvSpPr/>
          <p:nvPr/>
        </p:nvSpPr>
        <p:spPr>
          <a:xfrm>
            <a:off x="2987640" y="1197000"/>
            <a:ext cx="3456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4640" indent="-6746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盘点收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6"/>
          <p:cNvSpPr/>
          <p:nvPr/>
        </p:nvSpPr>
        <p:spPr>
          <a:xfrm>
            <a:off x="0" y="2421000"/>
            <a:ext cx="83534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4640" indent="-6746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通过今天的学习，你学到了哪些知识？说出来和大家一起分享收获的喜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395280" y="836640"/>
            <a:ext cx="8229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小故事：小红买电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红家里的电视遥控器的电池没电了，爸爸让小红赶紧到超市买两节电池，可小红磨蹭了半天也没行动，问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，她说她不敢，怕让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着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体是导体，我要用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拿电池，触电了可怎么办呀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3" descr="PE02043_"/>
          <p:cNvPicPr/>
          <p:nvPr/>
        </p:nvPicPr>
        <p:blipFill>
          <a:blip r:embed="rId1"/>
          <a:stretch/>
        </p:blipFill>
        <p:spPr>
          <a:xfrm>
            <a:off x="5796000" y="3213000"/>
            <a:ext cx="1616040" cy="2657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以下做法，正确的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用剪刀或绝缘柄破损的钳子剪带电的导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电线上晾衣服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发现有人触电时应立即用手将触电者拉离带电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发现输电线的断头落在地上，不要靠近，更不要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下列说法不正确的是，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在雷雨天，不要到大树下避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不要用湿布擦亮着的电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移动电器时，应先使它脱离电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因输电线路短路引发火灾时，应立即泼水灭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4359960" y="709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493452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4"/>
          <p:cNvSpPr/>
          <p:nvPr/>
        </p:nvSpPr>
        <p:spPr>
          <a:xfrm>
            <a:off x="468360" y="765000"/>
            <a:ext cx="84978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一个雷雨交加的日子里，某村民到大树底下躲雨，不幸被雷电击中造成重伤，此后村内谣言四起，说什么“魔鬼缠身”，什么“前世没有修行好”等等，家里人在众人面前抬不起头，不但不送病人到医院医治，反而求神拜佛，导致病人耽误治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文中所述的观点对吗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为了避免类似事故的发生，人们在高大建筑物上安装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果你遇到这种雷雨天气情况，你的做法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____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1258920" y="3284640"/>
            <a:ext cx="23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正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2751120" y="412416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避雷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4"/>
          <p:cNvSpPr/>
          <p:nvPr/>
        </p:nvSpPr>
        <p:spPr>
          <a:xfrm>
            <a:off x="468360" y="765000"/>
            <a:ext cx="8136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布置作业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调查生活中防止触电的方法。自己家里的用电器怎样防止触电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完成本节课后练习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图片 9" descr=""/>
          <p:cNvPicPr/>
          <p:nvPr/>
        </p:nvPicPr>
        <p:blipFill>
          <a:blip r:embed="rId21"/>
          <a:stretch/>
        </p:blipFill>
        <p:spPr>
          <a:xfrm>
            <a:off x="1327320" y="836640"/>
            <a:ext cx="6489360" cy="12492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10" descr="png-0644"/>
          <p:cNvPicPr/>
          <p:nvPr/>
        </p:nvPicPr>
        <p:blipFill>
          <a:blip r:embed="rId22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1" descr="png-0652"/>
          <p:cNvPicPr/>
          <p:nvPr/>
        </p:nvPicPr>
        <p:blipFill>
          <a:blip r:embed="rId23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get?name=T1hSMjBgKT1RCvBVdK"/>
          <p:cNvPicPr/>
          <p:nvPr/>
        </p:nvPicPr>
        <p:blipFill>
          <a:blip r:embed="rId1"/>
          <a:stretch/>
        </p:blipFill>
        <p:spPr>
          <a:xfrm>
            <a:off x="2843280" y="765000"/>
            <a:ext cx="4608360" cy="4918320"/>
          </a:xfrm>
          <a:prstGeom prst="rect">
            <a:avLst/>
          </a:prstGeom>
          <a:ln w="0">
            <a:noFill/>
          </a:ln>
        </p:spPr>
      </p:pic>
      <p:sp>
        <p:nvSpPr>
          <p:cNvPr id="552" name="WordArt 3"/>
          <p:cNvSpPr txBox="1"/>
          <p:nvPr/>
        </p:nvSpPr>
        <p:spPr>
          <a:xfrm rot="5400000">
            <a:off x="250920" y="2564280"/>
            <a:ext cx="4104000" cy="151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触电！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干电池1"/>
          <p:cNvPicPr/>
          <p:nvPr/>
        </p:nvPicPr>
        <p:blipFill>
          <a:blip r:embed="rId1"/>
          <a:stretch/>
        </p:blipFill>
        <p:spPr>
          <a:xfrm>
            <a:off x="684360" y="981000"/>
            <a:ext cx="6480000" cy="486108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3"/>
          <p:cNvSpPr/>
          <p:nvPr/>
        </p:nvSpPr>
        <p:spPr>
          <a:xfrm>
            <a:off x="4145040" y="1628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电流很小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6"/>
          <p:cNvSpPr/>
          <p:nvPr/>
        </p:nvSpPr>
        <p:spPr>
          <a:xfrm>
            <a:off x="3276720" y="2421000"/>
            <a:ext cx="3962160" cy="2057400"/>
          </a:xfrm>
          <a:prstGeom prst="irregularSeal2">
            <a:avLst/>
          </a:pr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问题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468360" y="620640"/>
            <a:ext cx="81010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10800" bIns="10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电对人体造成的伤害程度与通过人体电流的大小及持续时间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971640" y="3500280"/>
            <a:ext cx="619272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10800" bIns="10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触电电流大小由人体电阻和加在人体两端的电压决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4"/>
          <p:cNvSpPr/>
          <p:nvPr/>
        </p:nvSpPr>
        <p:spPr>
          <a:xfrm>
            <a:off x="1187280" y="1746360"/>
            <a:ext cx="7093080" cy="1559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2d2d8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m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流通过人体       感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 m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手难于摆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0 m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短时间呼吸困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971640" y="4437000"/>
            <a:ext cx="7092720" cy="1238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人体电阻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在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潮湿时，人体的电阻可降低到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1042920" y="6922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想想议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611280" y="11970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人体的电流达到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0m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只要很短时间就会使人窒息、心跳停止，发生触电事故。已知健康的人两手间的电阻最大为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k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此时，刚好不小心两手抓到了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6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源两极上，他会不会触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1187280" y="49417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此安全电压为不高于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6V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电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5"/>
          <p:cNvGrpSpPr/>
          <p:nvPr/>
        </p:nvGrpSpPr>
        <p:grpSpPr>
          <a:xfrm>
            <a:off x="2445120" y="3860640"/>
            <a:ext cx="5250960" cy="934920"/>
            <a:chOff x="2445120" y="3860640"/>
            <a:chExt cx="5250960" cy="934920"/>
          </a:xfrm>
        </p:grpSpPr>
        <p:sp>
          <p:nvSpPr>
            <p:cNvPr id="564" name="Rectangle 7"/>
            <p:cNvSpPr/>
            <p:nvPr/>
          </p:nvSpPr>
          <p:spPr>
            <a:xfrm>
              <a:off x="2445120" y="4046400"/>
              <a:ext cx="525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I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=      =               =7.2mA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＜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00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Group 7"/>
            <p:cNvGrpSpPr/>
            <p:nvPr/>
          </p:nvGrpSpPr>
          <p:grpSpPr>
            <a:xfrm>
              <a:off x="2939040" y="3860640"/>
              <a:ext cx="468720" cy="934920"/>
              <a:chOff x="2939040" y="3860640"/>
              <a:chExt cx="468720" cy="934920"/>
            </a:xfrm>
          </p:grpSpPr>
          <p:sp>
            <p:nvSpPr>
              <p:cNvPr id="566" name="Rectangle 9"/>
              <p:cNvSpPr/>
              <p:nvPr/>
            </p:nvSpPr>
            <p:spPr>
              <a:xfrm>
                <a:off x="2939040" y="38606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华文新魏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10"/>
              <p:cNvSpPr/>
              <p:nvPr/>
            </p:nvSpPr>
            <p:spPr>
              <a:xfrm>
                <a:off x="2986560" y="427500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  <a:ea typeface="华文新魏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1"/>
              <p:cNvSpPr/>
              <p:nvPr/>
            </p:nvSpPr>
            <p:spPr>
              <a:xfrm>
                <a:off x="2950920" y="4329000"/>
                <a:ext cx="45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1"/>
            <p:cNvGrpSpPr/>
            <p:nvPr/>
          </p:nvGrpSpPr>
          <p:grpSpPr>
            <a:xfrm>
              <a:off x="3755880" y="3875040"/>
              <a:ext cx="1215720" cy="914040"/>
              <a:chOff x="3755880" y="3875040"/>
              <a:chExt cx="1215720" cy="914040"/>
            </a:xfrm>
          </p:grpSpPr>
          <p:sp>
            <p:nvSpPr>
              <p:cNvPr id="570" name="Rectangle 13"/>
              <p:cNvSpPr/>
              <p:nvPr/>
            </p:nvSpPr>
            <p:spPr>
              <a:xfrm>
                <a:off x="3938400" y="3875040"/>
                <a:ext cx="79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华文新魏"/>
                  </a:rPr>
                  <a:t>36V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14"/>
              <p:cNvSpPr/>
              <p:nvPr/>
            </p:nvSpPr>
            <p:spPr>
              <a:xfrm>
                <a:off x="3792600" y="4268520"/>
                <a:ext cx="1179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5000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15"/>
              <p:cNvSpPr/>
              <p:nvPr/>
            </p:nvSpPr>
            <p:spPr>
              <a:xfrm>
                <a:off x="3755880" y="4322520"/>
                <a:ext cx="1143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3" name="Rectangle 16"/>
          <p:cNvSpPr/>
          <p:nvPr/>
        </p:nvSpPr>
        <p:spPr>
          <a:xfrm>
            <a:off x="971640" y="3213000"/>
            <a:ext cx="45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：通过人体的电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3"/>
          <p:cNvSpPr/>
          <p:nvPr/>
        </p:nvSpPr>
        <p:spPr>
          <a:xfrm>
            <a:off x="826920" y="1125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问题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阅读教材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3~1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页，分组讨论：电压高低与有没有危险有关系吗？为什么电压越高越危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395280" y="4508640"/>
            <a:ext cx="61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安全电压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高于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6V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电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3" descr="5984"/>
          <p:cNvPicPr/>
          <p:nvPr/>
        </p:nvPicPr>
        <p:blipFill>
          <a:blip r:embed="rId1"/>
          <a:stretch/>
        </p:blipFill>
        <p:spPr>
          <a:xfrm>
            <a:off x="5435640" y="2565360"/>
            <a:ext cx="2583000" cy="314172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10"/>
          <p:cNvSpPr/>
          <p:nvPr/>
        </p:nvSpPr>
        <p:spPr>
          <a:xfrm>
            <a:off x="539640" y="2924280"/>
            <a:ext cx="4464000" cy="52056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欧姆定律，电阻一定时，电压越高，对人的生命危害越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1332000" y="40464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一、电压越高越危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5" descr="家庭电路"/>
          <p:cNvPicPr/>
          <p:nvPr/>
        </p:nvPicPr>
        <p:blipFill>
          <a:blip r:embed="rId1"/>
          <a:stretch/>
        </p:blipFill>
        <p:spPr>
          <a:xfrm>
            <a:off x="3059280" y="2924280"/>
            <a:ext cx="5522760" cy="347184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4"/>
          <p:cNvSpPr/>
          <p:nvPr/>
        </p:nvSpPr>
        <p:spPr>
          <a:xfrm>
            <a:off x="900000" y="2205000"/>
            <a:ext cx="35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庭电路的电压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20 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远远超出了安全电压，一旦发生触电，很可能有生命危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1403280" y="907920"/>
            <a:ext cx="642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二、常见的触电事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1:29:30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cp:lastPrinted>1899-12-30T00:00:00Z</cp:lastPrinted>
  <dcterms:modified xsi:type="dcterms:W3CDTF">2016-02-23T06:54:58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97</vt:lpwstr>
  </property>
</Properties>
</file>